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D205-B3F6-4D75-B84A-4FE3A147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E669-7C91-4A23-9A73-319B1BC5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1023-F88A-479F-93BD-F993AE6B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A612-AAE6-4312-9C4D-81A27E53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D9FB-1BCE-461C-83AC-F34A623F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7DBD-04C4-4751-B13C-9FAEEAA0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C6A-944A-4BD3-8317-A1259301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1739-432A-45C4-B883-52549235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8FFB-3827-43C5-8EAE-E81408A7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006-1044-4DB0-9796-48E42F0E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141-0543-4342-B213-A5FEF682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F34-0BBF-4822-A446-EF76A05D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2E7-C63A-4E9A-8EC5-E53865924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1981080"/>
            <a:ext cx="8763120" cy="1219320"/>
          </a:xfrm>
          <a:prstGeom prst="rect">
            <a:avLst/>
          </a:prstGeom>
          <a:solidFill>
            <a:srgbClr val="ff66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609480"/>
            <a:ext cx="60958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OAD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9566" t="8084" r="47830" b="22669"/>
          <a:stretch/>
        </p:blipFill>
        <p:spPr>
          <a:xfrm>
            <a:off x="644400" y="3276720"/>
            <a:ext cx="126072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8188" r="0" b="0"/>
          <a:stretch/>
        </p:blipFill>
        <p:spPr>
          <a:xfrm rot="20133000">
            <a:off x="1294920" y="4189320"/>
            <a:ext cx="2667240" cy="144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4876920"/>
            <a:ext cx="0" cy="990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34120"/>
            <a:ext cx="685800" cy="380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5867280"/>
            <a:ext cx="30492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838080" y="5867280"/>
            <a:ext cx="457200" cy="91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rcRect l="1807" t="2679" r="3012" b="4464"/>
          <a:stretch/>
        </p:blipFill>
        <p:spPr>
          <a:xfrm rot="9514800">
            <a:off x="-76320" y="5409720"/>
            <a:ext cx="1219320" cy="792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09480" y="533412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7791480" y="0"/>
            <a:ext cx="1297080" cy="1981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228600" y="0"/>
            <a:ext cx="129708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22826" t="11735" r="46742" b="20844"/>
          <a:stretch/>
        </p:blipFill>
        <p:spPr>
          <a:xfrm rot="21084600">
            <a:off x="4154400" y="3195360"/>
            <a:ext cx="1157400" cy="1535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1249" t="23333" r="5000" b="25004"/>
          <a:stretch/>
        </p:blipFill>
        <p:spPr>
          <a:xfrm rot="21357000">
            <a:off x="3123720" y="4304880"/>
            <a:ext cx="304812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4711680"/>
            <a:ext cx="0" cy="1295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5105520"/>
            <a:ext cx="1676520" cy="304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419720" y="6006960"/>
            <a:ext cx="304560" cy="851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006960"/>
            <a:ext cx="533520" cy="77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9"/>
          <a:srcRect l="21738" t="2617" r="41308" b="17202"/>
          <a:stretch/>
        </p:blipFill>
        <p:spPr>
          <a:xfrm>
            <a:off x="6781680" y="3200400"/>
            <a:ext cx="1181160" cy="152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7010280" y="4844880"/>
            <a:ext cx="1981440" cy="109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1"/>
          <a:stretch/>
        </p:blipFill>
        <p:spPr>
          <a:xfrm>
            <a:off x="7238880" y="4952880"/>
            <a:ext cx="1828800" cy="101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91520" y="4724280"/>
            <a:ext cx="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009920" y="5943600"/>
            <a:ext cx="38124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5943600"/>
            <a:ext cx="533160" cy="838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52578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334120"/>
            <a:ext cx="457200" cy="75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7710480" y="1590840"/>
            <a:ext cx="1433520" cy="17618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2362320"/>
            <a:ext cx="1143000" cy="457200"/>
          </a:xfrm>
          <a:prstGeom prst="rect">
            <a:avLst/>
          </a:prstGeom>
          <a:gradFill rotWithShape="0">
            <a:gsLst>
              <a:gs pos="0">
                <a:srgbClr val="8c3d9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1942560" y="232416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3"/>
          <a:stretch/>
        </p:blipFill>
        <p:spPr>
          <a:xfrm>
            <a:off x="228600" y="22860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14600" y="2057400"/>
            <a:ext cx="0" cy="114300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2057400"/>
            <a:ext cx="0" cy="1143000"/>
          </a:xfrm>
          <a:prstGeom prst="line">
            <a:avLst/>
          </a:prstGeom>
          <a:ln w="381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7772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304920" y="4724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775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75 0 E">
                                      <p:cBhvr>
                                        <p:cTn id="8" dur="13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75 0 E">
                                      <p:cBhvr>
                                        <p:cTn id="10" dur="13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75 0 E">
                                      <p:cBhvr>
                                        <p:cTn id="12" dur="13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75 0 E">
                                      <p:cBhvr>
                                        <p:cTn id="14" dur="13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495680" y="4952880"/>
            <a:ext cx="533520" cy="533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648320"/>
            <a:ext cx="53316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4648320"/>
            <a:ext cx="533520" cy="533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0800000">
            <a:off x="4647960" y="5409720"/>
            <a:ext cx="7596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0800000">
            <a:off x="4800600" y="5409720"/>
            <a:ext cx="76320" cy="228600"/>
          </a:xfrm>
          <a:prstGeom prst="triangle">
            <a:avLst>
              <a:gd name="adj" fmla="val 50000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5105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105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724280" y="5257800"/>
            <a:ext cx="76320" cy="76320"/>
          </a:xfrm>
          <a:prstGeom prst="triangle">
            <a:avLst>
              <a:gd name="adj" fmla="val 50000"/>
            </a:avLst>
          </a:prstGeom>
          <a:solidFill>
            <a:srgbClr val="ff3399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638680"/>
            <a:ext cx="38088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6708000">
            <a:off x="3968280" y="5568840"/>
            <a:ext cx="698400" cy="685800"/>
          </a:xfrm>
          <a:custGeom>
            <a:avLst/>
            <a:gdLst/>
            <a:ahLst/>
            <a:rect l="l" t="t" r="r" b="b"/>
            <a:pathLst>
              <a:path w="440" h="432">
                <a:moveTo>
                  <a:pt x="0" y="432"/>
                </a:moveTo>
                <a:cubicBezTo>
                  <a:pt x="32" y="364"/>
                  <a:pt x="64" y="296"/>
                  <a:pt x="96" y="288"/>
                </a:cubicBezTo>
                <a:cubicBezTo>
                  <a:pt x="128" y="280"/>
                  <a:pt x="168" y="400"/>
                  <a:pt x="192" y="384"/>
                </a:cubicBezTo>
                <a:cubicBezTo>
                  <a:pt x="216" y="368"/>
                  <a:pt x="216" y="216"/>
                  <a:pt x="240" y="192"/>
                </a:cubicBezTo>
                <a:cubicBezTo>
                  <a:pt x="264" y="168"/>
                  <a:pt x="304" y="264"/>
                  <a:pt x="336" y="240"/>
                </a:cubicBezTo>
                <a:cubicBezTo>
                  <a:pt x="368" y="216"/>
                  <a:pt x="440" y="88"/>
                  <a:pt x="432" y="48"/>
                </a:cubicBezTo>
                <a:cubicBezTo>
                  <a:pt x="424" y="8"/>
                  <a:pt x="320" y="8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5791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5791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rot="19256400">
            <a:off x="4343400" y="6400800"/>
            <a:ext cx="3808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3175200">
            <a:off x="4762080" y="6438960"/>
            <a:ext cx="3812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2428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54100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37240" y="5410080"/>
            <a:ext cx="759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-3886200" y="-3352680"/>
            <a:ext cx="16535520" cy="12460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80880" y="2209680"/>
            <a:ext cx="8229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ONE LOADING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343400" y="1066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5)">
                                      <p:cBhvr>
                                        <p:cTn id="20" dur="389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14:17:16Z</dcterms:created>
  <dc:creator>Family</dc:creator>
  <dc:description/>
  <dc:language>en-US</dc:language>
  <cp:lastModifiedBy>Family</cp:lastModifiedBy>
  <dcterms:modified xsi:type="dcterms:W3CDTF">2006-09-12T21:15:50Z</dcterms:modified>
  <cp:revision>6</cp:revision>
  <dc:subject/>
  <dc:title>Slide 1</dc:title>
</cp:coreProperties>
</file>