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gif" ContentType="image/gi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D7D-E6B8-47C9-B1EA-8B0E70EB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581-92E1-4F0F-BD96-372A5A0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0FC-5FB3-4855-B65D-BE447FEA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E3C-A58F-4AEC-93A2-C6E12A05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9F11-8624-45A3-9F2E-DE33EA27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19F4-7079-424F-B8E0-F1C71BB8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89B3-B962-4394-9226-C10BA95C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7076-0A51-452B-B703-4D50129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EBEE-6A22-4D09-9AA8-AB88264B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CF8C-A0AE-46AB-A660-14919B52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26EF-DB50-48C4-8355-FEBA2E6E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AF9-E57E-43E7-AC04-03705E9A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19D5-8249-4FE5-AF35-98BBF07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D846-4736-4FD0-9707-040D11A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2DFF-CD44-493C-BBD4-6567211E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C2EA-C643-4FB0-8A05-C98AD095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EF4-41E7-4BC8-8218-F3C13228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C980-4331-48E0-9540-C533A485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97E3-6DE3-40C5-BBA5-3BA370F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A596-C01C-41BA-92F9-C5BA1773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90F0-7999-4405-8E65-4A558BE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19F1-01A1-4354-BFD0-E33CD5A6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D87-4F09-4544-A636-516360A2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38C9-BB74-4989-959C-6B9E8240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A55E-9E48-4C2F-8263-8588FD0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52A1-B2B9-44C3-848C-0B7AC0A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CA8C-7605-4BC5-8861-2549148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7F47-16D7-436B-A96A-B82E4F04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891D-6AE6-4AE4-B080-C87F89C0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86F2-E5A7-482E-899B-64A7F7CD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2862-5A12-4704-A979-FB61B1FF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6B86-7C02-4482-A665-D3699045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61E6-1DF6-48C7-B43C-9E6A33A5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9E4-C13F-4ACC-BAF3-CA5CBD5B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1462-F08C-4524-B71A-F507327E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BE9FE-E128-480B-B52E-6A2D952B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9700-F9F7-45B9-9050-38879B7A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B147-7C6C-4419-BA5C-D181206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94EA-7C08-40BA-95E8-EA0778B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B7E76-3D63-4661-92E8-CA251B2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605A-E4A3-4D34-A389-D4E92AF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C1450-5848-45C2-BBC6-FF975062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B686-4892-42A2-9849-44881009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D18-3E0B-4343-8C4A-70267846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A2D-A21E-4BD5-966B-927823F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52E-97B4-4F41-A11D-EE1BD137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A28-A760-4434-9A99-59B8C3B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26B-A40A-4E58-9B66-C1FE22D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5F02-0BA5-4B7E-9A1D-EBF4E25A2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B4F2-02BC-456C-A488-B95D62EB2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115480" y="6207120"/>
            <a:ext cx="838080" cy="632160"/>
            <a:chOff x="8115480" y="6207120"/>
            <a:chExt cx="838080" cy="632160"/>
          </a:xfrm>
        </p:grpSpPr>
        <p:sp>
          <p:nvSpPr>
            <p:cNvPr id="47" name=""/>
            <p:cNvSpPr/>
            <p:nvPr/>
          </p:nvSpPr>
          <p:spPr>
            <a:xfrm>
              <a:off x="8155080" y="65930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kip In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15480" y="6261120"/>
              <a:ext cx="838080" cy="2728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7420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9144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48640" y="6283440"/>
              <a:ext cx="279360" cy="26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8410320" y="6283080"/>
              <a:ext cx="31428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64" y="1135"/>
                    <a:pt x="6327" y="5080"/>
                    <a:pt x="6327" y="10800"/>
                  </a:cubicBezTo>
                  <a:cubicBezTo>
                    <a:pt x="6327" y="16520"/>
                    <a:pt x="13964" y="204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2004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8314920" y="6283080"/>
              <a:ext cx="22860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00" y="1507"/>
                    <a:pt x="8400" y="5080"/>
                    <a:pt x="8400" y="10800"/>
                  </a:cubicBezTo>
                  <a:cubicBezTo>
                    <a:pt x="8400" y="16520"/>
                    <a:pt x="15000" y="2009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924680" y="6113520"/>
            <a:ext cx="1219320" cy="74448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E65C-5F34-4319-AAFD-CDCA395D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762120"/>
            <a:ext cx="9144000" cy="4805280"/>
            <a:chOff x="0" y="762120"/>
            <a:chExt cx="9144000" cy="4805280"/>
          </a:xfrm>
        </p:grpSpPr>
        <p:sp>
          <p:nvSpPr>
            <p:cNvPr id="98" name=""/>
            <p:cNvSpPr/>
            <p:nvPr/>
          </p:nvSpPr>
          <p:spPr>
            <a:xfrm>
              <a:off x="6019920" y="1752480"/>
              <a:ext cx="3124080" cy="213372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8365800">
              <a:off x="2590200" y="2971440"/>
              <a:ext cx="1904760" cy="1600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971800"/>
              <a:ext cx="1905120" cy="1600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7238880" y="2666880"/>
              <a:ext cx="1905120" cy="190512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567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2057400"/>
              <a:ext cx="5029200" cy="251460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762120"/>
              <a:ext cx="6781680" cy="380988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5400000">
            <a:off x="-579240" y="3543120"/>
            <a:ext cx="1600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7978680" y="3382920"/>
            <a:ext cx="190512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691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73D4-A10C-49DD-836D-EDCC2B894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533520" y="6324480"/>
            <a:ext cx="10287000" cy="762120"/>
            <a:chOff x="-533520" y="6324480"/>
            <a:chExt cx="10287000" cy="762120"/>
          </a:xfrm>
        </p:grpSpPr>
        <p:grpSp>
          <p:nvGrpSpPr>
            <p:cNvPr id="149" name=""/>
            <p:cNvGrpSpPr/>
            <p:nvPr/>
          </p:nvGrpSpPr>
          <p:grpSpPr>
            <a:xfrm>
              <a:off x="-457200" y="6324480"/>
              <a:ext cx="10210680" cy="762120"/>
              <a:chOff x="-457200" y="6324480"/>
              <a:chExt cx="10210680" cy="762120"/>
            </a:xfrm>
          </p:grpSpPr>
          <p:sp>
            <p:nvSpPr>
              <p:cNvPr id="150" name=""/>
              <p:cNvSpPr/>
              <p:nvPr/>
            </p:nvSpPr>
            <p:spPr>
              <a:xfrm>
                <a:off x="-457200" y="6324480"/>
                <a:ext cx="9753480" cy="762120"/>
              </a:xfrm>
              <a:prstGeom prst="rect">
                <a:avLst/>
              </a:prstGeom>
              <a:solidFill>
                <a:srgbClr val="99cc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00800"/>
                <a:ext cx="9753480" cy="380880"/>
              </a:xfrm>
              <a:prstGeom prst="rect">
                <a:avLst/>
              </a:prstGeom>
              <a:solidFill>
                <a:srgbClr val="3333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-533520" y="6477120"/>
              <a:ext cx="9753840" cy="228600"/>
            </a:xfrm>
            <a:prstGeom prst="rect">
              <a:avLst/>
            </a:prstGeom>
            <a:solidFill>
              <a:srgbClr val="99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743200" y="6400800"/>
            <a:ext cx="838080" cy="380520"/>
            <a:chOff x="2743200" y="6400800"/>
            <a:chExt cx="838080" cy="380520"/>
          </a:xfrm>
        </p:grpSpPr>
        <p:sp>
          <p:nvSpPr>
            <p:cNvPr id="154" name=""/>
            <p:cNvSpPr/>
            <p:nvPr/>
          </p:nvSpPr>
          <p:spPr>
            <a:xfrm>
              <a:off x="2743200" y="645516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800000">
              <a:off x="3049920" y="6482520"/>
              <a:ext cx="27900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20" y="2196"/>
                    <a:pt x="12239" y="5080"/>
                    <a:pt x="12239" y="10800"/>
                  </a:cubicBezTo>
                  <a:cubicBezTo>
                    <a:pt x="12239" y="16520"/>
                    <a:pt x="16920" y="1940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01560" y="640080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54800" y="645516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4160" y="645516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85800" y="6396480"/>
            <a:ext cx="838080" cy="380520"/>
            <a:chOff x="685800" y="6396480"/>
            <a:chExt cx="838080" cy="380520"/>
          </a:xfrm>
        </p:grpSpPr>
        <p:sp>
          <p:nvSpPr>
            <p:cNvPr id="160" name=""/>
            <p:cNvSpPr/>
            <p:nvPr/>
          </p:nvSpPr>
          <p:spPr>
            <a:xfrm rot="10800000">
              <a:off x="685800" y="645084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8160" y="6477840"/>
              <a:ext cx="27900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20" y="2196"/>
                    <a:pt x="12239" y="5080"/>
                    <a:pt x="12239" y="10800"/>
                  </a:cubicBezTo>
                  <a:cubicBezTo>
                    <a:pt x="12239" y="16520"/>
                    <a:pt x="16920" y="1940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686160" y="645084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1133280" y="639648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853560" y="639648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077320" y="6400800"/>
            <a:ext cx="838080" cy="380520"/>
            <a:chOff x="8077320" y="6400800"/>
            <a:chExt cx="838080" cy="380520"/>
          </a:xfrm>
        </p:grpSpPr>
        <p:sp>
          <p:nvSpPr>
            <p:cNvPr id="166" name=""/>
            <p:cNvSpPr/>
            <p:nvPr/>
          </p:nvSpPr>
          <p:spPr>
            <a:xfrm>
              <a:off x="8077320" y="645516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800000">
              <a:off x="8384040" y="6482520"/>
              <a:ext cx="279000" cy="217440"/>
            </a:xfrm>
            <a:custGeom>
              <a:avLst/>
              <a:gdLst>
                <a:gd name="textAreaLeft" fmla="*/ 37080 w 279000"/>
                <a:gd name="textAreaRight" fmla="*/ 241920 w 279000"/>
                <a:gd name="textAreaTop" fmla="*/ 37800 h 217440"/>
                <a:gd name="textAreaBottom" fmla="*/ 1576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35680" y="640080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8920" y="645516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68280" y="645516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551000" y="609588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Back to Selection Sc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654120" y="642636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2685960" y="642636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015400" y="647712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" Target=""/><Relationship Id="rId11" Type="http://schemas.openxmlformats.org/officeDocument/2006/relationships/image" Target="../media/image13.jpeg"/><Relationship Id="rId12" Type="http://schemas.openxmlformats.org/officeDocument/2006/relationships/slide" Target=""/><Relationship Id="rId13" Type="http://schemas.openxmlformats.org/officeDocument/2006/relationships/hyperlink" Target="http://www.freewebs.com/bmwproductionz/" TargetMode="External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freewebs.com/bmwproductionz/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http://www.freewebs.com/bmwproductionz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http://www.freewebs.com/bmwproductionz/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hyperlink" Target="http://www.freewebs.com/bmwproductionz/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-609480" y="-380880"/>
            <a:ext cx="10058400" cy="7619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85960" y="-762120"/>
            <a:ext cx="764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4d4d"/>
                    </a:gs>
                    <a:gs pos="50000">
                      <a:srgbClr val="000000"/>
                    </a:gs>
                    <a:gs pos="100000">
                      <a:srgbClr val="4d4d4d"/>
                    </a:gs>
                  </a:gsLst>
                  <a:lin ang="13500000"/>
                </a:gradFill>
                <a:latin typeface="Arial Black"/>
              </a:rPr>
              <a:t>B.M.W. Productionz Pres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4d4d"/>
                  </a:gs>
                  <a:gs pos="50000">
                    <a:srgbClr val="000000"/>
                  </a:gs>
                  <a:gs pos="100000">
                    <a:srgbClr val="4d4d4d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1.46161E-006 L 7.5E-006 1.15449 E">
                                      <p:cBhvr>
                                        <p:cTn id="6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.0)">
                                      <p:cBhvr>
                                        <p:cTn id="8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Beech Veneer Door"/>
          <p:cNvPicPr/>
          <p:nvPr/>
        </p:nvPicPr>
        <p:blipFill>
          <a:blip r:embed="rId1"/>
          <a:srcRect l="24777" t="1774" r="25669" b="2656"/>
          <a:stretch/>
        </p:blipFill>
        <p:spPr>
          <a:xfrm>
            <a:off x="-152280" y="838080"/>
            <a:ext cx="2133360" cy="4114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191120" y="1905120"/>
            <a:ext cx="5331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8247" t="22123" r="9493" b="5784"/>
          <a:stretch/>
        </p:blipFill>
        <p:spPr>
          <a:xfrm>
            <a:off x="4267080" y="2209680"/>
            <a:ext cx="36216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267080" y="1981080"/>
            <a:ext cx="381240" cy="1526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8610480" y="5029200"/>
            <a:ext cx="533520" cy="380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0" y="4876560"/>
            <a:ext cx="861048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610480" y="0"/>
            <a:ext cx="0" cy="5029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181480" y="2685960"/>
            <a:ext cx="5639040" cy="2114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-228600" y="-38088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1905120" y="914400"/>
            <a:ext cx="2133360" cy="403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5867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or is op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640080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8132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4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1515"/>
                </a:solidFill>
                <a:latin typeface="Arial"/>
              </a:rPr>
              <a:t>Congratulations!!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ff1515"/>
                </a:solidFill>
                <a:uFillTx/>
                <a:latin typeface="Arial"/>
              </a:rPr>
              <a:t>Extreme Escape #1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Designed &amp; Created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Coded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Animations By:</a:t>
            </a: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Graphics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Music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Crazy Frog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Linkin Park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Dedicated To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My Sister Carolin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©Copyright 2007 </a:t>
            </a: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B.M.W. Productio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6)">
                                      <p:cBhvr>
                                        <p:cTn id="79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057400" y="1676520"/>
            <a:ext cx="47242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1206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515"/>
                </a:solidFill>
                <a:latin typeface="Comic Sans MS"/>
              </a:rPr>
              <a:t>Congratulation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515"/>
                </a:solidFill>
                <a:latin typeface="Comic Sans MS"/>
              </a:rPr>
              <a:t>You Complete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endshow"/>
          </p:cNvPr>
          <p:cNvSpPr/>
          <p:nvPr/>
        </p:nvSpPr>
        <p:spPr>
          <a:xfrm>
            <a:off x="640080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4648320"/>
            <a:ext cx="2133360" cy="2057400"/>
          </a:xfrm>
          <a:custGeom>
            <a:avLst/>
            <a:gdLst>
              <a:gd name="textAreaLeft" fmla="*/ 305640 w 2133360"/>
              <a:gd name="textAreaRight" fmla="*/ 1827720 w 2133360"/>
              <a:gd name="textAreaTop" fmla="*/ 305640 h 2057400"/>
              <a:gd name="textAreaBottom" fmla="*/ 1751760 h 2057400"/>
            </a:gdLst>
            <a:ahLst/>
            <a:rect l="textAreaLeft" t="textAreaTop" r="textAreaRight" b="textAreaBottom"/>
            <a:pathLst>
              <a:path w="22397" h="21600">
                <a:moveTo>
                  <a:pt x="0" y="0"/>
                </a:moveTo>
                <a:lnTo>
                  <a:pt x="22397" y="0"/>
                </a:lnTo>
                <a:lnTo>
                  <a:pt x="22397" y="21600"/>
                </a:lnTo>
                <a:lnTo>
                  <a:pt x="0" y="21600"/>
                </a:lnTo>
                <a:close/>
              </a:path>
              <a:path fill="lightenLess" w="22397" h="21600">
                <a:moveTo>
                  <a:pt x="0" y="0"/>
                </a:moveTo>
                <a:lnTo>
                  <a:pt x="22397" y="0"/>
                </a:lnTo>
                <a:lnTo>
                  <a:pt x="19187" y="3210"/>
                </a:lnTo>
                <a:lnTo>
                  <a:pt x="3210" y="3210"/>
                </a:lnTo>
                <a:close/>
              </a:path>
              <a:path fill="darken" w="22397" h="21600">
                <a:moveTo>
                  <a:pt x="22397" y="0"/>
                </a:moveTo>
                <a:lnTo>
                  <a:pt x="22397" y="21600"/>
                </a:lnTo>
                <a:lnTo>
                  <a:pt x="19187" y="18390"/>
                </a:lnTo>
                <a:lnTo>
                  <a:pt x="19187" y="3210"/>
                </a:lnTo>
                <a:close/>
              </a:path>
              <a:path fill="darkenLess" w="22397" h="21600">
                <a:moveTo>
                  <a:pt x="2239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9187" y="18390"/>
                </a:lnTo>
                <a:close/>
              </a:path>
              <a:path fill="lighten" w="2239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238880" y="2895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238880" y="1447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7238880" y="-7632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52280" y="2895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152280" y="1447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152280" y="-7632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Wr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 flipH="1">
            <a:off x="0" y="4495680"/>
            <a:ext cx="723888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495680"/>
            <a:ext cx="190512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0"/>
            <a:ext cx="0" cy="449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228600" y="-38088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91080" y="681120"/>
            <a:ext cx="1657440" cy="1985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83120" y="1076400"/>
            <a:ext cx="914400" cy="120492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rId5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6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>
            <a:hlinkClick r:id="rId7" action="ppaction://hlinksldjump"/>
          </p:cNvPr>
          <p:cNvPicPr/>
          <p:nvPr/>
        </p:nvPicPr>
        <p:blipFill>
          <a:blip r:embed="rId8"/>
          <a:srcRect l="35949" t="-3105" r="36941" b="49092"/>
          <a:stretch/>
        </p:blipFill>
        <p:spPr>
          <a:xfrm>
            <a:off x="6172200" y="4114800"/>
            <a:ext cx="304920" cy="609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9"/>
          <a:srcRect l="5329" t="40010" r="6664" b="17334"/>
          <a:stretch/>
        </p:blipFill>
        <p:spPr>
          <a:xfrm>
            <a:off x="4267080" y="3962520"/>
            <a:ext cx="2514600" cy="1218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5724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5724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10" action="ppaction://hlinksldjump"/>
          </p:cNvPr>
          <p:cNvSpPr/>
          <p:nvPr/>
        </p:nvSpPr>
        <p:spPr>
          <a:xfrm flipH="1">
            <a:off x="6324480" y="4343400"/>
            <a:ext cx="7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1"/>
          <a:stretch/>
        </p:blipFill>
        <p:spPr>
          <a:xfrm>
            <a:off x="1577880" y="609480"/>
            <a:ext cx="1927440" cy="2895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477120" y="6019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XY BEAS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turdy woode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rId12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3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 rot="645600">
            <a:off x="5105520" y="3962160"/>
            <a:ext cx="761760" cy="533160"/>
          </a:xfrm>
          <a:custGeom>
            <a:avLst/>
            <a:gdLst>
              <a:gd name="textAreaLeft" fmla="*/ 0 w 761760"/>
              <a:gd name="textAreaRight" fmla="*/ 762120 w 76176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rcRect l="5329" t="40010" r="6664" b="17334"/>
          <a:stretch/>
        </p:blipFill>
        <p:spPr>
          <a:xfrm>
            <a:off x="-6705720" y="290520"/>
            <a:ext cx="14173200" cy="68724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-228600" y="-304920"/>
            <a:ext cx="9753480" cy="74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3" action="ppaction://hlinksldjump"/>
          </p:cNvPr>
          <p:cNvSpPr/>
          <p:nvPr/>
        </p:nvSpPr>
        <p:spPr>
          <a:xfrm rot="12547200">
            <a:off x="7695720" y="472392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448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rId4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5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795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214720" y="152280"/>
            <a:ext cx="4579920" cy="54864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3246480" y="1295280"/>
            <a:ext cx="2544840" cy="32767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rot="645600">
            <a:off x="5486400" y="4190760"/>
            <a:ext cx="762120" cy="533160"/>
          </a:xfrm>
          <a:custGeom>
            <a:avLst/>
            <a:gdLst>
              <a:gd name="textAreaLeft" fmla="*/ 0 w 762120"/>
              <a:gd name="textAreaRight" fmla="*/ 762480 w 76212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295280"/>
            <a:ext cx="2590920" cy="327672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3200040" y="129528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0800000">
            <a:off x="5486040" y="129492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00400" y="426708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86104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304920" y="-228600"/>
            <a:ext cx="975384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5" action="ppaction://hlinksldjump"/>
          </p:cNvPr>
          <p:cNvSpPr/>
          <p:nvPr/>
        </p:nvSpPr>
        <p:spPr>
          <a:xfrm rot="20393400">
            <a:off x="1447920" y="5105160"/>
            <a:ext cx="533160" cy="457200"/>
          </a:xfrm>
          <a:prstGeom prst="leftArrow">
            <a:avLst>
              <a:gd name="adj1" fmla="val 50000"/>
              <a:gd name="adj2" fmla="val 610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5486400" y="426672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466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6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7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795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143000"/>
            <a:ext cx="8610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0" y="3657600"/>
            <a:ext cx="4648320" cy="243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0"/>
            <a:ext cx="0" cy="3657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3657600"/>
            <a:ext cx="4495680" cy="2666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304920" y="-228600"/>
            <a:ext cx="975384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8348" t="4585" r="12063" b="0"/>
          <a:stretch/>
        </p:blipFill>
        <p:spPr>
          <a:xfrm>
            <a:off x="3124080" y="1295280"/>
            <a:ext cx="2514600" cy="3962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3638520" y="1981080"/>
            <a:ext cx="1314360" cy="143856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rId4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5" action="ppaction://hlinksldjump"/>
          </p:cNvPr>
          <p:cNvSpPr/>
          <p:nvPr/>
        </p:nvSpPr>
        <p:spPr>
          <a:xfrm rot="1334400">
            <a:off x="4191120" y="3809880"/>
            <a:ext cx="304560" cy="763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7712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at monkey disturbs 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0080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hair…what else can I s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6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 flipH="1">
            <a:off x="0" y="3657600"/>
            <a:ext cx="4648320" cy="243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645600">
            <a:off x="3505320" y="388620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657600"/>
            <a:ext cx="4495680" cy="2666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rcRect l="47905" t="63167" r="43143" b="0"/>
          <a:stretch/>
        </p:blipFill>
        <p:spPr>
          <a:xfrm>
            <a:off x="4114800" y="-1143000"/>
            <a:ext cx="838080" cy="64008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rcRect l="43844" t="63167" r="38261" b="0"/>
          <a:stretch/>
        </p:blipFill>
        <p:spPr>
          <a:xfrm>
            <a:off x="-228600" y="-609480"/>
            <a:ext cx="1836720" cy="7010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rcRect l="43844" t="63167" r="38261" b="0"/>
          <a:stretch/>
        </p:blipFill>
        <p:spPr>
          <a:xfrm>
            <a:off x="7010280" y="-1828800"/>
            <a:ext cx="1676520" cy="8686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rcRect l="51166" t="63167" r="43143" b="0"/>
          <a:stretch/>
        </p:blipFill>
        <p:spPr>
          <a:xfrm>
            <a:off x="4191120" y="-1295280"/>
            <a:ext cx="533160" cy="86868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-304920" y="-304920"/>
            <a:ext cx="9753840" cy="74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503" name="">
            <a:hlinkClick r:id="rId7" action="ppaction://hlinksldjump"/>
          </p:cNvPr>
          <p:cNvSpPr/>
          <p:nvPr/>
        </p:nvSpPr>
        <p:spPr>
          <a:xfrm rot="13059600">
            <a:off x="8381880" y="472392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795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105520" y="0"/>
            <a:ext cx="0" cy="312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304920"/>
            <a:ext cx="2362320" cy="1371600"/>
          </a:xfrm>
          <a:prstGeom prst="wedgeRoundRectCallout">
            <a:avLst>
              <a:gd name="adj1" fmla="val -108263"/>
              <a:gd name="adj2" fmla="val 159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touch me secret button…Take th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0" y="3124080"/>
            <a:ext cx="510552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3124080"/>
            <a:ext cx="4038480" cy="1067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645600">
            <a:off x="4114800" y="4038480"/>
            <a:ext cx="762120" cy="533520"/>
          </a:xfrm>
          <a:custGeom>
            <a:avLst/>
            <a:gdLst>
              <a:gd name="textAreaLeft" fmla="*/ 0 w 762120"/>
              <a:gd name="textAreaRight" fmla="*/ 762480 w 76212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80880" y="-22860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62320" y="1143000"/>
            <a:ext cx="449280" cy="79200"/>
          </a:xfrm>
          <a:custGeom>
            <a:avLst/>
            <a:gdLst/>
            <a:ahLst/>
            <a:rect l="l" t="t" r="r" b="b"/>
            <a:pathLst>
              <a:path w="283" h="50">
                <a:moveTo>
                  <a:pt x="0" y="32"/>
                </a:moveTo>
                <a:cubicBezTo>
                  <a:pt x="18" y="38"/>
                  <a:pt x="53" y="50"/>
                  <a:pt x="53" y="50"/>
                </a:cubicBezTo>
                <a:lnTo>
                  <a:pt x="139" y="48"/>
                </a:lnTo>
                <a:lnTo>
                  <a:pt x="235" y="0"/>
                </a:lnTo>
                <a:lnTo>
                  <a:pt x="283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6019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rack in the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228600"/>
            <a:ext cx="228600" cy="228600"/>
          </a:xfrm>
          <a:prstGeom prst="ellipse">
            <a:avLst/>
          </a:prstGeom>
          <a:solidFill>
            <a:srgbClr val="000000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37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304920"/>
            <a:ext cx="8610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4648320"/>
            <a:ext cx="2133360" cy="2057400"/>
          </a:xfrm>
          <a:custGeom>
            <a:avLst/>
            <a:gdLst>
              <a:gd name="textAreaLeft" fmla="*/ 305640 w 2133360"/>
              <a:gd name="textAreaRight" fmla="*/ 1827720 w 2133360"/>
              <a:gd name="textAreaTop" fmla="*/ 305640 h 2057400"/>
              <a:gd name="textAreaBottom" fmla="*/ 1751760 h 2057400"/>
            </a:gdLst>
            <a:ahLst/>
            <a:rect l="textAreaLeft" t="textAreaTop" r="textAreaRight" b="textAreaBottom"/>
            <a:pathLst>
              <a:path w="22397" h="21600">
                <a:moveTo>
                  <a:pt x="0" y="0"/>
                </a:moveTo>
                <a:lnTo>
                  <a:pt x="22397" y="0"/>
                </a:lnTo>
                <a:lnTo>
                  <a:pt x="22397" y="21600"/>
                </a:lnTo>
                <a:lnTo>
                  <a:pt x="0" y="21600"/>
                </a:lnTo>
                <a:close/>
              </a:path>
              <a:path fill="lightenLess" w="22397" h="21600">
                <a:moveTo>
                  <a:pt x="0" y="0"/>
                </a:moveTo>
                <a:lnTo>
                  <a:pt x="22397" y="0"/>
                </a:lnTo>
                <a:lnTo>
                  <a:pt x="19187" y="3210"/>
                </a:lnTo>
                <a:lnTo>
                  <a:pt x="3210" y="3210"/>
                </a:lnTo>
                <a:close/>
              </a:path>
              <a:path fill="darken" w="22397" h="21600">
                <a:moveTo>
                  <a:pt x="22397" y="0"/>
                </a:moveTo>
                <a:lnTo>
                  <a:pt x="22397" y="21600"/>
                </a:lnTo>
                <a:lnTo>
                  <a:pt x="19187" y="18390"/>
                </a:lnTo>
                <a:lnTo>
                  <a:pt x="19187" y="3210"/>
                </a:lnTo>
                <a:close/>
              </a:path>
              <a:path fill="darkenLess" w="22397" h="21600">
                <a:moveTo>
                  <a:pt x="2239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9187" y="18390"/>
                </a:lnTo>
                <a:close/>
              </a:path>
              <a:path fill="lighten" w="2239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endshow"/>
          </p:cNvPr>
          <p:cNvSpPr/>
          <p:nvPr/>
        </p:nvSpPr>
        <p:spPr>
          <a:xfrm>
            <a:off x="640080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remove" presetClass="emph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flipH="1" flipV="1">
            <a:off x="8610480" y="5029200"/>
            <a:ext cx="533520" cy="380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0"/>
            <a:ext cx="0" cy="5029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0" y="4876560"/>
            <a:ext cx="861048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228600" y="-38088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1905120"/>
            <a:ext cx="5331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Beech Veneer Door"/>
          <p:cNvPicPr/>
          <p:nvPr/>
        </p:nvPicPr>
        <p:blipFill>
          <a:blip r:embed="rId1"/>
          <a:srcRect l="24777" t="1774" r="25669" b="2656"/>
          <a:stretch/>
        </p:blipFill>
        <p:spPr>
          <a:xfrm>
            <a:off x="1905120" y="838080"/>
            <a:ext cx="2133360" cy="4114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0" t="6449" r="66002" b="66049"/>
          <a:stretch/>
        </p:blipFill>
        <p:spPr>
          <a:xfrm>
            <a:off x="3581280" y="2590920"/>
            <a:ext cx="30492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 rot="9468600">
            <a:off x="5866560" y="198072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423200">
            <a:off x="6087600" y="1829880"/>
            <a:ext cx="567000" cy="63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6033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’s lock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rcRect l="8247" t="22123" r="9493" b="5784"/>
          <a:stretch/>
        </p:blipFill>
        <p:spPr>
          <a:xfrm>
            <a:off x="4267080" y="2209680"/>
            <a:ext cx="36216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267080" y="1981080"/>
            <a:ext cx="381240" cy="1526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7" action="ppaction://hlinksldjump"/>
          </p:cNvPr>
          <p:cNvSpPr/>
          <p:nvPr/>
        </p:nvSpPr>
        <p:spPr>
          <a:xfrm>
            <a:off x="4191120" y="1905120"/>
            <a:ext cx="533160" cy="838080"/>
          </a:xfrm>
          <a:prstGeom prst="rect">
            <a:avLst/>
          </a:prstGeom>
          <a:noFill/>
          <a:ln w="76320">
            <a:solidFill>
              <a:srgbClr val="ff33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5715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’s stuck under the hardened paint on the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8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9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6" action="ppaction://hlinksldjump"/>
          </p:cNvPr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6" action="ppaction://hlinksldjump"/>
          </p:cNvPr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6" action="ppaction://hlinksldjump"/>
          </p:cNvPr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6" action="ppaction://hlinksldjump"/>
          </p:cNvPr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Corr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" autoRev="1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0:46:52Z</dcterms:created>
  <dc:creator>B.M.W. Productionz</dc:creator>
  <dc:description>Escape the room...GOOD LUCK!!!</dc:description>
  <cp:keywords>Extreme Escape Room Game B.M.W. Productionz</cp:keywords>
  <dc:language>en-US</dc:language>
  <cp:lastModifiedBy>Benjamin M. Ward</cp:lastModifiedBy>
  <dcterms:modified xsi:type="dcterms:W3CDTF">2007-08-30T16:10:47Z</dcterms:modified>
  <cp:revision>117</cp:revision>
  <dc:subject>Room Escape Game</dc:subject>
  <dc:title>Extreme Escape #1</dc:title>
</cp:coreProperties>
</file>