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1.gif" ContentType="image/gif"/>
  <Override PartName="/ppt/media/image10.png" ContentType="image/png"/>
  <Override PartName="/ppt/media/image8.png" ContentType="image/png"/>
  <Override PartName="/ppt/media/image5.gif" ContentType="image/gif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21.jpeg" ContentType="image/jpeg"/>
  <Override PartName="/ppt/media/image23.png" ContentType="image/png"/>
  <Override PartName="/ppt/media/image20.gif" ContentType="image/gif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5.gif" ContentType="image/gif"/>
  <Override PartName="/ppt/media/image18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B37C-AE85-4A74-8C98-83D9A63D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168-78A7-4F31-9DC4-68516C90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BB7C-8C9F-4D3A-AA27-9ABDE2E4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5FD8-B4AE-490B-9701-23C56A2F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7345-5623-4B17-92AA-9EF4997C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9C31-0968-441A-89A9-45276573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05E6-F901-41F1-AFD6-CA0705CB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D2C5-DADE-4BDC-B715-DEC85826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F6A9-B814-4525-B3F3-998300EC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C5B4-99C9-484F-877F-272609B3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6A97-46C2-4187-BCBC-E8920898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FB0-F54E-417B-94D1-E11988CD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5F45-A0F8-4B72-A5C2-9B4D92DB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7971-5E2D-4B7D-9409-758379B6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63E8-E005-4C2B-955B-8599C77E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23AA-7522-4492-A2F0-21E049C5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CDEA-862F-49B5-BD88-0CA5E030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FCE90-48F3-4435-A6BD-6E22D32D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084A3-F922-4B65-86D1-BCDBE3FC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B848C-6DB6-4CD4-A26C-CC210AFB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BE2DF-8B85-4FF2-B55E-A8187325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8C267-486E-44E4-9DE0-220E9299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4898-0217-4F6B-85DD-8C60AE38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B48FC-0374-413A-B7CE-E2206BED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01C4A-4DF9-4227-BCF0-35AF02B5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D15F7-DE01-4971-9F65-B131030E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5613A-D904-4B41-B971-6D136589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BC52A-D0C2-4928-8E8C-3171DFD6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00FD4-7459-4B8F-A232-6ECF4AB9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6FE60-02AB-4809-B2CE-EE8CF596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46E1A-FF6D-473B-8516-7EAE8B1A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B43E7-EDA3-49EB-8BA5-F6FA9274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01D44-0E19-4367-9E03-B7FF9FF8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A952-350C-41CF-8162-62CDF1F6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F2674-EF42-4888-A088-996E926A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80C58-38D1-4728-92D8-9D6F5A8A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1868E-F658-4DE3-9A8F-80D5D295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D5022-F901-4DF2-93EA-A69CC5C5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51419-2671-489A-9B46-2855E9AC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14A74-484A-4CF9-8B61-DD680725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377F1-9E2D-41AD-9519-C3F69F75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E4B00-5744-4FB1-9994-6AAAAFBE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B814F-5F2C-4005-98C3-5BADE4CC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232-58BE-4558-BFD9-A5B6D097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28D0-0E50-4600-8115-5ACCD3E7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581C-D3C3-4060-B680-A46058A4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CC9-C978-4629-BD1B-1A01AAA6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A8F3-BCD5-45C5-9576-F311AA62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C288-68A8-4E5A-AB87-69994E31E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98D6-95DD-429F-AEB5-6811B7508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115480" y="6207120"/>
            <a:ext cx="838080" cy="632160"/>
            <a:chOff x="8115480" y="6207120"/>
            <a:chExt cx="838080" cy="632160"/>
          </a:xfrm>
        </p:grpSpPr>
        <p:sp>
          <p:nvSpPr>
            <p:cNvPr id="47" name=""/>
            <p:cNvSpPr/>
            <p:nvPr/>
          </p:nvSpPr>
          <p:spPr>
            <a:xfrm>
              <a:off x="8155080" y="659304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kip Intr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115480" y="6261120"/>
              <a:ext cx="838080" cy="27288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45098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674200" y="6207120"/>
              <a:ext cx="279360" cy="326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191440" y="6207120"/>
              <a:ext cx="279360" cy="326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648640" y="6283440"/>
              <a:ext cx="279360" cy="26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800000">
              <a:off x="8410320" y="6283080"/>
              <a:ext cx="314280" cy="190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964" y="1135"/>
                    <a:pt x="6327" y="5080"/>
                    <a:pt x="6327" y="10800"/>
                  </a:cubicBezTo>
                  <a:cubicBezTo>
                    <a:pt x="6327" y="16520"/>
                    <a:pt x="13964" y="204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420040" y="6207120"/>
              <a:ext cx="279360" cy="326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0800000">
              <a:off x="8314920" y="6283080"/>
              <a:ext cx="228600" cy="190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00" y="1507"/>
                    <a:pt x="8400" y="5080"/>
                    <a:pt x="8400" y="10800"/>
                  </a:cubicBezTo>
                  <a:cubicBezTo>
                    <a:pt x="8400" y="16520"/>
                    <a:pt x="15000" y="2009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7924680" y="6113520"/>
            <a:ext cx="1219320" cy="74448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60B3-FD17-4140-8F5D-B72A7A362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762120"/>
            <a:ext cx="9144000" cy="4805280"/>
            <a:chOff x="0" y="762120"/>
            <a:chExt cx="9144000" cy="4805280"/>
          </a:xfrm>
        </p:grpSpPr>
        <p:sp>
          <p:nvSpPr>
            <p:cNvPr id="98" name=""/>
            <p:cNvSpPr/>
            <p:nvPr/>
          </p:nvSpPr>
          <p:spPr>
            <a:xfrm>
              <a:off x="6019920" y="1752480"/>
              <a:ext cx="3124080" cy="2133720"/>
            </a:xfrm>
            <a:prstGeom prst="flowChartExtract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8365800">
              <a:off x="2590200" y="2971440"/>
              <a:ext cx="1904760" cy="1600200"/>
            </a:xfrm>
            <a:prstGeom prst="rtTriangl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2971800"/>
              <a:ext cx="1905120" cy="1600200"/>
            </a:xfrm>
            <a:prstGeom prst="rtTriangl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200000">
              <a:off x="7238880" y="2666880"/>
              <a:ext cx="1905120" cy="1905120"/>
            </a:xfrm>
            <a:prstGeom prst="rtTriangl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567400"/>
              <a:ext cx="914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2057400"/>
              <a:ext cx="5029200" cy="2514600"/>
            </a:xfrm>
            <a:prstGeom prst="flowChartExtract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62320" y="762120"/>
              <a:ext cx="6781680" cy="3809880"/>
            </a:xfrm>
            <a:prstGeom prst="flowChartExtract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rot="5400000">
            <a:off x="-579240" y="3543120"/>
            <a:ext cx="160020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7978680" y="3382920"/>
            <a:ext cx="190512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69192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EFB2-2DD9-4E82-B824-31CB96E76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-533520" y="6324480"/>
            <a:ext cx="10287000" cy="762120"/>
            <a:chOff x="-533520" y="6324480"/>
            <a:chExt cx="10287000" cy="762120"/>
          </a:xfrm>
        </p:grpSpPr>
        <p:grpSp>
          <p:nvGrpSpPr>
            <p:cNvPr id="149" name=""/>
            <p:cNvGrpSpPr/>
            <p:nvPr/>
          </p:nvGrpSpPr>
          <p:grpSpPr>
            <a:xfrm>
              <a:off x="-457200" y="6324480"/>
              <a:ext cx="10210680" cy="762120"/>
              <a:chOff x="-457200" y="6324480"/>
              <a:chExt cx="10210680" cy="762120"/>
            </a:xfrm>
          </p:grpSpPr>
          <p:sp>
            <p:nvSpPr>
              <p:cNvPr id="150" name=""/>
              <p:cNvSpPr/>
              <p:nvPr/>
            </p:nvSpPr>
            <p:spPr>
              <a:xfrm>
                <a:off x="-457200" y="6324480"/>
                <a:ext cx="9753480" cy="762120"/>
              </a:xfrm>
              <a:prstGeom prst="rect">
                <a:avLst/>
              </a:prstGeom>
              <a:solidFill>
                <a:srgbClr val="99ccff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400800"/>
                <a:ext cx="9753480" cy="380880"/>
              </a:xfrm>
              <a:prstGeom prst="rect">
                <a:avLst/>
              </a:prstGeom>
              <a:solidFill>
                <a:srgbClr val="33339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-533520" y="6477120"/>
              <a:ext cx="9753840" cy="228600"/>
            </a:xfrm>
            <a:prstGeom prst="rect">
              <a:avLst/>
            </a:prstGeom>
            <a:solidFill>
              <a:srgbClr val="99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743200" y="6400800"/>
            <a:ext cx="838080" cy="380520"/>
            <a:chOff x="2743200" y="6400800"/>
            <a:chExt cx="838080" cy="380520"/>
          </a:xfrm>
        </p:grpSpPr>
        <p:sp>
          <p:nvSpPr>
            <p:cNvPr id="154" name=""/>
            <p:cNvSpPr/>
            <p:nvPr/>
          </p:nvSpPr>
          <p:spPr>
            <a:xfrm>
              <a:off x="2743200" y="6455160"/>
              <a:ext cx="838080" cy="27180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45098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0800000">
              <a:off x="3049920" y="6482520"/>
              <a:ext cx="279000" cy="217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920" y="2196"/>
                    <a:pt x="12239" y="5080"/>
                    <a:pt x="12239" y="10800"/>
                  </a:cubicBezTo>
                  <a:cubicBezTo>
                    <a:pt x="12239" y="16520"/>
                    <a:pt x="16920" y="19404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01560" y="6400800"/>
              <a:ext cx="279360" cy="32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54800" y="6455160"/>
              <a:ext cx="279000" cy="32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34160" y="6455160"/>
              <a:ext cx="279360" cy="32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85800" y="6396480"/>
            <a:ext cx="838080" cy="380520"/>
            <a:chOff x="685800" y="6396480"/>
            <a:chExt cx="838080" cy="380520"/>
          </a:xfrm>
        </p:grpSpPr>
        <p:sp>
          <p:nvSpPr>
            <p:cNvPr id="160" name=""/>
            <p:cNvSpPr/>
            <p:nvPr/>
          </p:nvSpPr>
          <p:spPr>
            <a:xfrm rot="10800000">
              <a:off x="685800" y="6450840"/>
              <a:ext cx="838080" cy="27180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45098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38160" y="6477840"/>
              <a:ext cx="279000" cy="217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920" y="2196"/>
                    <a:pt x="12239" y="5080"/>
                    <a:pt x="12239" y="10800"/>
                  </a:cubicBezTo>
                  <a:cubicBezTo>
                    <a:pt x="12239" y="16520"/>
                    <a:pt x="16920" y="19404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0800000">
              <a:off x="686160" y="6450840"/>
              <a:ext cx="279360" cy="32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0800000">
              <a:off x="1133280" y="6396480"/>
              <a:ext cx="279000" cy="32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0800000">
              <a:off x="853560" y="6396480"/>
              <a:ext cx="279360" cy="32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8077320" y="6400800"/>
            <a:ext cx="838080" cy="380520"/>
            <a:chOff x="8077320" y="6400800"/>
            <a:chExt cx="838080" cy="380520"/>
          </a:xfrm>
        </p:grpSpPr>
        <p:sp>
          <p:nvSpPr>
            <p:cNvPr id="166" name=""/>
            <p:cNvSpPr/>
            <p:nvPr/>
          </p:nvSpPr>
          <p:spPr>
            <a:xfrm>
              <a:off x="8077320" y="6455160"/>
              <a:ext cx="838080" cy="27180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45098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0800000">
              <a:off x="8384040" y="6482520"/>
              <a:ext cx="279000" cy="217440"/>
            </a:xfrm>
            <a:custGeom>
              <a:avLst/>
              <a:gdLst>
                <a:gd name="textAreaLeft" fmla="*/ 37080 w 279000"/>
                <a:gd name="textAreaRight" fmla="*/ 241920 w 279000"/>
                <a:gd name="textAreaTop" fmla="*/ 37800 h 217440"/>
                <a:gd name="textAreaBottom" fmla="*/ 157680 h 21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635680" y="6400800"/>
              <a:ext cx="279360" cy="32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88920" y="6455160"/>
              <a:ext cx="279000" cy="32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468280" y="6455160"/>
              <a:ext cx="279360" cy="32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551000" y="6095880"/>
            <a:ext cx="159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Back to Selection Sc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654120" y="6426360"/>
            <a:ext cx="914400" cy="30456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2685960" y="6426360"/>
            <a:ext cx="914400" cy="30456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8015400" y="6477120"/>
            <a:ext cx="914400" cy="30456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www.freewebs.com/bmwproductionz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freewebs.com/bmwproductionz/" TargetMode="Externa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2.jpeg"/><Relationship Id="rId6" Type="http://schemas.openxmlformats.org/officeDocument/2006/relationships/image" Target="../media/image2.png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image" Target="../media/image3.png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12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eewebs.com/bmwproductionz/" TargetMode="Externa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freewebs.com/bmwproduction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hyperlink" Target="http://www.freewebs.com/bmwproductionz/" TargetMode="External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freewebs.com/bmwproductionz/" TargetMode="Externa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4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5.gif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hyperlink" Target="http://www.freewebs.com/bmwproductionz/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6.jpe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freewebs.com/bmwproductionz/" TargetMode="Externa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hyperlink" Target="http://www.freewebs.com/bmwproductionz/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image" Target="../media/image20.gif"/><Relationship Id="rId4" Type="http://schemas.openxmlformats.org/officeDocument/2006/relationships/slide" Target="slide44.xml"/><Relationship Id="rId5" Type="http://schemas.openxmlformats.org/officeDocument/2006/relationships/image" Target="../media/image2.png"/><Relationship Id="rId6" Type="http://schemas.openxmlformats.org/officeDocument/2006/relationships/slide" Target=""/><Relationship Id="rId7" Type="http://schemas.openxmlformats.org/officeDocument/2006/relationships/hyperlink" Target="http://www.freewebs.com/bmwproductionz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www.freewebs.com/bmwproductionz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1.jpeg"/><Relationship Id="rId3" Type="http://schemas.openxmlformats.org/officeDocument/2006/relationships/slide" Target=""/><Relationship Id="rId4" Type="http://schemas.openxmlformats.org/officeDocument/2006/relationships/image" Target="../media/image22.jpe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" Target=""/><Relationship Id="rId11" Type="http://schemas.openxmlformats.org/officeDocument/2006/relationships/image" Target="../media/image25.jpeg"/><Relationship Id="rId12" Type="http://schemas.openxmlformats.org/officeDocument/2006/relationships/slide" Target=""/><Relationship Id="rId13" Type="http://schemas.openxmlformats.org/officeDocument/2006/relationships/hyperlink" Target="http://www.freewebs.com/bmwproductionz/" TargetMode="External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http://www.freewebs.com/bmwproductionz/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hyperlink" Target="http://www.freewebs.com/bmwproductionz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hyperlink" Target="http://www.freewebs.com/bmwproductionz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.png"/><Relationship Id="rId6" Type="http://schemas.openxmlformats.org/officeDocument/2006/relationships/slide" Target=""/><Relationship Id="rId7" Type="http://schemas.openxmlformats.org/officeDocument/2006/relationships/hyperlink" Target="http://www.freewebs.com/bmwproductionz/" TargetMode="External"/><Relationship Id="rId8" Type="http://schemas.openxmlformats.org/officeDocument/2006/relationships/image" Target="../media/image1.png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http://www.freewebs.com/bmwproductionz/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" Target="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-609480" y="-380880"/>
            <a:ext cx="10058400" cy="76197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885960" y="-762120"/>
            <a:ext cx="764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4d4d"/>
                    </a:gs>
                    <a:gs pos="50000">
                      <a:srgbClr val="000000"/>
                    </a:gs>
                    <a:gs pos="100000">
                      <a:srgbClr val="4d4d4d"/>
                    </a:gs>
                  </a:gsLst>
                  <a:lin ang="13500000"/>
                </a:gradFill>
                <a:latin typeface="Arial Black"/>
              </a:rPr>
              <a:t>B.M.W. Productionz Present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4d4d"/>
                  </a:gs>
                  <a:gs pos="50000">
                    <a:srgbClr val="000000"/>
                  </a:gs>
                  <a:gs pos="100000">
                    <a:srgbClr val="4d4d4d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remove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1.46161E-006 L 7.5E-006 1.15449 E">
                                      <p:cBhvr>
                                        <p:cTn id="8" dur="5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114800" y="1676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343400" y="18288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419720" y="16761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4419360" y="182844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572000" y="1752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0" y="18288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Cloud"/>
          <p:cNvSpPr/>
          <p:nvPr/>
        </p:nvSpPr>
        <p:spPr>
          <a:xfrm>
            <a:off x="6248520" y="1600200"/>
            <a:ext cx="129528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Cloud"/>
          <p:cNvSpPr/>
          <p:nvPr/>
        </p:nvSpPr>
        <p:spPr>
          <a:xfrm>
            <a:off x="2819520" y="3048120"/>
            <a:ext cx="129528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loud"/>
          <p:cNvSpPr/>
          <p:nvPr/>
        </p:nvSpPr>
        <p:spPr>
          <a:xfrm>
            <a:off x="533520" y="1447920"/>
            <a:ext cx="129528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loud"/>
          <p:cNvSpPr/>
          <p:nvPr/>
        </p:nvSpPr>
        <p:spPr>
          <a:xfrm>
            <a:off x="1371600" y="4648320"/>
            <a:ext cx="129528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Cloud"/>
          <p:cNvSpPr/>
          <p:nvPr/>
        </p:nvSpPr>
        <p:spPr>
          <a:xfrm>
            <a:off x="4572000" y="4267080"/>
            <a:ext cx="1295280" cy="609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loud"/>
          <p:cNvSpPr/>
          <p:nvPr/>
        </p:nvSpPr>
        <p:spPr>
          <a:xfrm>
            <a:off x="8496360" y="3505320"/>
            <a:ext cx="129528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Cloud"/>
          <p:cNvSpPr/>
          <p:nvPr/>
        </p:nvSpPr>
        <p:spPr>
          <a:xfrm>
            <a:off x="3505320" y="-304920"/>
            <a:ext cx="1295280" cy="609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Cloud"/>
          <p:cNvSpPr/>
          <p:nvPr/>
        </p:nvSpPr>
        <p:spPr>
          <a:xfrm>
            <a:off x="6629400" y="6934320"/>
            <a:ext cx="129528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loud"/>
          <p:cNvSpPr/>
          <p:nvPr/>
        </p:nvSpPr>
        <p:spPr>
          <a:xfrm>
            <a:off x="2971800" y="8458200"/>
            <a:ext cx="129528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loud"/>
          <p:cNvSpPr/>
          <p:nvPr/>
        </p:nvSpPr>
        <p:spPr>
          <a:xfrm>
            <a:off x="1143000" y="6553080"/>
            <a:ext cx="1295280" cy="609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Cloud"/>
          <p:cNvSpPr/>
          <p:nvPr/>
        </p:nvSpPr>
        <p:spPr>
          <a:xfrm>
            <a:off x="-838080" y="8915400"/>
            <a:ext cx="129528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Cloud"/>
          <p:cNvSpPr/>
          <p:nvPr/>
        </p:nvSpPr>
        <p:spPr>
          <a:xfrm>
            <a:off x="4724280" y="10515600"/>
            <a:ext cx="129564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Cloud"/>
          <p:cNvSpPr/>
          <p:nvPr/>
        </p:nvSpPr>
        <p:spPr>
          <a:xfrm>
            <a:off x="5410080" y="10210680"/>
            <a:ext cx="1295640" cy="609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Cloud"/>
          <p:cNvSpPr/>
          <p:nvPr/>
        </p:nvSpPr>
        <p:spPr>
          <a:xfrm>
            <a:off x="5715000" y="11658600"/>
            <a:ext cx="129528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Cloud"/>
          <p:cNvSpPr/>
          <p:nvPr/>
        </p:nvSpPr>
        <p:spPr>
          <a:xfrm>
            <a:off x="914400" y="12268080"/>
            <a:ext cx="1295280" cy="609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Cloud"/>
          <p:cNvSpPr/>
          <p:nvPr/>
        </p:nvSpPr>
        <p:spPr>
          <a:xfrm>
            <a:off x="4724280" y="13487400"/>
            <a:ext cx="129564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Cloud"/>
          <p:cNvSpPr/>
          <p:nvPr/>
        </p:nvSpPr>
        <p:spPr>
          <a:xfrm>
            <a:off x="4724280" y="7772400"/>
            <a:ext cx="129564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Cloud"/>
          <p:cNvSpPr/>
          <p:nvPr/>
        </p:nvSpPr>
        <p:spPr>
          <a:xfrm>
            <a:off x="2133720" y="10210680"/>
            <a:ext cx="1295280" cy="609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Cloud"/>
          <p:cNvSpPr/>
          <p:nvPr/>
        </p:nvSpPr>
        <p:spPr>
          <a:xfrm>
            <a:off x="7010280" y="16992720"/>
            <a:ext cx="129564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loud"/>
          <p:cNvSpPr/>
          <p:nvPr/>
        </p:nvSpPr>
        <p:spPr>
          <a:xfrm>
            <a:off x="990720" y="15011280"/>
            <a:ext cx="1295280" cy="609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Cloud"/>
          <p:cNvSpPr/>
          <p:nvPr/>
        </p:nvSpPr>
        <p:spPr>
          <a:xfrm>
            <a:off x="2819520" y="17145000"/>
            <a:ext cx="129528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Cloud"/>
          <p:cNvSpPr/>
          <p:nvPr/>
        </p:nvSpPr>
        <p:spPr>
          <a:xfrm>
            <a:off x="4343400" y="19507320"/>
            <a:ext cx="129528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Cloud"/>
          <p:cNvSpPr/>
          <p:nvPr/>
        </p:nvSpPr>
        <p:spPr>
          <a:xfrm>
            <a:off x="4495680" y="21183480"/>
            <a:ext cx="1295640" cy="609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Cloud"/>
          <p:cNvSpPr/>
          <p:nvPr/>
        </p:nvSpPr>
        <p:spPr>
          <a:xfrm>
            <a:off x="762120" y="21717000"/>
            <a:ext cx="129528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loud"/>
          <p:cNvSpPr/>
          <p:nvPr/>
        </p:nvSpPr>
        <p:spPr>
          <a:xfrm>
            <a:off x="7010280" y="24079320"/>
            <a:ext cx="129564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Cloud"/>
          <p:cNvSpPr/>
          <p:nvPr/>
        </p:nvSpPr>
        <p:spPr>
          <a:xfrm>
            <a:off x="609480" y="24460200"/>
            <a:ext cx="129564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Cloud"/>
          <p:cNvSpPr/>
          <p:nvPr/>
        </p:nvSpPr>
        <p:spPr>
          <a:xfrm>
            <a:off x="4114800" y="25526880"/>
            <a:ext cx="1295280" cy="609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Cloud"/>
          <p:cNvSpPr/>
          <p:nvPr/>
        </p:nvSpPr>
        <p:spPr>
          <a:xfrm>
            <a:off x="7162920" y="26289000"/>
            <a:ext cx="129528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Cloud"/>
          <p:cNvSpPr/>
          <p:nvPr/>
        </p:nvSpPr>
        <p:spPr>
          <a:xfrm>
            <a:off x="1981080" y="28575000"/>
            <a:ext cx="129564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Cloud"/>
          <p:cNvSpPr/>
          <p:nvPr/>
        </p:nvSpPr>
        <p:spPr>
          <a:xfrm>
            <a:off x="7162920" y="29565720"/>
            <a:ext cx="129528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Cloud"/>
          <p:cNvSpPr/>
          <p:nvPr/>
        </p:nvSpPr>
        <p:spPr>
          <a:xfrm>
            <a:off x="5486400" y="30937320"/>
            <a:ext cx="129528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Cloud"/>
          <p:cNvSpPr/>
          <p:nvPr/>
        </p:nvSpPr>
        <p:spPr>
          <a:xfrm>
            <a:off x="-1066680" y="30937320"/>
            <a:ext cx="129528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Cloud"/>
          <p:cNvSpPr/>
          <p:nvPr/>
        </p:nvSpPr>
        <p:spPr>
          <a:xfrm>
            <a:off x="2590920" y="32232600"/>
            <a:ext cx="129528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rId1" action="ppaction://hlinksldjump"/>
          </p:cNvPr>
          <p:cNvSpPr/>
          <p:nvPr/>
        </p:nvSpPr>
        <p:spPr>
          <a:xfrm>
            <a:off x="8305920" y="64771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K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8305920" y="1981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84.0)">
                                      <p:cBhvr>
                                        <p:cTn id="99" dur="1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01" dur="8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03" dur="8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05" dur="8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07" dur="8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09" dur="8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11" dur="8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13" dur="8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15" dur="8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17" dur="8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19" dur="8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21" dur="8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23" dur="8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25" dur="8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27" dur="8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29" dur="8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31" dur="8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33" dur="8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35" dur="8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37" dur="8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39" dur="8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41" dur="8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43" dur="8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45" dur="8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47" dur="8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49" dur="8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51" dur="8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autoRev="1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417 -0.00555 L 0.00833 0.0111 E">
                                      <p:cBhvr>
                                        <p:cTn id="153" dur="1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0 0.83256 E">
                                      <p:cBhvr>
                                        <p:cTn id="155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0 0.83256 E">
                                      <p:cBhvr>
                                        <p:cTn id="157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0 0.83256 E">
                                      <p:cBhvr>
                                        <p:cTn id="159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0 0.83256 E">
                                      <p:cBhvr>
                                        <p:cTn id="161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0 0.83256 E">
                                      <p:cBhvr>
                                        <p:cTn id="163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0 0.83256 E">
                                      <p:cBhvr>
                                        <p:cTn id="165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67" dur="8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69" dur="8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71" dur="8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73" dur="8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75" dur="8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77" dur="8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8964 E">
                                      <p:cBhvr>
                                        <p:cTn id="179" dur="8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loud"/>
          <p:cNvSpPr/>
          <p:nvPr/>
        </p:nvSpPr>
        <p:spPr>
          <a:xfrm>
            <a:off x="5257800" y="457200"/>
            <a:ext cx="129528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loud"/>
          <p:cNvSpPr/>
          <p:nvPr/>
        </p:nvSpPr>
        <p:spPr>
          <a:xfrm>
            <a:off x="1600200" y="838080"/>
            <a:ext cx="1295280" cy="609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Cloud"/>
          <p:cNvSpPr/>
          <p:nvPr/>
        </p:nvSpPr>
        <p:spPr>
          <a:xfrm>
            <a:off x="4572000" y="1905120"/>
            <a:ext cx="129528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Cloud"/>
          <p:cNvSpPr/>
          <p:nvPr/>
        </p:nvSpPr>
        <p:spPr>
          <a:xfrm>
            <a:off x="8496360" y="457200"/>
            <a:ext cx="129528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86400" y="685800"/>
            <a:ext cx="7467480" cy="510552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5791320"/>
            <a:ext cx="76320" cy="6858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20640600">
            <a:off x="5867280" y="5333760"/>
            <a:ext cx="1676520" cy="609480"/>
          </a:xfrm>
          <a:prstGeom prst="rightArrow">
            <a:avLst>
              <a:gd name="adj1" fmla="val 50000"/>
              <a:gd name="adj2" fmla="val 68768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gypt 4 Dumm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077320" y="-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305920" y="-2286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8381880" y="-3812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8381880" y="-2289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8534520" y="-30492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8534520" y="-22860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2514600"/>
            <a:ext cx="4419720" cy="320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hiller"/>
              </a:rPr>
              <a:t>WEIRD 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hiller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hiller"/>
              </a:rPr>
              <a:t>THAT LOCKS W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hiller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hiller"/>
              </a:rPr>
              <a:t>YOU ENTER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419720" y="5181480"/>
            <a:ext cx="15228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20071200">
            <a:off x="4343400" y="5105160"/>
            <a:ext cx="457200" cy="75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5" action="ppaction://hlinksldjump"/>
          </p:cNvPr>
          <p:cNvSpPr/>
          <p:nvPr/>
        </p:nvSpPr>
        <p:spPr>
          <a:xfrm>
            <a:off x="8305920" y="64771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K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8305920" y="1981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94.0)">
                                      <p:cBhvr>
                                        <p:cTn id="185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834 0 C -0.00694 0.09528 -0.00225 0.18964 -0.00225 0.28492 C -0.00659 0.29394 -0.01111 0.29348 -0.01909 0.29718 C -0.02239 0.29856 -0.02499 0.30203 -0.02829 0.30342 C -0.02933 0.30758 -0.03107 0.31128 -0.03142 0.31568 C -0.03194 0.32192 -0.03176 0.32817 -0.03298 0.33418 C -0.03437 0.34112 -0.04531 0.34852 -0.04531 0.34852 C -0.05104 0.35939 -0.04826 0.37188 -0.05295 0.38113 C -0.05642 0.38807 -0.06197 0.38922 -0.06683 0.39362 C -0.07343 0.40634 -0.08333 0.4135 -0.09149 0.42437 C -0.09409 0.43409 -0.09218 0.43663 -0.09913 0.44264 C -0.10104 0.45028 -0.09999 0.45953 -0.10225 0.46739 C -0.10277 0.46924 -0.10538 0.46855 -0.10676 0.46924 C -0.1144 0.47456 -0.12274 0.47942 -0.12986 0.48566 C -0.1335 0.49283 -0.13611 0.49537 -0.14218 0.49815 C -0.14583 0.50509 -0.14913 0.50971 -0.15451 0.51434 C -0.16093 0.52706 -0.15381 0.54232 -0.16371 0.55134 C -0.16701 0.55782 -0.17204 0.56059 -0.17447 0.56776 C -0.17586 0.57169 -0.1776 0.58002 -0.1776 0.58002 C -0.17812 0.58696 -0.1776 0.59412 -0.17916 0.6006 C -0.17968 0.60291 -0.18246 0.60291 -0.18367 0.60453 C -0.18506 0.60638 -0.18541 0.60893 -0.1868 0.61078 C -0.19045 0.61563 -0.196 0.61702 -0.20069 0.61887 C -0.20607 0.62373 -0.20989 0.62511 -0.21458 0.63136 C -0.21649 0.63968 -0.22308 0.65032 -0.22829 0.65587 C -0.23124 0.65888 -0.23767 0.66397 -0.23767 0.66397 C -0.24131 0.68016 -0.23715 0.71207 -0.25295 0.71947 C -0.25833 0.72988 -0.26041 0.7308 -0.26371 0.74399 C -0.26527 0.75 -0.26354 0.75786 -0.26683 0.76249 C -0.26788 0.76411 -0.26996 0.76364 -0.27135 0.76457 C -0.27465 0.76688 -0.28072 0.77266 -0.28072 0.77266 C -0.28211 0.79047 -0.28176 0.79764 -0.29444 0.80342 C -0.29861 0.81984 -0.29617 0.82239 -0.30833 0.82794 C -0.31666 0.84436 -0.31406 0.83534 -0.31597 0.85476 C -0.32308 0.85314 -0.32899 0.85268 -0.33454 0.84644 C -0.33975 0.84066 -0.34027 0.8351 -0.34687 0.8321 C -0.35364 0.81822 -0.35937 0.80643 -0.36996 0.79718 C -0.37343 0.79024 -0.3769 0.78561 -0.38211 0.78076 C -0.38645 0.76411 -0.38385 0.75139 -0.38211 0.73381 C -0.38055 0.7167 -0.3802 0.71068 -0.37135 0.69889 C -0.35867 0.70051 -0.35503 0.70074 -0.34531 0.70906 C -0.34479 0.71115 -0.34374 0.71323 -0.34374 0.71531 C -0.34374 0.76226 -0.34183 0.75069 -0.34843 0.77683 C -0.34861 0.77752 -0.35034 0.78978 -0.35138 0.79116 C -0.35381 0.7944 -0.35746 0.79533 -0.36058 0.79718 C -0.36354 0.79903 -0.36996 0.80134 -0.36996 0.80134 C -0.39236 0.82192 -0.4342 0.8136 -0.45451 0.8136 E">
                                      <p:cBhvr>
                                        <p:cTn id="187" dur="3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834 0 C -0.00694 0.09528 -0.00225 0.18964 -0.00225 0.28492 C -0.00659 0.29394 -0.01111 0.29348 -0.01909 0.29718 C -0.02239 0.29856 -0.02499 0.30203 -0.02829 0.30342 C -0.02933 0.30758 -0.03107 0.31128 -0.03142 0.31568 C -0.03194 0.32192 -0.03176 0.32817 -0.03298 0.33418 C -0.03437 0.34112 -0.04531 0.34852 -0.04531 0.34852 C -0.05104 0.35939 -0.04826 0.37188 -0.05295 0.38113 C -0.05642 0.38807 -0.06197 0.38922 -0.06683 0.39362 C -0.07343 0.40634 -0.08333 0.4135 -0.09149 0.42437 C -0.09409 0.43409 -0.09218 0.43663 -0.09913 0.44264 C -0.10104 0.45028 -0.09999 0.45953 -0.10225 0.46739 C -0.10277 0.46924 -0.10538 0.46855 -0.10676 0.46924 C -0.1144 0.47456 -0.12274 0.47942 -0.12986 0.48566 C -0.1335 0.49283 -0.13611 0.49537 -0.14218 0.49815 C -0.14583 0.50509 -0.14913 0.50971 -0.15451 0.51434 C -0.16093 0.52706 -0.15381 0.54232 -0.16371 0.55134 C -0.16701 0.55782 -0.17204 0.56059 -0.17447 0.56776 C -0.17586 0.57169 -0.1776 0.58002 -0.1776 0.58002 C -0.17812 0.58696 -0.1776 0.59412 -0.17916 0.6006 C -0.17968 0.60291 -0.18246 0.60291 -0.18367 0.60453 C -0.18506 0.60638 -0.18541 0.60893 -0.1868 0.61078 C -0.19045 0.61563 -0.196 0.61702 -0.20069 0.61887 C -0.20607 0.62373 -0.20989 0.62511 -0.21458 0.63136 C -0.21649 0.63968 -0.22308 0.65032 -0.22829 0.65587 C -0.23124 0.65888 -0.23767 0.66397 -0.23767 0.66397 C -0.24131 0.68016 -0.23715 0.71207 -0.25295 0.71947 C -0.25833 0.72988 -0.26041 0.7308 -0.26371 0.74399 C -0.26527 0.75 -0.26354 0.75786 -0.26683 0.76249 C -0.26788 0.76411 -0.26996 0.76364 -0.27135 0.76457 C -0.27465 0.76688 -0.28072 0.77266 -0.28072 0.77266 C -0.28211 0.79047 -0.28176 0.79764 -0.29444 0.80342 C -0.29861 0.81984 -0.29617 0.82239 -0.30833 0.82794 C -0.31666 0.84436 -0.31406 0.83534 -0.31597 0.85476 C -0.32308 0.85314 -0.32899 0.85268 -0.33454 0.84644 C -0.33975 0.84066 -0.34027 0.8351 -0.34687 0.8321 C -0.35364 0.81822 -0.35937 0.80643 -0.36996 0.79718 C -0.37343 0.79024 -0.3769 0.78561 -0.38211 0.78076 C -0.38645 0.76411 -0.38385 0.75139 -0.38211 0.73381 C -0.38055 0.7167 -0.3802 0.71068 -0.37135 0.69889 C -0.35867 0.70051 -0.35503 0.70074 -0.34531 0.70906 C -0.34479 0.71115 -0.34374 0.71323 -0.34374 0.71531 C -0.34374 0.76226 -0.34183 0.75069 -0.34843 0.77683 C -0.34861 0.77752 -0.35034 0.78978 -0.35138 0.79116 C -0.35381 0.7944 -0.35746 0.79533 -0.36058 0.79718 C -0.36354 0.79903 -0.36996 0.80134 -0.36996 0.80134 C -0.39236 0.82192 -0.4342 0.8136 -0.45451 0.8136 E">
                                      <p:cBhvr>
                                        <p:cTn id="189" dur="3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834 0 C -0.00694 0.09528 -0.00225 0.18964 -0.00225 0.28492 C -0.00659 0.29394 -0.01111 0.29348 -0.01909 0.29718 C -0.02239 0.29856 -0.02499 0.30203 -0.02829 0.30342 C -0.02933 0.30758 -0.03107 0.31128 -0.03142 0.31568 C -0.03194 0.32192 -0.03176 0.32817 -0.03298 0.33418 C -0.03437 0.34112 -0.04531 0.34852 -0.04531 0.34852 C -0.05104 0.35939 -0.04826 0.37188 -0.05295 0.38113 C -0.05642 0.38807 -0.06197 0.38922 -0.06683 0.39362 C -0.07343 0.40634 -0.08333 0.4135 -0.09149 0.42437 C -0.09409 0.43409 -0.09218 0.43663 -0.09913 0.44264 C -0.10104 0.45028 -0.09999 0.45953 -0.10225 0.46739 C -0.10277 0.46924 -0.10538 0.46855 -0.10676 0.46924 C -0.1144 0.47456 -0.12274 0.47942 -0.12986 0.48566 C -0.1335 0.49283 -0.13611 0.49537 -0.14218 0.49815 C -0.14583 0.50509 -0.14913 0.50971 -0.15451 0.51434 C -0.16093 0.52706 -0.15381 0.54232 -0.16371 0.55134 C -0.16701 0.55782 -0.17204 0.56059 -0.17447 0.56776 C -0.17586 0.57169 -0.1776 0.58002 -0.1776 0.58002 C -0.17812 0.58696 -0.1776 0.59412 -0.17916 0.6006 C -0.17968 0.60291 -0.18246 0.60291 -0.18367 0.60453 C -0.18506 0.60638 -0.18541 0.60893 -0.1868 0.61078 C -0.19045 0.61563 -0.196 0.61702 -0.20069 0.61887 C -0.20607 0.62373 -0.20989 0.62511 -0.21458 0.63136 C -0.21649 0.63968 -0.22308 0.65032 -0.22829 0.65587 C -0.23124 0.65888 -0.23767 0.66397 -0.23767 0.66397 C -0.24131 0.68016 -0.23715 0.71207 -0.25295 0.71947 C -0.25833 0.72988 -0.26041 0.7308 -0.26371 0.74399 C -0.26527 0.75 -0.26354 0.75786 -0.26683 0.76249 C -0.26788 0.76411 -0.26996 0.76364 -0.27135 0.76457 C -0.27465 0.76688 -0.28072 0.77266 -0.28072 0.77266 C -0.28211 0.79047 -0.28176 0.79764 -0.29444 0.80342 C -0.29861 0.81984 -0.29617 0.82239 -0.30833 0.82794 C -0.31666 0.84436 -0.31406 0.83534 -0.31597 0.85476 C -0.32308 0.85314 -0.32899 0.85268 -0.33454 0.84644 C -0.33975 0.84066 -0.34027 0.8351 -0.34687 0.8321 C -0.35364 0.81822 -0.35937 0.80643 -0.36996 0.79718 C -0.37343 0.79024 -0.3769 0.78561 -0.38211 0.78076 C -0.38645 0.76411 -0.38385 0.75139 -0.38211 0.73381 C -0.38055 0.7167 -0.3802 0.71068 -0.37135 0.69889 C -0.35867 0.70051 -0.35503 0.70074 -0.34531 0.70906 C -0.34479 0.71115 -0.34374 0.71323 -0.34374 0.71531 C -0.34374 0.76226 -0.34183 0.75069 -0.34843 0.77683 C -0.34861 0.77752 -0.35034 0.78978 -0.35138 0.79116 C -0.35381 0.7944 -0.35746 0.79533 -0.36058 0.79718 C -0.36354 0.79903 -0.36996 0.80134 -0.36996 0.80134 C -0.39236 0.82192 -0.4342 0.8136 -0.45451 0.8136 E">
                                      <p:cBhvr>
                                        <p:cTn id="191" dur="3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834 0 C -0.00694 0.09528 -0.00225 0.18964 -0.00225 0.28492 C -0.00659 0.29394 -0.01111 0.29348 -0.01909 0.29718 C -0.02239 0.29856 -0.02499 0.30203 -0.02829 0.30342 C -0.02933 0.30758 -0.03107 0.31128 -0.03142 0.31568 C -0.03194 0.32192 -0.03176 0.32817 -0.03298 0.33418 C -0.03437 0.34112 -0.04531 0.34852 -0.04531 0.34852 C -0.05104 0.35939 -0.04826 0.37188 -0.05295 0.38113 C -0.05642 0.38807 -0.06197 0.38922 -0.06683 0.39362 C -0.07343 0.40634 -0.08333 0.4135 -0.09149 0.42437 C -0.09409 0.43409 -0.09218 0.43663 -0.09913 0.44264 C -0.10104 0.45028 -0.09999 0.45953 -0.10225 0.46739 C -0.10277 0.46924 -0.10538 0.46855 -0.10676 0.46924 C -0.1144 0.47456 -0.12274 0.47942 -0.12986 0.48566 C -0.1335 0.49283 -0.13611 0.49537 -0.14218 0.49815 C -0.14583 0.50509 -0.14913 0.50971 -0.15451 0.51434 C -0.16093 0.52706 -0.15381 0.54232 -0.16371 0.55134 C -0.16701 0.55782 -0.17204 0.56059 -0.17447 0.56776 C -0.17586 0.57169 -0.1776 0.58002 -0.1776 0.58002 C -0.17812 0.58696 -0.1776 0.59412 -0.17916 0.6006 C -0.17968 0.60291 -0.18246 0.60291 -0.18367 0.60453 C -0.18506 0.60638 -0.18541 0.60893 -0.1868 0.61078 C -0.19045 0.61563 -0.196 0.61702 -0.20069 0.61887 C -0.20607 0.62373 -0.20989 0.62511 -0.21458 0.63136 C -0.21649 0.63968 -0.22308 0.65032 -0.22829 0.65587 C -0.23124 0.65888 -0.23767 0.66397 -0.23767 0.66397 C -0.24131 0.68016 -0.23715 0.71207 -0.25295 0.71947 C -0.25833 0.72988 -0.26041 0.7308 -0.26371 0.74399 C -0.26527 0.75 -0.26354 0.75786 -0.26683 0.76249 C -0.26788 0.76411 -0.26996 0.76364 -0.27135 0.76457 C -0.27465 0.76688 -0.28072 0.77266 -0.28072 0.77266 C -0.28211 0.79047 -0.28176 0.79764 -0.29444 0.80342 C -0.29861 0.81984 -0.29617 0.82239 -0.30833 0.82794 C -0.31666 0.84436 -0.31406 0.83534 -0.31597 0.85476 C -0.32308 0.85314 -0.32899 0.85268 -0.33454 0.84644 C -0.33975 0.84066 -0.34027 0.8351 -0.34687 0.8321 C -0.35364 0.81822 -0.35937 0.80643 -0.36996 0.79718 C -0.37343 0.79024 -0.3769 0.78561 -0.38211 0.78076 C -0.38645 0.76411 -0.38385 0.75139 -0.38211 0.73381 C -0.38055 0.7167 -0.3802 0.71068 -0.37135 0.69889 C -0.35867 0.70051 -0.35503 0.70074 -0.34531 0.70906 C -0.34479 0.71115 -0.34374 0.71323 -0.34374 0.71531 C -0.34374 0.76226 -0.34183 0.75069 -0.34843 0.77683 C -0.34861 0.77752 -0.35034 0.78978 -0.35138 0.79116 C -0.35381 0.7944 -0.35746 0.79533 -0.36058 0.79718 C -0.36354 0.79903 -0.36996 0.80134 -0.36996 0.80134 C -0.39236 0.82192 -0.4342 0.8136 -0.45451 0.8136 E">
                                      <p:cBhvr>
                                        <p:cTn id="193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834 0 C -0.00694 0.09528 -0.00225 0.18964 -0.00225 0.28492 C -0.00659 0.29394 -0.01111 0.29348 -0.01909 0.29718 C -0.02239 0.29856 -0.02499 0.30203 -0.02829 0.30342 C -0.02933 0.30758 -0.03107 0.31128 -0.03142 0.31568 C -0.03194 0.32192 -0.03176 0.32817 -0.03298 0.33418 C -0.03437 0.34112 -0.04531 0.34852 -0.04531 0.34852 C -0.05104 0.35939 -0.04826 0.37188 -0.05295 0.38113 C -0.05642 0.38807 -0.06197 0.38922 -0.06683 0.39362 C -0.07343 0.40634 -0.08333 0.4135 -0.09149 0.42437 C -0.09409 0.43409 -0.09218 0.43663 -0.09913 0.44264 C -0.10104 0.45028 -0.09999 0.45953 -0.10225 0.46739 C -0.10277 0.46924 -0.10538 0.46855 -0.10676 0.46924 C -0.1144 0.47456 -0.12274 0.47942 -0.12986 0.48566 C -0.1335 0.49283 -0.13611 0.49537 -0.14218 0.49815 C -0.14583 0.50509 -0.14913 0.50971 -0.15451 0.51434 C -0.16093 0.52706 -0.15381 0.54232 -0.16371 0.55134 C -0.16701 0.55782 -0.17204 0.56059 -0.17447 0.56776 C -0.17586 0.57169 -0.1776 0.58002 -0.1776 0.58002 C -0.17812 0.58696 -0.1776 0.59412 -0.17916 0.6006 C -0.17968 0.60291 -0.18246 0.60291 -0.18367 0.60453 C -0.18506 0.60638 -0.18541 0.60893 -0.1868 0.61078 C -0.19045 0.61563 -0.196 0.61702 -0.20069 0.61887 C -0.20607 0.62373 -0.20989 0.62511 -0.21458 0.63136 C -0.21649 0.63968 -0.22308 0.65032 -0.22829 0.65587 C -0.23124 0.65888 -0.23767 0.66397 -0.23767 0.66397 C -0.24131 0.68016 -0.23715 0.71207 -0.25295 0.71947 C -0.25833 0.72988 -0.26041 0.7308 -0.26371 0.74399 C -0.26527 0.75 -0.26354 0.75786 -0.26683 0.76249 C -0.26788 0.76411 -0.26996 0.76364 -0.27135 0.76457 C -0.27465 0.76688 -0.28072 0.77266 -0.28072 0.77266 C -0.28211 0.79047 -0.28176 0.79764 -0.29444 0.80342 C -0.29861 0.81984 -0.29617 0.82239 -0.30833 0.82794 C -0.31666 0.84436 -0.31406 0.83534 -0.31597 0.85476 C -0.32308 0.85314 -0.32899 0.85268 -0.33454 0.84644 C -0.33975 0.84066 -0.34027 0.8351 -0.34687 0.8321 C -0.35364 0.81822 -0.35937 0.80643 -0.36996 0.79718 C -0.37343 0.79024 -0.3769 0.78561 -0.38211 0.78076 C -0.38645 0.76411 -0.38385 0.75139 -0.38211 0.73381 C -0.38055 0.7167 -0.3802 0.71068 -0.37135 0.69889 C -0.35867 0.70051 -0.35503 0.70074 -0.34531 0.70906 C -0.34479 0.71115 -0.34374 0.71323 -0.34374 0.71531 C -0.34374 0.76226 -0.34183 0.75069 -0.34843 0.77683 C -0.34861 0.77752 -0.35034 0.78978 -0.35138 0.79116 C -0.35381 0.7944 -0.35746 0.79533 -0.36058 0.79718 C -0.36354 0.79903 -0.36996 0.80134 -0.36996 0.80134 C -0.39236 0.82192 -0.4342 0.8136 -0.45451 0.8136 E">
                                      <p:cBhvr>
                                        <p:cTn id="195" dur="3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834 0 C -0.00694 0.09528 -0.00225 0.18964 -0.00225 0.28492 C -0.00659 0.29394 -0.01111 0.29348 -0.01909 0.29718 C -0.02239 0.29856 -0.02499 0.30203 -0.02829 0.30342 C -0.02933 0.30758 -0.03107 0.31128 -0.03142 0.31568 C -0.03194 0.32192 -0.03176 0.32817 -0.03298 0.33418 C -0.03437 0.34112 -0.04531 0.34852 -0.04531 0.34852 C -0.05104 0.35939 -0.04826 0.37188 -0.05295 0.38113 C -0.05642 0.38807 -0.06197 0.38922 -0.06683 0.39362 C -0.07343 0.40634 -0.08333 0.4135 -0.09149 0.42437 C -0.09409 0.43409 -0.09218 0.43663 -0.09913 0.44264 C -0.10104 0.45028 -0.09999 0.45953 -0.10225 0.46739 C -0.10277 0.46924 -0.10538 0.46855 -0.10676 0.46924 C -0.1144 0.47456 -0.12274 0.47942 -0.12986 0.48566 C -0.1335 0.49283 -0.13611 0.49537 -0.14218 0.49815 C -0.14583 0.50509 -0.14913 0.50971 -0.15451 0.51434 C -0.16093 0.52706 -0.15381 0.54232 -0.16371 0.55134 C -0.16701 0.55782 -0.17204 0.56059 -0.17447 0.56776 C -0.17586 0.57169 -0.1776 0.58002 -0.1776 0.58002 C -0.17812 0.58696 -0.1776 0.59412 -0.17916 0.6006 C -0.17968 0.60291 -0.18246 0.60291 -0.18367 0.60453 C -0.18506 0.60638 -0.18541 0.60893 -0.1868 0.61078 C -0.19045 0.61563 -0.196 0.61702 -0.20069 0.61887 C -0.20607 0.62373 -0.20989 0.62511 -0.21458 0.63136 C -0.21649 0.63968 -0.22308 0.65032 -0.22829 0.65587 C -0.23124 0.65888 -0.23767 0.66397 -0.23767 0.66397 C -0.24131 0.68016 -0.23715 0.71207 -0.25295 0.71947 C -0.25833 0.72988 -0.26041 0.7308 -0.26371 0.74399 C -0.26527 0.75 -0.26354 0.75786 -0.26683 0.76249 C -0.26788 0.76411 -0.26996 0.76364 -0.27135 0.76457 C -0.27465 0.76688 -0.28072 0.77266 -0.28072 0.77266 C -0.28211 0.79047 -0.28176 0.79764 -0.29444 0.80342 C -0.29861 0.81984 -0.29617 0.82239 -0.30833 0.82794 C -0.31666 0.84436 -0.31406 0.83534 -0.31597 0.85476 C -0.32308 0.85314 -0.32899 0.85268 -0.33454 0.84644 C -0.33975 0.84066 -0.34027 0.8351 -0.34687 0.8321 C -0.35364 0.81822 -0.35937 0.80643 -0.36996 0.79718 C -0.37343 0.79024 -0.3769 0.78561 -0.38211 0.78076 C -0.38645 0.76411 -0.38385 0.75139 -0.38211 0.73381 C -0.38055 0.7167 -0.3802 0.71068 -0.37135 0.69889 C -0.35867 0.70051 -0.35503 0.70074 -0.34531 0.70906 C -0.34479 0.71115 -0.34374 0.71323 -0.34374 0.71531 C -0.34374 0.76226 -0.34183 0.75069 -0.34843 0.77683 C -0.34861 0.77752 -0.35034 0.78978 -0.35138 0.79116 C -0.35381 0.7944 -0.35746 0.79533 -0.36058 0.79718 C -0.36354 0.79903 -0.36996 0.80134 -0.36996 0.80134 C -0.39236 0.82192 -0.4342 0.8136 -0.45451 0.8136 E">
                                      <p:cBhvr>
                                        <p:cTn id="197" dur="3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>
            <a:hlinkClick r:id="rId1" action="ppaction://hlinksldjump"/>
          </p:cNvPr>
          <p:cNvSpPr/>
          <p:nvPr/>
        </p:nvSpPr>
        <p:spPr>
          <a:xfrm>
            <a:off x="1143000" y="457200"/>
            <a:ext cx="6858000" cy="5867280"/>
          </a:xfrm>
          <a:custGeom>
            <a:avLst/>
            <a:gdLst>
              <a:gd name="textAreaLeft" fmla="*/ 871920 w 6858000"/>
              <a:gd name="textAreaRight" fmla="*/ 5986080 w 6858000"/>
              <a:gd name="textAreaTop" fmla="*/ 871920 h 5867280"/>
              <a:gd name="textAreaBottom" fmla="*/ 4995360 h 5867280"/>
            </a:gdLst>
            <a:ahLst/>
            <a:rect l="textAreaLeft" t="textAreaTop" r="textAreaRight" b="textAreaBottom"/>
            <a:pathLst>
              <a:path w="25247" h="21600">
                <a:moveTo>
                  <a:pt x="0" y="0"/>
                </a:moveTo>
                <a:lnTo>
                  <a:pt x="25247" y="0"/>
                </a:lnTo>
                <a:lnTo>
                  <a:pt x="25247" y="21600"/>
                </a:lnTo>
                <a:lnTo>
                  <a:pt x="0" y="21600"/>
                </a:lnTo>
                <a:close/>
              </a:path>
              <a:path fill="lightenLess" w="25247" h="21600">
                <a:moveTo>
                  <a:pt x="0" y="0"/>
                </a:moveTo>
                <a:lnTo>
                  <a:pt x="25247" y="0"/>
                </a:lnTo>
                <a:lnTo>
                  <a:pt x="22037" y="3210"/>
                </a:lnTo>
                <a:lnTo>
                  <a:pt x="3210" y="3210"/>
                </a:lnTo>
                <a:close/>
              </a:path>
              <a:path fill="darken" w="25247" h="21600">
                <a:moveTo>
                  <a:pt x="25247" y="0"/>
                </a:moveTo>
                <a:lnTo>
                  <a:pt x="25247" y="21600"/>
                </a:lnTo>
                <a:lnTo>
                  <a:pt x="22037" y="18390"/>
                </a:lnTo>
                <a:lnTo>
                  <a:pt x="22037" y="3210"/>
                </a:lnTo>
                <a:close/>
              </a:path>
              <a:path fill="darkenLess" w="25247" h="21600">
                <a:moveTo>
                  <a:pt x="25247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22037" y="18390"/>
                </a:lnTo>
                <a:close/>
              </a:path>
              <a:path fill="lighten" w="25247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lay Extrem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scape #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>
            <a:hlinkClick r:id="" action="ppaction://hlinkshowjump?jump=endshow"/>
          </p:cNvPr>
          <p:cNvSpPr/>
          <p:nvPr/>
        </p:nvSpPr>
        <p:spPr>
          <a:xfrm>
            <a:off x="8458200" y="6172200"/>
            <a:ext cx="609480" cy="609480"/>
          </a:xfrm>
          <a:custGeom>
            <a:avLst/>
            <a:gdLst>
              <a:gd name="textAreaLeft" fmla="*/ 91080 w 609480"/>
              <a:gd name="textAreaRight" fmla="*/ 518400 w 609480"/>
              <a:gd name="textAreaTop" fmla="*/ 91080 h 609480"/>
              <a:gd name="textAreaBottom" fmla="*/ 5184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68" y="3232"/>
                </a:lnTo>
                <a:lnTo>
                  <a:pt x="3232" y="323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68" y="18368"/>
                </a:lnTo>
                <a:lnTo>
                  <a:pt x="18368" y="323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8368" y="1836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2"/>
          </p:cNvPr>
          <p:cNvSpPr/>
          <p:nvPr/>
        </p:nvSpPr>
        <p:spPr>
          <a:xfrm>
            <a:off x="76320" y="6172200"/>
            <a:ext cx="609480" cy="609480"/>
          </a:xfrm>
          <a:custGeom>
            <a:avLst/>
            <a:gdLst>
              <a:gd name="textAreaLeft" fmla="*/ 13320 w 609480"/>
              <a:gd name="textAreaRight" fmla="*/ 596160 w 609480"/>
              <a:gd name="textAreaTop" fmla="*/ 13320 h 609480"/>
              <a:gd name="textAreaBottom" fmla="*/ 5961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120" y="480"/>
                </a:lnTo>
                <a:lnTo>
                  <a:pt x="480" y="48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120" y="21120"/>
                </a:lnTo>
                <a:lnTo>
                  <a:pt x="21120" y="48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120" y="2112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8305920" y="1981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5"/>
          <a:stretch/>
        </p:blipFill>
        <p:spPr>
          <a:xfrm>
            <a:off x="8153280" y="28195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6"/>
          <a:stretch/>
        </p:blipFill>
        <p:spPr>
          <a:xfrm>
            <a:off x="76320" y="28195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7"/>
          <a:stretch/>
        </p:blipFill>
        <p:spPr>
          <a:xfrm>
            <a:off x="8153280" y="45720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8"/>
          <a:stretch/>
        </p:blipFill>
        <p:spPr>
          <a:xfrm>
            <a:off x="8153280" y="49528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9"/>
          <a:stretch/>
        </p:blipFill>
        <p:spPr>
          <a:xfrm>
            <a:off x="76320" y="4572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10"/>
          <a:stretch/>
        </p:blipFill>
        <p:spPr>
          <a:xfrm>
            <a:off x="76320" y="49528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90.0)">
                                      <p:cBhvr>
                                        <p:cTn id="203" dur="1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>
            <a:hlinkClick r:id="rId2" action="ppaction://hlinksldjump"/>
          </p:cNvPr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rId3" action="ppaction://hlinksldjump"/>
          </p:cNvPr>
          <p:cNvSpPr/>
          <p:nvPr/>
        </p:nvSpPr>
        <p:spPr>
          <a:xfrm rot="12854400">
            <a:off x="7009920" y="4876200"/>
            <a:ext cx="2133720" cy="1600200"/>
          </a:xfrm>
          <a:prstGeom prst="leftArrow">
            <a:avLst>
              <a:gd name="adj1" fmla="val 50000"/>
              <a:gd name="adj2" fmla="val 69843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*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rId2" action="ppaction://hlinksldjump"/>
          </p:cNvPr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rId3" action="ppaction://hlinksldjump"/>
          </p:cNvPr>
          <p:cNvSpPr/>
          <p:nvPr/>
        </p:nvSpPr>
        <p:spPr>
          <a:xfrm rot="12854400">
            <a:off x="7009920" y="4876200"/>
            <a:ext cx="2133720" cy="1600200"/>
          </a:xfrm>
          <a:prstGeom prst="leftArrow">
            <a:avLst>
              <a:gd name="adj1" fmla="val 50000"/>
              <a:gd name="adj2" fmla="val 69843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**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>
            <a:hlinkClick r:id="rId2" action="ppaction://hlinksldjump"/>
          </p:cNvPr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rId3" action="ppaction://hlinksldjump"/>
          </p:cNvPr>
          <p:cNvSpPr/>
          <p:nvPr/>
        </p:nvSpPr>
        <p:spPr>
          <a:xfrm rot="12854400">
            <a:off x="7009920" y="4876200"/>
            <a:ext cx="2133720" cy="1600200"/>
          </a:xfrm>
          <a:prstGeom prst="leftArrow">
            <a:avLst>
              <a:gd name="adj1" fmla="val 50000"/>
              <a:gd name="adj2" fmla="val 69843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Wro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rId2" action="ppaction://hlinksldjump"/>
          </p:cNvPr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rId3" action="ppaction://hlinksldjump"/>
          </p:cNvPr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rId4" action="ppaction://hlinksldjump"/>
          </p:cNvPr>
          <p:cNvSpPr/>
          <p:nvPr/>
        </p:nvSpPr>
        <p:spPr>
          <a:xfrm rot="12854400">
            <a:off x="7009920" y="4876200"/>
            <a:ext cx="2133720" cy="1600200"/>
          </a:xfrm>
          <a:prstGeom prst="leftArrow">
            <a:avLst>
              <a:gd name="adj1" fmla="val 50000"/>
              <a:gd name="adj2" fmla="val 69843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7543800" y="5029200"/>
            <a:ext cx="160020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502920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43800" y="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52280" y="57913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00"/>
                    </a:gs>
                    <a:gs pos="100000">
                      <a:srgbClr val="ffcc00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00"/>
                  </a:gs>
                  <a:gs pos="100000">
                    <a:srgbClr val="ffcc00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00"/>
                    </a:gs>
                    <a:gs pos="100000">
                      <a:srgbClr val="ffcc00"/>
                    </a:gs>
                  </a:gsLst>
                  <a:lin ang="13500000"/>
                </a:gradFill>
                <a:latin typeface="Comic Sans MS"/>
              </a:rPr>
              <a:t>Escape #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00"/>
                  </a:gs>
                  <a:gs pos="100000">
                    <a:srgbClr val="ffcc00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460" name="">
            <a:hlinkClick r:id="" action="ppaction://hlinkshowjump?jump=endshow"/>
          </p:cNvPr>
          <p:cNvSpPr/>
          <p:nvPr/>
        </p:nvSpPr>
        <p:spPr>
          <a:xfrm>
            <a:off x="4876920" y="5715000"/>
            <a:ext cx="1143000" cy="1143000"/>
          </a:xfrm>
          <a:custGeom>
            <a:avLst/>
            <a:gdLst>
              <a:gd name="textAreaLeft" fmla="*/ 171000 w 1143000"/>
              <a:gd name="textAreaRight" fmla="*/ 972000 w 1143000"/>
              <a:gd name="textAreaTop" fmla="*/ 171000 h 1143000"/>
              <a:gd name="textAreaBottom" fmla="*/ 97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68" y="3232"/>
                </a:lnTo>
                <a:lnTo>
                  <a:pt x="3232" y="323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68" y="18368"/>
                </a:lnTo>
                <a:lnTo>
                  <a:pt x="18368" y="323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8368" y="1836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352680" y="5715000"/>
            <a:ext cx="1143000" cy="1143000"/>
          </a:xfrm>
          <a:custGeom>
            <a:avLst/>
            <a:gdLst>
              <a:gd name="textAreaLeft" fmla="*/ 169560 w 1143000"/>
              <a:gd name="textAreaRight" fmla="*/ 973440 w 1143000"/>
              <a:gd name="textAreaTop" fmla="*/ 169560 h 1143000"/>
              <a:gd name="textAreaBottom" fmla="*/ 9734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90" y="3210"/>
                </a:lnTo>
                <a:lnTo>
                  <a:pt x="3210" y="321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90" y="18390"/>
                </a:lnTo>
                <a:lnTo>
                  <a:pt x="18390" y="321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8390" y="1839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rId1"/>
          </p:cNvPr>
          <p:cNvSpPr/>
          <p:nvPr/>
        </p:nvSpPr>
        <p:spPr>
          <a:xfrm>
            <a:off x="1828800" y="5715000"/>
            <a:ext cx="1143000" cy="1143000"/>
          </a:xfrm>
          <a:custGeom>
            <a:avLst/>
            <a:gdLst>
              <a:gd name="textAreaLeft" fmla="*/ 25200 w 1143000"/>
              <a:gd name="textAreaRight" fmla="*/ 1117800 w 1143000"/>
              <a:gd name="textAreaTop" fmla="*/ 25200 h 1143000"/>
              <a:gd name="textAreaBottom" fmla="*/ 11178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120" y="480"/>
                </a:lnTo>
                <a:lnTo>
                  <a:pt x="480" y="48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120" y="21120"/>
                </a:lnTo>
                <a:lnTo>
                  <a:pt x="21120" y="48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120" y="2112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400800" y="5715000"/>
            <a:ext cx="2514600" cy="990720"/>
          </a:xfrm>
          <a:prstGeom prst="wedgeRoundRectCallout">
            <a:avLst>
              <a:gd name="adj1" fmla="val -54861"/>
              <a:gd name="adj2" fmla="val 6554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>
            <a:hlinkClick r:id="rId3" action="ppaction://hlinksldjump"/>
          </p:cNvPr>
          <p:cNvSpPr/>
          <p:nvPr/>
        </p:nvSpPr>
        <p:spPr>
          <a:xfrm rot="10800000">
            <a:off x="8458200" y="251460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rId4" action="ppaction://hlinksldjump"/>
          </p:cNvPr>
          <p:cNvSpPr/>
          <p:nvPr/>
        </p:nvSpPr>
        <p:spPr>
          <a:xfrm>
            <a:off x="152280" y="251460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5"/>
          <a:stretch/>
        </p:blipFill>
        <p:spPr>
          <a:xfrm>
            <a:off x="914400" y="0"/>
            <a:ext cx="5638680" cy="50403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6477120" y="59119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big and locked steel door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6"/>
          <a:stretch/>
        </p:blipFill>
        <p:spPr>
          <a:xfrm>
            <a:off x="68580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 rot="5400000">
            <a:off x="3552840" y="-2943000"/>
            <a:ext cx="361800" cy="5791320"/>
          </a:xfrm>
          <a:prstGeom prst="can">
            <a:avLst>
              <a:gd name="adj" fmla="val 3981"/>
            </a:avLst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-60948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0880" y="-60948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rId7" action="ppaction://hlinksldjump"/>
          </p:cNvPr>
          <p:cNvSpPr/>
          <p:nvPr/>
        </p:nvSpPr>
        <p:spPr>
          <a:xfrm>
            <a:off x="6781680" y="1905120"/>
            <a:ext cx="5335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>
            <a:hlinkClick r:id="rId8" action="ppaction://hlinksldjump"/>
          </p:cNvPr>
          <p:cNvPicPr/>
          <p:nvPr/>
        </p:nvPicPr>
        <p:blipFill>
          <a:blip r:embed="rId9"/>
          <a:srcRect l="8247" t="22123" r="9493" b="5784"/>
          <a:stretch/>
        </p:blipFill>
        <p:spPr>
          <a:xfrm>
            <a:off x="6858000" y="2209680"/>
            <a:ext cx="361800" cy="457200"/>
          </a:xfrm>
          <a:prstGeom prst="rect">
            <a:avLst/>
          </a:prstGeom>
          <a:ln w="0">
            <a:noFill/>
          </a:ln>
        </p:spPr>
      </p:pic>
      <p:sp>
        <p:nvSpPr>
          <p:cNvPr id="475" name="">
            <a:hlinkClick r:id="rId10" action="ppaction://hlinksldjump"/>
          </p:cNvPr>
          <p:cNvSpPr/>
          <p:nvPr/>
        </p:nvSpPr>
        <p:spPr>
          <a:xfrm>
            <a:off x="6858000" y="1981080"/>
            <a:ext cx="380880" cy="15264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134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3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>
            <a:hlinkClick r:id="rId2" action="ppaction://hlinksldjump"/>
          </p:cNvPr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>
            <a:hlinkClick r:id="rId3" action="ppaction://hlinksldjump"/>
          </p:cNvPr>
          <p:cNvSpPr/>
          <p:nvPr/>
        </p:nvSpPr>
        <p:spPr>
          <a:xfrm rot="13347600">
            <a:off x="7010280" y="609588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4"/>
          <a:stretch/>
        </p:blipFill>
        <p:spPr>
          <a:xfrm>
            <a:off x="-4495680" y="-1066680"/>
            <a:ext cx="5638680" cy="815328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2286000" y="2895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>
            <a:hlinkClick r:id="rId2" action="ppaction://hlinksldjump"/>
          </p:cNvPr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>
            <a:hlinkClick r:id="rId3" action="ppaction://hlinksldjump"/>
          </p:cNvPr>
          <p:cNvSpPr/>
          <p:nvPr/>
        </p:nvSpPr>
        <p:spPr>
          <a:xfrm rot="13347600">
            <a:off x="7010280" y="609588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-4495680" y="-1066680"/>
            <a:ext cx="5638680" cy="815328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 flipH="1">
            <a:off x="4114440" y="1219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143000"/>
            <a:ext cx="86104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00"/>
                    </a:gs>
                    <a:gs pos="100000">
                      <a:srgbClr val="ffcc00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00"/>
                  </a:gs>
                  <a:gs pos="100000">
                    <a:srgbClr val="ffcc00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00"/>
                    </a:gs>
                    <a:gs pos="100000">
                      <a:srgbClr val="ffcc00"/>
                    </a:gs>
                  </a:gsLst>
                  <a:lin ang="13500000"/>
                </a:gradFill>
                <a:latin typeface="Comic Sans MS"/>
              </a:rPr>
              <a:t>Escape #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00"/>
                  </a:gs>
                  <a:gs pos="100000">
                    <a:srgbClr val="ffcc00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50" autoRev="1" fill="hold"/>
                                        <p:tgtEl>
                                          <p:spTgt spid="2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*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>
            <a:hlinkClick r:id="rId2" action="ppaction://hlinksldjump"/>
          </p:cNvPr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>
            <a:hlinkClick r:id="rId3" action="ppaction://hlinksldjump"/>
          </p:cNvPr>
          <p:cNvSpPr/>
          <p:nvPr/>
        </p:nvSpPr>
        <p:spPr>
          <a:xfrm rot="13347600">
            <a:off x="7010280" y="609588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4"/>
          <a:stretch/>
        </p:blipFill>
        <p:spPr>
          <a:xfrm>
            <a:off x="-4495680" y="-1066680"/>
            <a:ext cx="5638680" cy="81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**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>
            <a:hlinkClick r:id="rId2" action="ppaction://hlinksldjump"/>
          </p:cNvPr>
          <p:cNvSpPr/>
          <p:nvPr/>
        </p:nvSpPr>
        <p:spPr>
          <a:xfrm rot="13347600">
            <a:off x="7010280" y="609588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-4495680" y="-1066680"/>
            <a:ext cx="5638680" cy="81532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 flipH="1">
            <a:off x="2285640" y="1219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286000" y="121896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285640" y="1219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Corre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>
            <a:hlinkClick r:id="rId2" action="ppaction://hlinksldjump"/>
          </p:cNvPr>
          <p:cNvSpPr/>
          <p:nvPr/>
        </p:nvSpPr>
        <p:spPr>
          <a:xfrm rot="13347600">
            <a:off x="7010280" y="609588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>
            <a:off x="-4495680" y="-1066680"/>
            <a:ext cx="5638680" cy="815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1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50" autoRev="1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5638680" cy="50403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914400" y="152280"/>
            <a:ext cx="5638680" cy="487692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14400" y="3505320"/>
            <a:ext cx="563868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3580560" y="457200"/>
            <a:ext cx="2971800" cy="304812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Cloud"/>
          <p:cNvSpPr/>
          <p:nvPr/>
        </p:nvSpPr>
        <p:spPr>
          <a:xfrm>
            <a:off x="1523880" y="914400"/>
            <a:ext cx="129564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Cloud"/>
          <p:cNvSpPr/>
          <p:nvPr/>
        </p:nvSpPr>
        <p:spPr>
          <a:xfrm>
            <a:off x="4343400" y="380880"/>
            <a:ext cx="1295280" cy="609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43800" y="5029200"/>
            <a:ext cx="160020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43800" y="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502920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81680" y="1905120"/>
            <a:ext cx="5335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4"/>
          <a:srcRect l="8247" t="22123" r="9493" b="5784"/>
          <a:stretch/>
        </p:blipFill>
        <p:spPr>
          <a:xfrm>
            <a:off x="6858000" y="2209680"/>
            <a:ext cx="361800" cy="4572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6858000" y="1981080"/>
            <a:ext cx="380880" cy="15264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52280" y="57913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00"/>
                    </a:gs>
                    <a:gs pos="100000">
                      <a:srgbClr val="ffcc00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00"/>
                  </a:gs>
                  <a:gs pos="100000">
                    <a:srgbClr val="ffcc00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00"/>
                    </a:gs>
                    <a:gs pos="100000">
                      <a:srgbClr val="ffcc00"/>
                    </a:gs>
                  </a:gsLst>
                  <a:lin ang="13500000"/>
                </a:gradFill>
                <a:latin typeface="Comic Sans MS"/>
              </a:rPr>
              <a:t>Escape #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00"/>
                  </a:gs>
                  <a:gs pos="100000">
                    <a:srgbClr val="ffcc00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570" name="">
            <a:hlinkClick r:id="" action="ppaction://hlinkshowjump?jump=endshow"/>
          </p:cNvPr>
          <p:cNvSpPr/>
          <p:nvPr/>
        </p:nvSpPr>
        <p:spPr>
          <a:xfrm>
            <a:off x="4876920" y="5715000"/>
            <a:ext cx="1143000" cy="1143000"/>
          </a:xfrm>
          <a:custGeom>
            <a:avLst/>
            <a:gdLst>
              <a:gd name="textAreaLeft" fmla="*/ 171000 w 1143000"/>
              <a:gd name="textAreaRight" fmla="*/ 972000 w 1143000"/>
              <a:gd name="textAreaTop" fmla="*/ 171000 h 1143000"/>
              <a:gd name="textAreaBottom" fmla="*/ 97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68" y="3232"/>
                </a:lnTo>
                <a:lnTo>
                  <a:pt x="3232" y="323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68" y="18368"/>
                </a:lnTo>
                <a:lnTo>
                  <a:pt x="18368" y="323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8368" y="1836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5715000"/>
            <a:ext cx="1143000" cy="1143000"/>
          </a:xfrm>
          <a:custGeom>
            <a:avLst/>
            <a:gdLst>
              <a:gd name="textAreaLeft" fmla="*/ 25200 w 1143000"/>
              <a:gd name="textAreaRight" fmla="*/ 1117800 w 1143000"/>
              <a:gd name="textAreaTop" fmla="*/ 25200 h 1143000"/>
              <a:gd name="textAreaBottom" fmla="*/ 11178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120" y="480"/>
                </a:lnTo>
                <a:lnTo>
                  <a:pt x="480" y="48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120" y="21120"/>
                </a:lnTo>
                <a:lnTo>
                  <a:pt x="21120" y="48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120" y="2112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400800" y="5715000"/>
            <a:ext cx="2514600" cy="990720"/>
          </a:xfrm>
          <a:prstGeom prst="wedgeRoundRectCallout">
            <a:avLst>
              <a:gd name="adj1" fmla="val -54861"/>
              <a:gd name="adj2" fmla="val 6554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477120" y="603396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’m Fre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-60948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80880" y="-60948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38080" y="-60948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14400" y="152280"/>
            <a:ext cx="5638680" cy="4876920"/>
          </a:xfrm>
          <a:prstGeom prst="rect">
            <a:avLst/>
          </a:prstGeom>
          <a:noFill/>
          <a:ln w="12600">
            <a:solidFill>
              <a:srgbClr val="80808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6"/>
          <a:stretch/>
        </p:blipFill>
        <p:spPr>
          <a:xfrm>
            <a:off x="-4724280" y="141120"/>
            <a:ext cx="5638680" cy="488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9" name=""/>
          <p:cNvSpPr/>
          <p:nvPr/>
        </p:nvSpPr>
        <p:spPr>
          <a:xfrm rot="5400000">
            <a:off x="3552840" y="-2943000"/>
            <a:ext cx="361800" cy="5791320"/>
          </a:xfrm>
          <a:prstGeom prst="can">
            <a:avLst>
              <a:gd name="adj" fmla="val 3981"/>
            </a:avLst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7"/>
          <a:stretch/>
        </p:blipFill>
        <p:spPr>
          <a:xfrm>
            <a:off x="7010280" y="609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0"/>
            <a:ext cx="914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295280" y="-60948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352680" y="5715000"/>
            <a:ext cx="1143000" cy="1143000"/>
          </a:xfrm>
          <a:custGeom>
            <a:avLst/>
            <a:gdLst>
              <a:gd name="textAreaLeft" fmla="*/ 169560 w 1143000"/>
              <a:gd name="textAreaRight" fmla="*/ 973440 w 1143000"/>
              <a:gd name="textAreaTop" fmla="*/ 169560 h 1143000"/>
              <a:gd name="textAreaBottom" fmla="*/ 9734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90" y="3210"/>
                </a:lnTo>
                <a:lnTo>
                  <a:pt x="3210" y="321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90" y="18390"/>
                </a:lnTo>
                <a:lnTo>
                  <a:pt x="18390" y="321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8390" y="1839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642 -3.23774E-006 L 0.61642 -0.73265 E">
                                      <p:cBhvr>
                                        <p:cTn id="236" dur="3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1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3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8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624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1515"/>
                </a:solidFill>
                <a:latin typeface="Arial"/>
              </a:rPr>
              <a:t>Congratulations!!!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 u="sng">
                <a:solidFill>
                  <a:srgbClr val="ff1515"/>
                </a:solidFill>
                <a:uFillTx/>
                <a:latin typeface="Arial"/>
              </a:rPr>
              <a:t>Extreme Escape #2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1515"/>
                </a:solidFill>
                <a:latin typeface="Arial"/>
              </a:rPr>
              <a:t>Designed &amp; Created By:</a:t>
            </a:r>
            <a:br>
              <a:rPr sz="3200"/>
            </a:br>
            <a:r>
              <a:rPr b="0" lang="en-US" sz="3200" spc="-1" strike="noStrike">
                <a:solidFill>
                  <a:srgbClr val="ff1515"/>
                </a:solidFill>
                <a:latin typeface="Arial"/>
              </a:rPr>
              <a:t>Benjamin M. War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1515"/>
                </a:solidFill>
                <a:latin typeface="Arial"/>
              </a:rPr>
              <a:t>Coded By:</a:t>
            </a:r>
            <a:br>
              <a:rPr sz="3200"/>
            </a:br>
            <a:r>
              <a:rPr b="0" lang="en-US" sz="3200" spc="-1" strike="noStrike">
                <a:solidFill>
                  <a:srgbClr val="ff1515"/>
                </a:solidFill>
                <a:latin typeface="Arial"/>
              </a:rPr>
              <a:t>Benjamin M. War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1515"/>
                </a:solidFill>
                <a:latin typeface="Arial"/>
              </a:rPr>
              <a:t>Animations By:</a:t>
            </a:r>
            <a:r>
              <a:rPr b="0" lang="en-US" sz="3200" spc="-1" strike="noStrike">
                <a:solidFill>
                  <a:srgbClr val="ff1515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1515"/>
                </a:solidFill>
                <a:latin typeface="Arial"/>
              </a:rPr>
              <a:t>Benjamin M. War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1515"/>
                </a:solidFill>
                <a:latin typeface="Arial"/>
              </a:rPr>
              <a:t>Graphics By:</a:t>
            </a:r>
            <a:br>
              <a:rPr sz="3200"/>
            </a:br>
            <a:r>
              <a:rPr b="0" lang="en-US" sz="3200" spc="-1" strike="noStrike">
                <a:solidFill>
                  <a:srgbClr val="ff1515"/>
                </a:solidFill>
                <a:latin typeface="Arial"/>
              </a:rPr>
              <a:t>Benjamin M. War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1515"/>
                </a:solidFill>
                <a:latin typeface="Arial"/>
              </a:rPr>
              <a:t>Music By:</a:t>
            </a:r>
            <a:br>
              <a:rPr sz="3200"/>
            </a:br>
            <a:r>
              <a:rPr b="0" lang="en-US" sz="3200" spc="-1" strike="noStrike">
                <a:solidFill>
                  <a:srgbClr val="ff1515"/>
                </a:solidFill>
                <a:latin typeface="Arial"/>
              </a:rPr>
              <a:t>FuZZneK</a:t>
            </a:r>
            <a:br>
              <a:rPr sz="3200"/>
            </a:br>
            <a:r>
              <a:rPr b="0" lang="en-US" sz="3200" spc="-1" strike="noStrike">
                <a:solidFill>
                  <a:srgbClr val="ff1515"/>
                </a:solidFill>
                <a:latin typeface="Arial"/>
              </a:rPr>
              <a:t>Linkin Park</a:t>
            </a:r>
            <a:br>
              <a:rPr sz="3200"/>
            </a:br>
            <a:r>
              <a:rPr b="0" lang="en-US" sz="3200" spc="-1" strike="noStrike">
                <a:solidFill>
                  <a:srgbClr val="ff1515"/>
                </a:solidFill>
                <a:latin typeface="Arial"/>
              </a:rPr>
              <a:t>Breaking Benjamin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1515"/>
                </a:solidFill>
                <a:latin typeface="Arial"/>
              </a:rPr>
              <a:t>Dedicated To:</a:t>
            </a:r>
            <a:br>
              <a:rPr sz="3200"/>
            </a:br>
            <a:r>
              <a:rPr b="0" lang="en-US" sz="3200" spc="-1" strike="noStrike">
                <a:solidFill>
                  <a:srgbClr val="ff1515"/>
                </a:solidFill>
                <a:latin typeface="Arial"/>
              </a:rPr>
              <a:t>My Brother Nolan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1515"/>
                </a:solidFill>
                <a:latin typeface="Arial"/>
              </a:rPr>
              <a:t>©Copyright 2007 B.M.W. Productio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7848720" y="1523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" fill="hold"/>
                                        <p:tgtEl>
                                          <p:spTgt spid="5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2057400" y="1676520"/>
            <a:ext cx="472428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00"/>
                    </a:gs>
                    <a:gs pos="100000">
                      <a:srgbClr val="ffcc00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00"/>
                  </a:gs>
                  <a:gs pos="100000">
                    <a:srgbClr val="ffcc00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00"/>
                    </a:gs>
                    <a:gs pos="100000">
                      <a:srgbClr val="ffcc00"/>
                    </a:gs>
                  </a:gsLst>
                  <a:lin ang="13500000"/>
                </a:gradFill>
                <a:latin typeface="Comic Sans MS"/>
              </a:rPr>
              <a:t>Escape #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00"/>
                  </a:gs>
                  <a:gs pos="100000">
                    <a:srgbClr val="ffcc00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1981080" y="120600"/>
            <a:ext cx="510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1515"/>
                </a:solidFill>
                <a:latin typeface="Comic Sans MS"/>
              </a:rPr>
              <a:t>Congratulation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1515"/>
                </a:solidFill>
                <a:latin typeface="Comic Sans MS"/>
              </a:rPr>
              <a:t>You Completed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>
            <a:hlinkClick r:id="" action="ppaction://hlinkshowjump?jump=endshow"/>
          </p:cNvPr>
          <p:cNvSpPr/>
          <p:nvPr/>
        </p:nvSpPr>
        <p:spPr>
          <a:xfrm>
            <a:off x="6400800" y="4648320"/>
            <a:ext cx="2133720" cy="2057400"/>
          </a:xfrm>
          <a:custGeom>
            <a:avLst/>
            <a:gdLst>
              <a:gd name="textAreaLeft" fmla="*/ 307800 w 2133720"/>
              <a:gd name="textAreaRight" fmla="*/ 1825920 w 2133720"/>
              <a:gd name="textAreaTop" fmla="*/ 307800 h 2057400"/>
              <a:gd name="textAreaBottom" fmla="*/ 1749600 h 2057400"/>
            </a:gdLst>
            <a:ahLst/>
            <a:rect l="textAreaLeft" t="textAreaTop" r="textAreaRight" b="textAreaBottom"/>
            <a:pathLst>
              <a:path w="22401" h="21600">
                <a:moveTo>
                  <a:pt x="0" y="0"/>
                </a:moveTo>
                <a:lnTo>
                  <a:pt x="22401" y="0"/>
                </a:lnTo>
                <a:lnTo>
                  <a:pt x="22401" y="21600"/>
                </a:lnTo>
                <a:lnTo>
                  <a:pt x="0" y="21600"/>
                </a:lnTo>
                <a:close/>
              </a:path>
              <a:path fill="lightenLess" w="22401" h="21600">
                <a:moveTo>
                  <a:pt x="0" y="0"/>
                </a:moveTo>
                <a:lnTo>
                  <a:pt x="22401" y="0"/>
                </a:lnTo>
                <a:lnTo>
                  <a:pt x="19169" y="3232"/>
                </a:lnTo>
                <a:lnTo>
                  <a:pt x="3232" y="3232"/>
                </a:lnTo>
                <a:close/>
              </a:path>
              <a:path fill="darken" w="22401" h="21600">
                <a:moveTo>
                  <a:pt x="22401" y="0"/>
                </a:moveTo>
                <a:lnTo>
                  <a:pt x="22401" y="21600"/>
                </a:lnTo>
                <a:lnTo>
                  <a:pt x="19169" y="18368"/>
                </a:lnTo>
                <a:lnTo>
                  <a:pt x="19169" y="3232"/>
                </a:lnTo>
                <a:close/>
              </a:path>
              <a:path fill="darkenLess" w="22401" h="21600">
                <a:moveTo>
                  <a:pt x="22401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9169" y="18368"/>
                </a:lnTo>
                <a:close/>
              </a:path>
              <a:path fill="lighten" w="22401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505320" y="4648320"/>
            <a:ext cx="2133360" cy="2057400"/>
          </a:xfrm>
          <a:custGeom>
            <a:avLst/>
            <a:gdLst>
              <a:gd name="textAreaLeft" fmla="*/ 305640 w 2133360"/>
              <a:gd name="textAreaRight" fmla="*/ 1827720 w 2133360"/>
              <a:gd name="textAreaTop" fmla="*/ 305640 h 2057400"/>
              <a:gd name="textAreaBottom" fmla="*/ 1751760 h 2057400"/>
            </a:gdLst>
            <a:ahLst/>
            <a:rect l="textAreaLeft" t="textAreaTop" r="textAreaRight" b="textAreaBottom"/>
            <a:pathLst>
              <a:path w="22397" h="21600">
                <a:moveTo>
                  <a:pt x="0" y="0"/>
                </a:moveTo>
                <a:lnTo>
                  <a:pt x="22397" y="0"/>
                </a:lnTo>
                <a:lnTo>
                  <a:pt x="22397" y="21600"/>
                </a:lnTo>
                <a:lnTo>
                  <a:pt x="0" y="21600"/>
                </a:lnTo>
                <a:close/>
              </a:path>
              <a:path fill="lightenLess" w="22397" h="21600">
                <a:moveTo>
                  <a:pt x="0" y="0"/>
                </a:moveTo>
                <a:lnTo>
                  <a:pt x="22397" y="0"/>
                </a:lnTo>
                <a:lnTo>
                  <a:pt x="19187" y="3210"/>
                </a:lnTo>
                <a:lnTo>
                  <a:pt x="3210" y="3210"/>
                </a:lnTo>
                <a:close/>
              </a:path>
              <a:path fill="darken" w="22397" h="21600">
                <a:moveTo>
                  <a:pt x="22397" y="0"/>
                </a:moveTo>
                <a:lnTo>
                  <a:pt x="22397" y="21600"/>
                </a:lnTo>
                <a:lnTo>
                  <a:pt x="19187" y="18390"/>
                </a:lnTo>
                <a:lnTo>
                  <a:pt x="19187" y="3210"/>
                </a:lnTo>
                <a:close/>
              </a:path>
              <a:path fill="darkenLess" w="22397" h="21600">
                <a:moveTo>
                  <a:pt x="22397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9187" y="18390"/>
                </a:lnTo>
                <a:close/>
              </a:path>
              <a:path fill="lighten" w="22397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09480" y="4648320"/>
            <a:ext cx="2133720" cy="2057400"/>
          </a:xfrm>
          <a:custGeom>
            <a:avLst/>
            <a:gdLst>
              <a:gd name="textAreaLeft" fmla="*/ 45720 w 2133720"/>
              <a:gd name="textAreaRight" fmla="*/ 2088000 w 2133720"/>
              <a:gd name="textAreaTop" fmla="*/ 45720 h 2057400"/>
              <a:gd name="textAreaBottom" fmla="*/ 2011680 h 2057400"/>
            </a:gdLst>
            <a:ahLst/>
            <a:rect l="textAreaLeft" t="textAreaTop" r="textAreaRight" b="textAreaBottom"/>
            <a:pathLst>
              <a:path w="22401" h="21600">
                <a:moveTo>
                  <a:pt x="0" y="0"/>
                </a:moveTo>
                <a:lnTo>
                  <a:pt x="22401" y="0"/>
                </a:lnTo>
                <a:lnTo>
                  <a:pt x="22401" y="21600"/>
                </a:lnTo>
                <a:lnTo>
                  <a:pt x="0" y="21600"/>
                </a:lnTo>
                <a:close/>
              </a:path>
              <a:path fill="lightenLess" w="22401" h="21600">
                <a:moveTo>
                  <a:pt x="0" y="0"/>
                </a:moveTo>
                <a:lnTo>
                  <a:pt x="22401" y="0"/>
                </a:lnTo>
                <a:lnTo>
                  <a:pt x="21921" y="480"/>
                </a:lnTo>
                <a:lnTo>
                  <a:pt x="480" y="480"/>
                </a:lnTo>
                <a:close/>
              </a:path>
              <a:path fill="darken" w="22401" h="21600">
                <a:moveTo>
                  <a:pt x="22401" y="0"/>
                </a:moveTo>
                <a:lnTo>
                  <a:pt x="22401" y="21600"/>
                </a:lnTo>
                <a:lnTo>
                  <a:pt x="21921" y="21120"/>
                </a:lnTo>
                <a:lnTo>
                  <a:pt x="21921" y="480"/>
                </a:lnTo>
                <a:close/>
              </a:path>
              <a:path fill="darkenLess" w="22401" h="21600">
                <a:moveTo>
                  <a:pt x="22401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921" y="21120"/>
                </a:lnTo>
                <a:close/>
              </a:path>
              <a:path fill="lighten" w="22401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7238880" y="28954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7238880" y="14479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4"/>
          <a:stretch/>
        </p:blipFill>
        <p:spPr>
          <a:xfrm>
            <a:off x="7238880" y="-7632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5"/>
          <a:stretch/>
        </p:blipFill>
        <p:spPr>
          <a:xfrm>
            <a:off x="152280" y="28954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6"/>
          <a:stretch/>
        </p:blipFill>
        <p:spPr>
          <a:xfrm>
            <a:off x="152280" y="14479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7"/>
          <a:stretch/>
        </p:blipFill>
        <p:spPr>
          <a:xfrm>
            <a:off x="152280" y="-76320"/>
            <a:ext cx="1752840" cy="1752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>
            <a:hlinkClick r:id="rId2" action="ppaction://hlinksldjump"/>
          </p:cNvPr>
          <p:cNvSpPr/>
          <p:nvPr/>
        </p:nvSpPr>
        <p:spPr>
          <a:xfrm rot="13347600">
            <a:off x="7010280" y="609588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-4495680" y="-1066680"/>
            <a:ext cx="5638680" cy="81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*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>
            <a:hlinkClick r:id="rId2" action="ppaction://hlinksldjump"/>
          </p:cNvPr>
          <p:cNvSpPr/>
          <p:nvPr/>
        </p:nvSpPr>
        <p:spPr>
          <a:xfrm rot="13347600">
            <a:off x="7010280" y="609588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3"/>
          <a:stretch/>
        </p:blipFill>
        <p:spPr>
          <a:xfrm>
            <a:off x="-4495680" y="-1066680"/>
            <a:ext cx="5638680" cy="81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**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>
            <a:hlinkClick r:id="rId2" action="ppaction://hlinksldjump"/>
          </p:cNvPr>
          <p:cNvSpPr/>
          <p:nvPr/>
        </p:nvSpPr>
        <p:spPr>
          <a:xfrm rot="13347600">
            <a:off x="7010280" y="609588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3"/>
          <a:stretch/>
        </p:blipFill>
        <p:spPr>
          <a:xfrm>
            <a:off x="-4495680" y="-1066680"/>
            <a:ext cx="5638680" cy="81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Wro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>
            <a:hlinkClick r:id="rId2" action="ppaction://hlinksldjump"/>
          </p:cNvPr>
          <p:cNvSpPr/>
          <p:nvPr/>
        </p:nvSpPr>
        <p:spPr>
          <a:xfrm rot="13347600">
            <a:off x="7010280" y="609588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3"/>
          <a:stretch/>
        </p:blipFill>
        <p:spPr>
          <a:xfrm>
            <a:off x="-4495680" y="-1066680"/>
            <a:ext cx="5638680" cy="81532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2286000" y="2895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0" y="304920"/>
            <a:ext cx="86104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00"/>
                    </a:gs>
                    <a:gs pos="100000">
                      <a:srgbClr val="ffcc00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00"/>
                  </a:gs>
                  <a:gs pos="100000">
                    <a:srgbClr val="ffcc00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00"/>
                    </a:gs>
                    <a:gs pos="100000">
                      <a:srgbClr val="ffcc00"/>
                    </a:gs>
                  </a:gsLst>
                  <a:lin ang="13500000"/>
                </a:gradFill>
                <a:latin typeface="Comic Sans MS"/>
              </a:rPr>
              <a:t>Escape #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00"/>
                  </a:gs>
                  <a:gs pos="100000">
                    <a:srgbClr val="ffcc00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217" name="">
            <a:hlinkClick r:id="rId1"/>
          </p:cNvPr>
          <p:cNvSpPr/>
          <p:nvPr/>
        </p:nvSpPr>
        <p:spPr>
          <a:xfrm>
            <a:off x="609480" y="4648320"/>
            <a:ext cx="2133720" cy="2057400"/>
          </a:xfrm>
          <a:custGeom>
            <a:avLst/>
            <a:gdLst>
              <a:gd name="textAreaLeft" fmla="*/ 45720 w 2133720"/>
              <a:gd name="textAreaRight" fmla="*/ 2088000 w 2133720"/>
              <a:gd name="textAreaTop" fmla="*/ 45720 h 2057400"/>
              <a:gd name="textAreaBottom" fmla="*/ 2011680 h 2057400"/>
            </a:gdLst>
            <a:ahLst/>
            <a:rect l="textAreaLeft" t="textAreaTop" r="textAreaRight" b="textAreaBottom"/>
            <a:pathLst>
              <a:path w="22401" h="21600">
                <a:moveTo>
                  <a:pt x="0" y="0"/>
                </a:moveTo>
                <a:lnTo>
                  <a:pt x="22401" y="0"/>
                </a:lnTo>
                <a:lnTo>
                  <a:pt x="22401" y="21600"/>
                </a:lnTo>
                <a:lnTo>
                  <a:pt x="0" y="21600"/>
                </a:lnTo>
                <a:close/>
              </a:path>
              <a:path fill="lightenLess" w="22401" h="21600">
                <a:moveTo>
                  <a:pt x="0" y="0"/>
                </a:moveTo>
                <a:lnTo>
                  <a:pt x="22401" y="0"/>
                </a:lnTo>
                <a:lnTo>
                  <a:pt x="21921" y="480"/>
                </a:lnTo>
                <a:lnTo>
                  <a:pt x="480" y="480"/>
                </a:lnTo>
                <a:close/>
              </a:path>
              <a:path fill="darken" w="22401" h="21600">
                <a:moveTo>
                  <a:pt x="22401" y="0"/>
                </a:moveTo>
                <a:lnTo>
                  <a:pt x="22401" y="21600"/>
                </a:lnTo>
                <a:lnTo>
                  <a:pt x="21921" y="21120"/>
                </a:lnTo>
                <a:lnTo>
                  <a:pt x="21921" y="480"/>
                </a:lnTo>
                <a:close/>
              </a:path>
              <a:path fill="darkenLess" w="22401" h="21600">
                <a:moveTo>
                  <a:pt x="22401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921" y="21120"/>
                </a:lnTo>
                <a:close/>
              </a:path>
              <a:path fill="lighten" w="22401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3" action="ppaction://hlinksldjump"/>
          </p:cNvPr>
          <p:cNvSpPr/>
          <p:nvPr/>
        </p:nvSpPr>
        <p:spPr>
          <a:xfrm>
            <a:off x="3505320" y="4648320"/>
            <a:ext cx="2133360" cy="2057400"/>
          </a:xfrm>
          <a:custGeom>
            <a:avLst/>
            <a:gdLst>
              <a:gd name="textAreaLeft" fmla="*/ 305640 w 2133360"/>
              <a:gd name="textAreaRight" fmla="*/ 1827720 w 2133360"/>
              <a:gd name="textAreaTop" fmla="*/ 305640 h 2057400"/>
              <a:gd name="textAreaBottom" fmla="*/ 1751760 h 2057400"/>
            </a:gdLst>
            <a:ahLst/>
            <a:rect l="textAreaLeft" t="textAreaTop" r="textAreaRight" b="textAreaBottom"/>
            <a:pathLst>
              <a:path w="22397" h="21600">
                <a:moveTo>
                  <a:pt x="0" y="0"/>
                </a:moveTo>
                <a:lnTo>
                  <a:pt x="22397" y="0"/>
                </a:lnTo>
                <a:lnTo>
                  <a:pt x="22397" y="21600"/>
                </a:lnTo>
                <a:lnTo>
                  <a:pt x="0" y="21600"/>
                </a:lnTo>
                <a:close/>
              </a:path>
              <a:path fill="lightenLess" w="22397" h="21600">
                <a:moveTo>
                  <a:pt x="0" y="0"/>
                </a:moveTo>
                <a:lnTo>
                  <a:pt x="22397" y="0"/>
                </a:lnTo>
                <a:lnTo>
                  <a:pt x="19187" y="3210"/>
                </a:lnTo>
                <a:lnTo>
                  <a:pt x="3210" y="3210"/>
                </a:lnTo>
                <a:close/>
              </a:path>
              <a:path fill="darken" w="22397" h="21600">
                <a:moveTo>
                  <a:pt x="22397" y="0"/>
                </a:moveTo>
                <a:lnTo>
                  <a:pt x="22397" y="21600"/>
                </a:lnTo>
                <a:lnTo>
                  <a:pt x="19187" y="18390"/>
                </a:lnTo>
                <a:lnTo>
                  <a:pt x="19187" y="3210"/>
                </a:lnTo>
                <a:close/>
              </a:path>
              <a:path fill="darkenLess" w="22397" h="21600">
                <a:moveTo>
                  <a:pt x="22397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9187" y="18390"/>
                </a:lnTo>
                <a:close/>
              </a:path>
              <a:path fill="lighten" w="22397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ter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om Extre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cape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endshow"/>
          </p:cNvPr>
          <p:cNvSpPr/>
          <p:nvPr/>
        </p:nvSpPr>
        <p:spPr>
          <a:xfrm>
            <a:off x="6400800" y="4648320"/>
            <a:ext cx="2133720" cy="2057400"/>
          </a:xfrm>
          <a:custGeom>
            <a:avLst/>
            <a:gdLst>
              <a:gd name="textAreaLeft" fmla="*/ 307800 w 2133720"/>
              <a:gd name="textAreaRight" fmla="*/ 1825920 w 2133720"/>
              <a:gd name="textAreaTop" fmla="*/ 307800 h 2057400"/>
              <a:gd name="textAreaBottom" fmla="*/ 1749600 h 2057400"/>
            </a:gdLst>
            <a:ahLst/>
            <a:rect l="textAreaLeft" t="textAreaTop" r="textAreaRight" b="textAreaBottom"/>
            <a:pathLst>
              <a:path w="22401" h="21600">
                <a:moveTo>
                  <a:pt x="0" y="0"/>
                </a:moveTo>
                <a:lnTo>
                  <a:pt x="22401" y="0"/>
                </a:lnTo>
                <a:lnTo>
                  <a:pt x="22401" y="21600"/>
                </a:lnTo>
                <a:lnTo>
                  <a:pt x="0" y="21600"/>
                </a:lnTo>
                <a:close/>
              </a:path>
              <a:path fill="lightenLess" w="22401" h="21600">
                <a:moveTo>
                  <a:pt x="0" y="0"/>
                </a:moveTo>
                <a:lnTo>
                  <a:pt x="22401" y="0"/>
                </a:lnTo>
                <a:lnTo>
                  <a:pt x="19169" y="3232"/>
                </a:lnTo>
                <a:lnTo>
                  <a:pt x="3232" y="3232"/>
                </a:lnTo>
                <a:close/>
              </a:path>
              <a:path fill="darken" w="22401" h="21600">
                <a:moveTo>
                  <a:pt x="22401" y="0"/>
                </a:moveTo>
                <a:lnTo>
                  <a:pt x="22401" y="21600"/>
                </a:lnTo>
                <a:lnTo>
                  <a:pt x="19169" y="18368"/>
                </a:lnTo>
                <a:lnTo>
                  <a:pt x="19169" y="3232"/>
                </a:lnTo>
                <a:close/>
              </a:path>
              <a:path fill="darkenLess" w="22401" h="21600">
                <a:moveTo>
                  <a:pt x="22401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9169" y="18368"/>
                </a:lnTo>
                <a:close/>
              </a:path>
              <a:path fill="lighten" w="22401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4114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*Must have completed Extreme Escape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010280" y="380880"/>
            <a:ext cx="2057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Click Here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to Play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scape #1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222" name="">
            <a:hlinkClick r:id="rId4" action="ppaction://hlinksldjump"/>
          </p:cNvPr>
          <p:cNvSpPr/>
          <p:nvPr/>
        </p:nvSpPr>
        <p:spPr>
          <a:xfrm>
            <a:off x="8381880" y="2666880"/>
            <a:ext cx="609840" cy="6098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11111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20262000">
            <a:off x="8305920" y="2238120"/>
            <a:ext cx="304560" cy="380880"/>
          </a:xfrm>
          <a:prstGeom prst="downArrow">
            <a:avLst>
              <a:gd name="adj1" fmla="val 36537"/>
              <a:gd name="adj2" fmla="val 6176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remove" presetClass="emph" presetID="25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 flipV="1">
            <a:off x="0" y="3733560"/>
            <a:ext cx="60958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 flipV="1">
            <a:off x="6095520" y="3733560"/>
            <a:ext cx="30481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rot="4072800">
            <a:off x="6819840" y="3543120"/>
            <a:ext cx="685800" cy="457200"/>
          </a:xfrm>
          <a:custGeom>
            <a:avLst/>
            <a:gdLst>
              <a:gd name="textAreaLeft" fmla="*/ 0 w 685800"/>
              <a:gd name="textAreaRight" fmla="*/ 686160 w 68580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572000" y="914400"/>
            <a:ext cx="2743200" cy="3733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24280" y="1066680"/>
            <a:ext cx="2438640" cy="1600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tencil"/>
              </a:rPr>
              <a:t>Press The “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tenci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tencil"/>
              </a:rPr>
              <a:t>Button Whe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tencil"/>
              </a:rPr>
              <a:t>Screen Turns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5288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tencil"/>
              </a:rPr>
              <a:t>Tickets</a:t>
            </a:r>
            <a:r>
              <a:rPr b="1" lang="en-US" sz="1800" spc="-1" strike="noStrike">
                <a:solidFill>
                  <a:srgbClr val="ffffff"/>
                </a:solidFill>
                <a:latin typeface="Stenci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324480" y="4038480"/>
            <a:ext cx="45720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rot="5210400">
            <a:off x="6210000" y="4152600"/>
            <a:ext cx="762120" cy="533520"/>
          </a:xfrm>
          <a:custGeom>
            <a:avLst/>
            <a:gdLst>
              <a:gd name="textAreaLeft" fmla="*/ 0 w 762120"/>
              <a:gd name="textAreaRight" fmla="*/ 762480 w 762120"/>
              <a:gd name="textAreaTop" fmla="*/ 69120 h 533520"/>
              <a:gd name="textAreaBottom" fmla="*/ 4644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52280" y="57913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00"/>
                    </a:gs>
                    <a:gs pos="100000">
                      <a:srgbClr val="ffcc00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00"/>
                  </a:gs>
                  <a:gs pos="100000">
                    <a:srgbClr val="ffcc00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00"/>
                    </a:gs>
                    <a:gs pos="100000">
                      <a:srgbClr val="ffcc00"/>
                    </a:gs>
                  </a:gsLst>
                  <a:lin ang="13500000"/>
                </a:gradFill>
                <a:latin typeface="Comic Sans MS"/>
              </a:rPr>
              <a:t>Escape #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00"/>
                  </a:gs>
                  <a:gs pos="100000">
                    <a:srgbClr val="ffcc00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671" name="">
            <a:hlinkClick r:id="" action="ppaction://hlinkshowjump?jump=endshow"/>
          </p:cNvPr>
          <p:cNvSpPr/>
          <p:nvPr/>
        </p:nvSpPr>
        <p:spPr>
          <a:xfrm>
            <a:off x="4876920" y="5715000"/>
            <a:ext cx="1143000" cy="1143000"/>
          </a:xfrm>
          <a:custGeom>
            <a:avLst/>
            <a:gdLst>
              <a:gd name="textAreaLeft" fmla="*/ 171000 w 1143000"/>
              <a:gd name="textAreaRight" fmla="*/ 972000 w 1143000"/>
              <a:gd name="textAreaTop" fmla="*/ 171000 h 1143000"/>
              <a:gd name="textAreaBottom" fmla="*/ 97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68" y="3232"/>
                </a:lnTo>
                <a:lnTo>
                  <a:pt x="3232" y="323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68" y="18368"/>
                </a:lnTo>
                <a:lnTo>
                  <a:pt x="18368" y="323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8368" y="1836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>
            <a:hlinkClick r:id="rId1"/>
          </p:cNvPr>
          <p:cNvSpPr/>
          <p:nvPr/>
        </p:nvSpPr>
        <p:spPr>
          <a:xfrm>
            <a:off x="1828800" y="5715000"/>
            <a:ext cx="1143000" cy="1143000"/>
          </a:xfrm>
          <a:custGeom>
            <a:avLst/>
            <a:gdLst>
              <a:gd name="textAreaLeft" fmla="*/ 25200 w 1143000"/>
              <a:gd name="textAreaRight" fmla="*/ 1117800 w 1143000"/>
              <a:gd name="textAreaTop" fmla="*/ 25200 h 1143000"/>
              <a:gd name="textAreaBottom" fmla="*/ 11178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120" y="480"/>
                </a:lnTo>
                <a:lnTo>
                  <a:pt x="480" y="48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120" y="21120"/>
                </a:lnTo>
                <a:lnTo>
                  <a:pt x="21120" y="48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120" y="2112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400800" y="5715000"/>
            <a:ext cx="2514600" cy="990720"/>
          </a:xfrm>
          <a:prstGeom prst="wedgeRoundRectCallout">
            <a:avLst>
              <a:gd name="adj1" fmla="val -54861"/>
              <a:gd name="adj2" fmla="val 6554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867280" y="2971800"/>
            <a:ext cx="609840" cy="609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encil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800600" y="2895480"/>
            <a:ext cx="838080" cy="3049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tenci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828800" y="-53352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867280" y="2971800"/>
            <a:ext cx="60984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3"/>
          <a:stretch/>
        </p:blipFill>
        <p:spPr>
          <a:xfrm>
            <a:off x="2209680" y="2133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79" name="">
            <a:hlinkClick r:id="rId4" action="ppaction://hlinksldjump"/>
          </p:cNvPr>
          <p:cNvSpPr/>
          <p:nvPr/>
        </p:nvSpPr>
        <p:spPr>
          <a:xfrm>
            <a:off x="7391520" y="3809880"/>
            <a:ext cx="152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>
            <a:hlinkClick r:id="rId5" action="ppaction://hlinksldjump"/>
          </p:cNvPr>
          <p:cNvSpPr/>
          <p:nvPr/>
        </p:nvSpPr>
        <p:spPr>
          <a:xfrm rot="10800000">
            <a:off x="8458200" y="251460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>
            <a:hlinkClick r:id="rId6" action="ppaction://hlinksldjump"/>
          </p:cNvPr>
          <p:cNvSpPr/>
          <p:nvPr/>
        </p:nvSpPr>
        <p:spPr>
          <a:xfrm>
            <a:off x="152280" y="251460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666880" y="-53352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5715000"/>
            <a:ext cx="1143000" cy="1143000"/>
          </a:xfrm>
          <a:custGeom>
            <a:avLst/>
            <a:gdLst>
              <a:gd name="textAreaLeft" fmla="*/ 169560 w 1143000"/>
              <a:gd name="textAreaRight" fmla="*/ 973440 w 1143000"/>
              <a:gd name="textAreaTop" fmla="*/ 169560 h 1143000"/>
              <a:gd name="textAreaBottom" fmla="*/ 9734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90" y="3210"/>
                </a:lnTo>
                <a:lnTo>
                  <a:pt x="3210" y="321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90" y="18390"/>
                </a:lnTo>
                <a:lnTo>
                  <a:pt x="18390" y="321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8390" y="1839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7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autoRev="1" nodeType="withEffect" fill="remove" presetClass="emph" presetID="1" presetSubtype="2" repeatCount="1000">
                                  <p:stCondLst>
                                    <p:cond delay="3800"/>
                                  </p:stCondLst>
                                  <p:childTnLst>
                                    <p:animClr clrSpc="rgb">
                                      <p:cBhvr>
                                        <p:cTn id="279" dur="1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0" dur="1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9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12741" fill="hold"/>
                                        <p:tgtEl>
                                          <p:spTgt spid="6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668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668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1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4267080" y="4876920"/>
            <a:ext cx="45720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rot="2482200">
            <a:off x="4267080" y="5029200"/>
            <a:ext cx="762120" cy="533520"/>
          </a:xfrm>
          <a:custGeom>
            <a:avLst/>
            <a:gdLst>
              <a:gd name="textAreaLeft" fmla="*/ 0 w 762120"/>
              <a:gd name="textAreaRight" fmla="*/ 762480 w 762120"/>
              <a:gd name="textAreaTop" fmla="*/ 69120 h 533520"/>
              <a:gd name="textAreaBottom" fmla="*/ 4644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87" name="">
            <a:hlinkClick r:id="rId2" action="ppaction://hlinksldjump"/>
          </p:cNvPr>
          <p:cNvSpPr/>
          <p:nvPr/>
        </p:nvSpPr>
        <p:spPr>
          <a:xfrm rot="14412600">
            <a:off x="6896160" y="6285960"/>
            <a:ext cx="533160" cy="457200"/>
          </a:xfrm>
          <a:prstGeom prst="leftArrow">
            <a:avLst>
              <a:gd name="adj1" fmla="val 50000"/>
              <a:gd name="adj2" fmla="val 6108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52280" y="-1066680"/>
            <a:ext cx="4191120" cy="8153280"/>
          </a:xfrm>
          <a:prstGeom prst="rect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52280" y="57913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00"/>
                    </a:gs>
                    <a:gs pos="100000">
                      <a:srgbClr val="ffcc00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00"/>
                  </a:gs>
                  <a:gs pos="100000">
                    <a:srgbClr val="ffcc00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00"/>
                    </a:gs>
                    <a:gs pos="100000">
                      <a:srgbClr val="ffcc00"/>
                    </a:gs>
                  </a:gsLst>
                  <a:lin ang="13500000"/>
                </a:gradFill>
                <a:latin typeface="Comic Sans MS"/>
              </a:rPr>
              <a:t>Escape #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00"/>
                  </a:gs>
                  <a:gs pos="100000">
                    <a:srgbClr val="ffcc00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691" name="">
            <a:hlinkClick r:id="" action="ppaction://hlinkshowjump?jump=endshow"/>
          </p:cNvPr>
          <p:cNvSpPr/>
          <p:nvPr/>
        </p:nvSpPr>
        <p:spPr>
          <a:xfrm>
            <a:off x="4876920" y="5715000"/>
            <a:ext cx="1143000" cy="1143000"/>
          </a:xfrm>
          <a:custGeom>
            <a:avLst/>
            <a:gdLst>
              <a:gd name="textAreaLeft" fmla="*/ 171000 w 1143000"/>
              <a:gd name="textAreaRight" fmla="*/ 972000 w 1143000"/>
              <a:gd name="textAreaTop" fmla="*/ 171000 h 1143000"/>
              <a:gd name="textAreaBottom" fmla="*/ 97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68" y="3232"/>
                </a:lnTo>
                <a:lnTo>
                  <a:pt x="3232" y="323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68" y="18368"/>
                </a:lnTo>
                <a:lnTo>
                  <a:pt x="18368" y="323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8368" y="1836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>
            <a:hlinkClick r:id="rId3"/>
          </p:cNvPr>
          <p:cNvSpPr/>
          <p:nvPr/>
        </p:nvSpPr>
        <p:spPr>
          <a:xfrm>
            <a:off x="1828800" y="5715000"/>
            <a:ext cx="1143000" cy="1143000"/>
          </a:xfrm>
          <a:custGeom>
            <a:avLst/>
            <a:gdLst>
              <a:gd name="textAreaLeft" fmla="*/ 25200 w 1143000"/>
              <a:gd name="textAreaRight" fmla="*/ 1117800 w 1143000"/>
              <a:gd name="textAreaTop" fmla="*/ 25200 h 1143000"/>
              <a:gd name="textAreaBottom" fmla="*/ 11178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120" y="480"/>
                </a:lnTo>
                <a:lnTo>
                  <a:pt x="480" y="48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120" y="21120"/>
                </a:lnTo>
                <a:lnTo>
                  <a:pt x="21120" y="48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120" y="2112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400800" y="5715000"/>
            <a:ext cx="2514600" cy="990720"/>
          </a:xfrm>
          <a:prstGeom prst="wedgeRoundRectCallout">
            <a:avLst>
              <a:gd name="adj1" fmla="val -54861"/>
              <a:gd name="adj2" fmla="val 6554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828800" y="-53352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>
            <a:hlinkClick r:id="rId5" action="ppaction://hlinksldjump"/>
          </p:cNvPr>
          <p:cNvSpPr/>
          <p:nvPr/>
        </p:nvSpPr>
        <p:spPr>
          <a:xfrm rot="13928400">
            <a:off x="8496000" y="499104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352680" y="5715000"/>
            <a:ext cx="1143000" cy="1143000"/>
          </a:xfrm>
          <a:custGeom>
            <a:avLst/>
            <a:gdLst>
              <a:gd name="textAreaLeft" fmla="*/ 169560 w 1143000"/>
              <a:gd name="textAreaRight" fmla="*/ 973440 w 1143000"/>
              <a:gd name="textAreaTop" fmla="*/ 169560 h 1143000"/>
              <a:gd name="textAreaBottom" fmla="*/ 9734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90" y="3210"/>
                </a:lnTo>
                <a:lnTo>
                  <a:pt x="3210" y="321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90" y="18390"/>
                </a:lnTo>
                <a:lnTo>
                  <a:pt x="18390" y="321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8390" y="1839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12741" fill="hold"/>
                                        <p:tgtEl>
                                          <p:spTgt spid="6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694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694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2" dur="2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1676520" y="1371600"/>
            <a:ext cx="167616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133720" y="1752480"/>
            <a:ext cx="761760" cy="533520"/>
          </a:xfrm>
          <a:custGeom>
            <a:avLst/>
            <a:gdLst>
              <a:gd name="textAreaLeft" fmla="*/ 0 w 761760"/>
              <a:gd name="textAreaRight" fmla="*/ 762120 w 761760"/>
              <a:gd name="textAreaTop" fmla="*/ 69120 h 533520"/>
              <a:gd name="textAreaBottom" fmla="*/ 4644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3962520" y="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0" y="3733920"/>
            <a:ext cx="39625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 flipV="1">
            <a:off x="3962160" y="3733560"/>
            <a:ext cx="51814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152280" y="57913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00"/>
                    </a:gs>
                    <a:gs pos="100000">
                      <a:srgbClr val="ffcc00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00"/>
                  </a:gs>
                  <a:gs pos="100000">
                    <a:srgbClr val="ffcc00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00"/>
                    </a:gs>
                    <a:gs pos="100000">
                      <a:srgbClr val="ffcc00"/>
                    </a:gs>
                  </a:gsLst>
                  <a:lin ang="13500000"/>
                </a:gradFill>
                <a:latin typeface="Comic Sans MS"/>
              </a:rPr>
              <a:t>Escape #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00"/>
                  </a:gs>
                  <a:gs pos="100000">
                    <a:srgbClr val="ffcc00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706" name="">
            <a:hlinkClick r:id="" action="ppaction://hlinkshowjump?jump=endshow"/>
          </p:cNvPr>
          <p:cNvSpPr/>
          <p:nvPr/>
        </p:nvSpPr>
        <p:spPr>
          <a:xfrm>
            <a:off x="4876920" y="5715000"/>
            <a:ext cx="1143000" cy="1143000"/>
          </a:xfrm>
          <a:custGeom>
            <a:avLst/>
            <a:gdLst>
              <a:gd name="textAreaLeft" fmla="*/ 171000 w 1143000"/>
              <a:gd name="textAreaRight" fmla="*/ 972000 w 1143000"/>
              <a:gd name="textAreaTop" fmla="*/ 171000 h 1143000"/>
              <a:gd name="textAreaBottom" fmla="*/ 97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68" y="3232"/>
                </a:lnTo>
                <a:lnTo>
                  <a:pt x="3232" y="323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68" y="18368"/>
                </a:lnTo>
                <a:lnTo>
                  <a:pt x="18368" y="323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8368" y="1836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>
            <a:hlinkClick r:id="rId1"/>
          </p:cNvPr>
          <p:cNvSpPr/>
          <p:nvPr/>
        </p:nvSpPr>
        <p:spPr>
          <a:xfrm>
            <a:off x="1828800" y="5715000"/>
            <a:ext cx="1143000" cy="1143000"/>
          </a:xfrm>
          <a:custGeom>
            <a:avLst/>
            <a:gdLst>
              <a:gd name="textAreaLeft" fmla="*/ 25200 w 1143000"/>
              <a:gd name="textAreaRight" fmla="*/ 1117800 w 1143000"/>
              <a:gd name="textAreaTop" fmla="*/ 25200 h 1143000"/>
              <a:gd name="textAreaBottom" fmla="*/ 11178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120" y="480"/>
                </a:lnTo>
                <a:lnTo>
                  <a:pt x="480" y="48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120" y="21120"/>
                </a:lnTo>
                <a:lnTo>
                  <a:pt x="21120" y="48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120" y="2112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400800" y="5715000"/>
            <a:ext cx="2514600" cy="990720"/>
          </a:xfrm>
          <a:prstGeom prst="wedgeRoundRectCallout">
            <a:avLst>
              <a:gd name="adj1" fmla="val -54861"/>
              <a:gd name="adj2" fmla="val 6554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>
            <a:hlinkClick r:id="rId3" action="ppaction://hlinksldjump"/>
          </p:cNvPr>
          <p:cNvSpPr/>
          <p:nvPr/>
        </p:nvSpPr>
        <p:spPr>
          <a:xfrm rot="10800000">
            <a:off x="8458200" y="251460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>
            <a:hlinkClick r:id="rId4" action="ppaction://hlinksldjump"/>
          </p:cNvPr>
          <p:cNvSpPr/>
          <p:nvPr/>
        </p:nvSpPr>
        <p:spPr>
          <a:xfrm>
            <a:off x="152280" y="251460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5"/>
          <a:srcRect l="18010" t="16024" r="32270" b="15000"/>
          <a:stretch/>
        </p:blipFill>
        <p:spPr>
          <a:xfrm>
            <a:off x="5410080" y="838080"/>
            <a:ext cx="1895760" cy="197172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712" name=""/>
          <p:cNvSpPr/>
          <p:nvPr/>
        </p:nvSpPr>
        <p:spPr>
          <a:xfrm>
            <a:off x="6705720" y="99072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705720" y="6019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’s sealed shu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553080" y="6019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Human Torch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676520" y="1371600"/>
            <a:ext cx="16761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6"/>
          <a:stretch/>
        </p:blipFill>
        <p:spPr>
          <a:xfrm>
            <a:off x="472428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7"/>
          <a:stretch/>
        </p:blipFill>
        <p:spPr>
          <a:xfrm>
            <a:off x="205740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8"/>
          <a:stretch/>
        </p:blipFill>
        <p:spPr>
          <a:xfrm>
            <a:off x="1676520" y="1371600"/>
            <a:ext cx="1676160" cy="129528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 txBox="1"/>
          <p:nvPr/>
        </p:nvSpPr>
        <p:spPr>
          <a:xfrm>
            <a:off x="1066680" y="1600200"/>
            <a:ext cx="72392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latin typeface="Comic Sans MS"/>
              </a:rPr>
              <a:t>FLAME 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720" name=""/>
          <p:cNvSpPr/>
          <p:nvPr/>
        </p:nvSpPr>
        <p:spPr>
          <a:xfrm>
            <a:off x="1828800" y="-53352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438280" y="-53352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971800" y="-53352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352680" y="5715000"/>
            <a:ext cx="1143000" cy="1143000"/>
          </a:xfrm>
          <a:custGeom>
            <a:avLst/>
            <a:gdLst>
              <a:gd name="textAreaLeft" fmla="*/ 169560 w 1143000"/>
              <a:gd name="textAreaRight" fmla="*/ 973440 w 1143000"/>
              <a:gd name="textAreaTop" fmla="*/ 169560 h 1143000"/>
              <a:gd name="textAreaBottom" fmla="*/ 9734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90" y="3210"/>
                </a:lnTo>
                <a:lnTo>
                  <a:pt x="3210" y="321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90" y="18390"/>
                </a:lnTo>
                <a:lnTo>
                  <a:pt x="18390" y="321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8390" y="1839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712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712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1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3" dur="50" autoRev="1" fill="hold"/>
                                        <p:tgtEl>
                                          <p:spTgt spid="7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12741" fill="hold"/>
                                        <p:tgtEl>
                                          <p:spTgt spid="7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2132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711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711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8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719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8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7467480" y="380880"/>
            <a:ext cx="30492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5105520" y="304920"/>
            <a:ext cx="228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Fantast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95880" y="2133720"/>
            <a:ext cx="762120" cy="533160"/>
          </a:xfrm>
          <a:custGeom>
            <a:avLst/>
            <a:gdLst>
              <a:gd name="textAreaLeft" fmla="*/ 0 w 762120"/>
              <a:gd name="textAreaRight" fmla="*/ 762480 w 762120"/>
              <a:gd name="textAreaTop" fmla="*/ 69120 h 533160"/>
              <a:gd name="textAreaBottom" fmla="*/ 4640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1"/>
          <a:srcRect l="0" t="0" r="31835" b="15643"/>
          <a:stretch/>
        </p:blipFill>
        <p:spPr>
          <a:xfrm>
            <a:off x="5105520" y="838080"/>
            <a:ext cx="1828800" cy="327672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2"/>
          <a:srcRect l="36926" t="0" r="31835" b="15643"/>
          <a:stretch/>
        </p:blipFill>
        <p:spPr>
          <a:xfrm>
            <a:off x="6095880" y="838080"/>
            <a:ext cx="838440" cy="327672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3"/>
          <a:srcRect l="36926" t="0" r="48877" b="15643"/>
          <a:stretch/>
        </p:blipFill>
        <p:spPr>
          <a:xfrm>
            <a:off x="6095880" y="838080"/>
            <a:ext cx="381240" cy="327672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 flipH="1" flipV="1">
            <a:off x="3733920" y="4648320"/>
            <a:ext cx="5410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0" y="4647960"/>
            <a:ext cx="3733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733920" y="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152280" y="57913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00"/>
                    </a:gs>
                    <a:gs pos="100000">
                      <a:srgbClr val="ffcc00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00"/>
                  </a:gs>
                  <a:gs pos="100000">
                    <a:srgbClr val="ffcc00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00"/>
                    </a:gs>
                    <a:gs pos="100000">
                      <a:srgbClr val="ffcc00"/>
                    </a:gs>
                  </a:gsLst>
                  <a:lin ang="13500000"/>
                </a:gradFill>
                <a:latin typeface="Comic Sans MS"/>
              </a:rPr>
              <a:t>Escape #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00"/>
                  </a:gs>
                  <a:gs pos="100000">
                    <a:srgbClr val="ffcc00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736" name="">
            <a:hlinkClick r:id="" action="ppaction://hlinkshowjump?jump=endshow"/>
          </p:cNvPr>
          <p:cNvSpPr/>
          <p:nvPr/>
        </p:nvSpPr>
        <p:spPr>
          <a:xfrm>
            <a:off x="4876920" y="5715000"/>
            <a:ext cx="1143000" cy="1143000"/>
          </a:xfrm>
          <a:custGeom>
            <a:avLst/>
            <a:gdLst>
              <a:gd name="textAreaLeft" fmla="*/ 171000 w 1143000"/>
              <a:gd name="textAreaRight" fmla="*/ 972000 w 1143000"/>
              <a:gd name="textAreaTop" fmla="*/ 171000 h 1143000"/>
              <a:gd name="textAreaBottom" fmla="*/ 97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68" y="3232"/>
                </a:lnTo>
                <a:lnTo>
                  <a:pt x="3232" y="323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68" y="18368"/>
                </a:lnTo>
                <a:lnTo>
                  <a:pt x="18368" y="323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8368" y="1836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>
            <a:hlinkClick r:id="rId4"/>
          </p:cNvPr>
          <p:cNvSpPr/>
          <p:nvPr/>
        </p:nvSpPr>
        <p:spPr>
          <a:xfrm>
            <a:off x="1828800" y="5715000"/>
            <a:ext cx="1143000" cy="1143000"/>
          </a:xfrm>
          <a:custGeom>
            <a:avLst/>
            <a:gdLst>
              <a:gd name="textAreaLeft" fmla="*/ 25200 w 1143000"/>
              <a:gd name="textAreaRight" fmla="*/ 1117800 w 1143000"/>
              <a:gd name="textAreaTop" fmla="*/ 25200 h 1143000"/>
              <a:gd name="textAreaBottom" fmla="*/ 11178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120" y="480"/>
                </a:lnTo>
                <a:lnTo>
                  <a:pt x="480" y="48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120" y="21120"/>
                </a:lnTo>
                <a:lnTo>
                  <a:pt x="21120" y="48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120" y="2112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400800" y="5715000"/>
            <a:ext cx="2514600" cy="990720"/>
          </a:xfrm>
          <a:prstGeom prst="wedgeRoundRectCallout">
            <a:avLst>
              <a:gd name="adj1" fmla="val -54861"/>
              <a:gd name="adj2" fmla="val 6554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7467480" y="380880"/>
            <a:ext cx="30492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7467480" y="380880"/>
            <a:ext cx="30492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7467480" y="380880"/>
            <a:ext cx="30492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7467480" y="380880"/>
            <a:ext cx="30492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6"/>
          <a:stretch/>
        </p:blipFill>
        <p:spPr>
          <a:xfrm>
            <a:off x="22096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7"/>
          <a:srcRect l="0" t="0" r="0" b="15643"/>
          <a:stretch/>
        </p:blipFill>
        <p:spPr>
          <a:xfrm>
            <a:off x="5029200" y="838080"/>
            <a:ext cx="2682720" cy="327672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6705720" y="6019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NTASTIC 4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28800" y="-53352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>
            <a:hlinkClick r:id="rId8" action="ppaction://hlinksldjump"/>
          </p:cNvPr>
          <p:cNvSpPr/>
          <p:nvPr/>
        </p:nvSpPr>
        <p:spPr>
          <a:xfrm rot="10800000">
            <a:off x="8458200" y="251460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>
            <a:hlinkClick r:id="rId9" action="ppaction://hlinksldjump"/>
          </p:cNvPr>
          <p:cNvSpPr/>
          <p:nvPr/>
        </p:nvSpPr>
        <p:spPr>
          <a:xfrm>
            <a:off x="152280" y="251460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352680" y="5715000"/>
            <a:ext cx="1143000" cy="1143000"/>
          </a:xfrm>
          <a:custGeom>
            <a:avLst/>
            <a:gdLst>
              <a:gd name="textAreaLeft" fmla="*/ 169560 w 1143000"/>
              <a:gd name="textAreaRight" fmla="*/ 973440 w 1143000"/>
              <a:gd name="textAreaTop" fmla="*/ 169560 h 1143000"/>
              <a:gd name="textAreaBottom" fmla="*/ 9734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90" y="3210"/>
                </a:lnTo>
                <a:lnTo>
                  <a:pt x="3210" y="321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90" y="18390"/>
                </a:lnTo>
                <a:lnTo>
                  <a:pt x="18390" y="321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8390" y="1839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740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740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741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741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3" dur="12741" fill="hold"/>
                                        <p:tgtEl>
                                          <p:spTgt spid="7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744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744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733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733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5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-609480" y="-380880"/>
            <a:ext cx="10058400" cy="761976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 txBox="1"/>
          <p:nvPr/>
        </p:nvSpPr>
        <p:spPr>
          <a:xfrm>
            <a:off x="885960" y="-762120"/>
            <a:ext cx="764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4d4d"/>
                    </a:gs>
                    <a:gs pos="50000">
                      <a:srgbClr val="000000"/>
                    </a:gs>
                    <a:gs pos="100000">
                      <a:srgbClr val="4d4d4d"/>
                    </a:gs>
                  </a:gsLst>
                  <a:lin ang="13500000"/>
                </a:gradFill>
                <a:latin typeface="Arial Black"/>
              </a:rPr>
              <a:t>B.M.W. Productionz Present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4d4d"/>
                  </a:gs>
                  <a:gs pos="50000">
                    <a:srgbClr val="000000"/>
                  </a:gs>
                  <a:gs pos="100000">
                    <a:srgbClr val="4d4d4d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1.46161E-006 L 7.5E-006 1.15449 E">
                                      <p:cBhvr>
                                        <p:cTn id="431" dur="5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4.0)">
                                      <p:cBhvr>
                                        <p:cTn id="433" dur="1" fill="hold"/>
                                        <p:tgtEl>
                                          <p:spTgt spid="7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304920" y="1143000"/>
            <a:ext cx="86104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scape #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1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50" autoRev="1" fill="hold"/>
                                        <p:tgtEl>
                                          <p:spTgt spid="7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0" y="304920"/>
            <a:ext cx="86104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scape #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755" name="">
            <a:hlinkClick r:id="rId1"/>
          </p:cNvPr>
          <p:cNvSpPr/>
          <p:nvPr/>
        </p:nvSpPr>
        <p:spPr>
          <a:xfrm>
            <a:off x="609480" y="4648320"/>
            <a:ext cx="2133720" cy="2057400"/>
          </a:xfrm>
          <a:custGeom>
            <a:avLst/>
            <a:gdLst>
              <a:gd name="textAreaLeft" fmla="*/ 45720 w 2133720"/>
              <a:gd name="textAreaRight" fmla="*/ 2088000 w 2133720"/>
              <a:gd name="textAreaTop" fmla="*/ 45720 h 2057400"/>
              <a:gd name="textAreaBottom" fmla="*/ 2011680 h 2057400"/>
            </a:gdLst>
            <a:ahLst/>
            <a:rect l="textAreaLeft" t="textAreaTop" r="textAreaRight" b="textAreaBottom"/>
            <a:pathLst>
              <a:path w="22401" h="21600">
                <a:moveTo>
                  <a:pt x="0" y="0"/>
                </a:moveTo>
                <a:lnTo>
                  <a:pt x="22401" y="0"/>
                </a:lnTo>
                <a:lnTo>
                  <a:pt x="22401" y="21600"/>
                </a:lnTo>
                <a:lnTo>
                  <a:pt x="0" y="21600"/>
                </a:lnTo>
                <a:close/>
              </a:path>
              <a:path fill="lightenLess" w="22401" h="21600">
                <a:moveTo>
                  <a:pt x="0" y="0"/>
                </a:moveTo>
                <a:lnTo>
                  <a:pt x="22401" y="0"/>
                </a:lnTo>
                <a:lnTo>
                  <a:pt x="21921" y="480"/>
                </a:lnTo>
                <a:lnTo>
                  <a:pt x="480" y="480"/>
                </a:lnTo>
                <a:close/>
              </a:path>
              <a:path fill="darken" w="22401" h="21600">
                <a:moveTo>
                  <a:pt x="22401" y="0"/>
                </a:moveTo>
                <a:lnTo>
                  <a:pt x="22401" y="21600"/>
                </a:lnTo>
                <a:lnTo>
                  <a:pt x="21921" y="21120"/>
                </a:lnTo>
                <a:lnTo>
                  <a:pt x="21921" y="480"/>
                </a:lnTo>
                <a:close/>
              </a:path>
              <a:path fill="darkenLess" w="22401" h="21600">
                <a:moveTo>
                  <a:pt x="22401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921" y="21120"/>
                </a:lnTo>
                <a:close/>
              </a:path>
              <a:path fill="lighten" w="22401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>
            <a:hlinkClick r:id="rId3" action="ppaction://hlinksldjump"/>
          </p:cNvPr>
          <p:cNvSpPr/>
          <p:nvPr/>
        </p:nvSpPr>
        <p:spPr>
          <a:xfrm>
            <a:off x="3505320" y="4648320"/>
            <a:ext cx="2133360" cy="2057400"/>
          </a:xfrm>
          <a:custGeom>
            <a:avLst/>
            <a:gdLst>
              <a:gd name="textAreaLeft" fmla="*/ 305640 w 2133360"/>
              <a:gd name="textAreaRight" fmla="*/ 1827720 w 2133360"/>
              <a:gd name="textAreaTop" fmla="*/ 305640 h 2057400"/>
              <a:gd name="textAreaBottom" fmla="*/ 1751760 h 2057400"/>
            </a:gdLst>
            <a:ahLst/>
            <a:rect l="textAreaLeft" t="textAreaTop" r="textAreaRight" b="textAreaBottom"/>
            <a:pathLst>
              <a:path w="22397" h="21600">
                <a:moveTo>
                  <a:pt x="0" y="0"/>
                </a:moveTo>
                <a:lnTo>
                  <a:pt x="22397" y="0"/>
                </a:lnTo>
                <a:lnTo>
                  <a:pt x="22397" y="21600"/>
                </a:lnTo>
                <a:lnTo>
                  <a:pt x="0" y="21600"/>
                </a:lnTo>
                <a:close/>
              </a:path>
              <a:path fill="lightenLess" w="22397" h="21600">
                <a:moveTo>
                  <a:pt x="0" y="0"/>
                </a:moveTo>
                <a:lnTo>
                  <a:pt x="22397" y="0"/>
                </a:lnTo>
                <a:lnTo>
                  <a:pt x="19187" y="3210"/>
                </a:lnTo>
                <a:lnTo>
                  <a:pt x="3210" y="3210"/>
                </a:lnTo>
                <a:close/>
              </a:path>
              <a:path fill="darken" w="22397" h="21600">
                <a:moveTo>
                  <a:pt x="22397" y="0"/>
                </a:moveTo>
                <a:lnTo>
                  <a:pt x="22397" y="21600"/>
                </a:lnTo>
                <a:lnTo>
                  <a:pt x="19187" y="18390"/>
                </a:lnTo>
                <a:lnTo>
                  <a:pt x="19187" y="3210"/>
                </a:lnTo>
                <a:close/>
              </a:path>
              <a:path fill="darkenLess" w="22397" h="21600">
                <a:moveTo>
                  <a:pt x="22397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9187" y="18390"/>
                </a:lnTo>
                <a:close/>
              </a:path>
              <a:path fill="lighten" w="22397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>
            <a:hlinkClick r:id="" action="ppaction://hlinkshowjump?jump=endshow"/>
          </p:cNvPr>
          <p:cNvSpPr/>
          <p:nvPr/>
        </p:nvSpPr>
        <p:spPr>
          <a:xfrm>
            <a:off x="6400800" y="4648320"/>
            <a:ext cx="2133720" cy="2057400"/>
          </a:xfrm>
          <a:custGeom>
            <a:avLst/>
            <a:gdLst>
              <a:gd name="textAreaLeft" fmla="*/ 307800 w 2133720"/>
              <a:gd name="textAreaRight" fmla="*/ 1825920 w 2133720"/>
              <a:gd name="textAreaTop" fmla="*/ 307800 h 2057400"/>
              <a:gd name="textAreaBottom" fmla="*/ 1749600 h 2057400"/>
            </a:gdLst>
            <a:ahLst/>
            <a:rect l="textAreaLeft" t="textAreaTop" r="textAreaRight" b="textAreaBottom"/>
            <a:pathLst>
              <a:path w="22401" h="21600">
                <a:moveTo>
                  <a:pt x="0" y="0"/>
                </a:moveTo>
                <a:lnTo>
                  <a:pt x="22401" y="0"/>
                </a:lnTo>
                <a:lnTo>
                  <a:pt x="22401" y="21600"/>
                </a:lnTo>
                <a:lnTo>
                  <a:pt x="0" y="21600"/>
                </a:lnTo>
                <a:close/>
              </a:path>
              <a:path fill="lightenLess" w="22401" h="21600">
                <a:moveTo>
                  <a:pt x="0" y="0"/>
                </a:moveTo>
                <a:lnTo>
                  <a:pt x="22401" y="0"/>
                </a:lnTo>
                <a:lnTo>
                  <a:pt x="19169" y="3232"/>
                </a:lnTo>
                <a:lnTo>
                  <a:pt x="3232" y="3232"/>
                </a:lnTo>
                <a:close/>
              </a:path>
              <a:path fill="darken" w="22401" h="21600">
                <a:moveTo>
                  <a:pt x="22401" y="0"/>
                </a:moveTo>
                <a:lnTo>
                  <a:pt x="22401" y="21600"/>
                </a:lnTo>
                <a:lnTo>
                  <a:pt x="19169" y="18368"/>
                </a:lnTo>
                <a:lnTo>
                  <a:pt x="19169" y="3232"/>
                </a:lnTo>
                <a:close/>
              </a:path>
              <a:path fill="darkenLess" w="22401" h="21600">
                <a:moveTo>
                  <a:pt x="22401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9169" y="18368"/>
                </a:lnTo>
                <a:close/>
              </a:path>
              <a:path fill="lighten" w="22401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7010280" y="380880"/>
            <a:ext cx="2057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cc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Comic Sans MS"/>
              </a:rPr>
              <a:t>Click Here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cc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Comic Sans MS"/>
              </a:rPr>
              <a:t>to Play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cc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cc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Comic Sans MS"/>
              </a:rPr>
              <a:t>Escape #2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759" name="">
            <a:hlinkClick r:id="rId4" action="ppaction://hlinksldjump"/>
          </p:cNvPr>
          <p:cNvSpPr/>
          <p:nvPr/>
        </p:nvSpPr>
        <p:spPr>
          <a:xfrm>
            <a:off x="8381880" y="2666880"/>
            <a:ext cx="609840" cy="609840"/>
          </a:xfrm>
          <a:prstGeom prst="ellipse">
            <a:avLst/>
          </a:prstGeom>
          <a:gradFill rotWithShape="0">
            <a:gsLst>
              <a:gs pos="0">
                <a:srgbClr val="111111"/>
              </a:gs>
              <a:gs pos="50000">
                <a:srgbClr val="ffcc00"/>
              </a:gs>
              <a:gs pos="100000">
                <a:srgbClr val="11111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rot="20262000">
            <a:off x="8305920" y="2238120"/>
            <a:ext cx="304560" cy="380880"/>
          </a:xfrm>
          <a:prstGeom prst="downArrow">
            <a:avLst>
              <a:gd name="adj1" fmla="val 36537"/>
              <a:gd name="adj2" fmla="val 6176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remove" presetClass="emph" presetID="25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 flipH="1" flipV="1">
            <a:off x="8610480" y="5029200"/>
            <a:ext cx="533520" cy="380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8610480" y="0"/>
            <a:ext cx="0" cy="5029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0" y="4876560"/>
            <a:ext cx="8610480" cy="152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-228600" y="-380880"/>
            <a:ext cx="9753480" cy="74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191120" y="1905120"/>
            <a:ext cx="53316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" descr="Beech Veneer Door"/>
          <p:cNvPicPr/>
          <p:nvPr/>
        </p:nvPicPr>
        <p:blipFill>
          <a:blip r:embed="rId1"/>
          <a:srcRect l="24777" t="1774" r="25669" b="2656"/>
          <a:stretch/>
        </p:blipFill>
        <p:spPr>
          <a:xfrm>
            <a:off x="1905120" y="838080"/>
            <a:ext cx="2133360" cy="411480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2"/>
          <a:srcRect l="0" t="6449" r="66002" b="66049"/>
          <a:stretch/>
        </p:blipFill>
        <p:spPr>
          <a:xfrm>
            <a:off x="3581280" y="2590920"/>
            <a:ext cx="304920" cy="28728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3"/>
          <a:stretch/>
        </p:blipFill>
        <p:spPr>
          <a:xfrm rot="9468600">
            <a:off x="5866560" y="1980720"/>
            <a:ext cx="800280" cy="80028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 rot="1423200">
            <a:off x="6087600" y="1829880"/>
            <a:ext cx="567000" cy="630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>
            <a:hlinkClick r:id="rId4" action="ppaction://hlinksldjump"/>
          </p:cNvPr>
          <p:cNvSpPr/>
          <p:nvPr/>
        </p:nvSpPr>
        <p:spPr>
          <a:xfrm>
            <a:off x="152280" y="251460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>
            <a:hlinkClick r:id="rId5" action="ppaction://hlinksldjump"/>
          </p:cNvPr>
          <p:cNvSpPr/>
          <p:nvPr/>
        </p:nvSpPr>
        <p:spPr>
          <a:xfrm rot="10800000">
            <a:off x="8458200" y="251460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400800" y="5715000"/>
            <a:ext cx="2514600" cy="990720"/>
          </a:xfrm>
          <a:prstGeom prst="wedgeRoundRectCallout">
            <a:avLst>
              <a:gd name="adj1" fmla="val -54861"/>
              <a:gd name="adj2" fmla="val 6554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934320" y="60339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’s lock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6"/>
          <a:srcRect l="8247" t="22123" r="9493" b="5784"/>
          <a:stretch/>
        </p:blipFill>
        <p:spPr>
          <a:xfrm>
            <a:off x="4267080" y="2209680"/>
            <a:ext cx="362160" cy="45720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4267080" y="1981080"/>
            <a:ext cx="381240" cy="15264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>
            <a:hlinkClick r:id="rId7" action="ppaction://hlinksldjump"/>
          </p:cNvPr>
          <p:cNvSpPr/>
          <p:nvPr/>
        </p:nvSpPr>
        <p:spPr>
          <a:xfrm>
            <a:off x="4191120" y="1905120"/>
            <a:ext cx="533160" cy="838080"/>
          </a:xfrm>
          <a:prstGeom prst="rect">
            <a:avLst/>
          </a:prstGeom>
          <a:noFill/>
          <a:ln w="76320">
            <a:solidFill>
              <a:srgbClr val="ff33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477120" y="571500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’s stuck under the hardened paint on the w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>
            <a:hlinkClick r:id="" action="ppaction://hlinkshowjump?jump=endshow"/>
          </p:cNvPr>
          <p:cNvSpPr/>
          <p:nvPr/>
        </p:nvSpPr>
        <p:spPr>
          <a:xfrm>
            <a:off x="4876920" y="5715000"/>
            <a:ext cx="1143000" cy="1143000"/>
          </a:xfrm>
          <a:custGeom>
            <a:avLst/>
            <a:gdLst>
              <a:gd name="textAreaLeft" fmla="*/ 171000 w 1143000"/>
              <a:gd name="textAreaRight" fmla="*/ 972000 w 1143000"/>
              <a:gd name="textAreaTop" fmla="*/ 171000 h 1143000"/>
              <a:gd name="textAreaBottom" fmla="*/ 97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68" y="3232"/>
                </a:lnTo>
                <a:lnTo>
                  <a:pt x="3232" y="323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68" y="18368"/>
                </a:lnTo>
                <a:lnTo>
                  <a:pt x="18368" y="323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8368" y="1836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>
            <a:hlinkClick r:id="rId8" action="ppaction://hlinksldjump"/>
          </p:cNvPr>
          <p:cNvSpPr/>
          <p:nvPr/>
        </p:nvSpPr>
        <p:spPr>
          <a:xfrm>
            <a:off x="3352680" y="5715000"/>
            <a:ext cx="1143000" cy="1143000"/>
          </a:xfrm>
          <a:custGeom>
            <a:avLst/>
            <a:gdLst>
              <a:gd name="textAreaLeft" fmla="*/ 169560 w 1143000"/>
              <a:gd name="textAreaRight" fmla="*/ 973440 w 1143000"/>
              <a:gd name="textAreaTop" fmla="*/ 169560 h 1143000"/>
              <a:gd name="textAreaBottom" fmla="*/ 9734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90" y="3210"/>
                </a:lnTo>
                <a:lnTo>
                  <a:pt x="3210" y="321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90" y="18390"/>
                </a:lnTo>
                <a:lnTo>
                  <a:pt x="18390" y="321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8390" y="1839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>
            <a:hlinkClick r:id="rId9"/>
          </p:cNvPr>
          <p:cNvSpPr/>
          <p:nvPr/>
        </p:nvSpPr>
        <p:spPr>
          <a:xfrm>
            <a:off x="1828800" y="5715000"/>
            <a:ext cx="1143000" cy="1143000"/>
          </a:xfrm>
          <a:custGeom>
            <a:avLst/>
            <a:gdLst>
              <a:gd name="textAreaLeft" fmla="*/ 25200 w 1143000"/>
              <a:gd name="textAreaRight" fmla="*/ 1117800 w 1143000"/>
              <a:gd name="textAreaTop" fmla="*/ 25200 h 1143000"/>
              <a:gd name="textAreaBottom" fmla="*/ 11178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120" y="480"/>
                </a:lnTo>
                <a:lnTo>
                  <a:pt x="480" y="48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120" y="21120"/>
                </a:lnTo>
                <a:lnTo>
                  <a:pt x="21120" y="48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120" y="2112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152280" y="57913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scape #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783" name=""/>
          <p:cNvSpPr/>
          <p:nvPr/>
        </p:nvSpPr>
        <p:spPr>
          <a:xfrm>
            <a:off x="3048120" y="-304920"/>
            <a:ext cx="609480" cy="76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restart="whenNotActive" nodeType="interactiveSeq" fill="hold">
                <p:stCondLst>
                  <p:cond evt="onClick">
                    <p:tgtEl>
                      <p:spTgt spid="766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767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767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764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764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" descr="Beech Veneer Door"/>
          <p:cNvPicPr/>
          <p:nvPr/>
        </p:nvPicPr>
        <p:blipFill>
          <a:blip r:embed="rId2"/>
          <a:srcRect l="24777" t="1774" r="25669" b="2656"/>
          <a:stretch/>
        </p:blipFill>
        <p:spPr>
          <a:xfrm>
            <a:off x="-4572000" y="-1371600"/>
            <a:ext cx="5294160" cy="1021068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3"/>
          <a:srcRect l="0" t="6449" r="66002" b="66049"/>
          <a:stretch/>
        </p:blipFill>
        <p:spPr>
          <a:xfrm>
            <a:off x="-1905120" y="5410080"/>
            <a:ext cx="2362320" cy="222732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>
            <a:hlinkClick r:id="rId4" action="ppaction://hlinksldjump"/>
          </p:cNvPr>
          <p:cNvSpPr/>
          <p:nvPr/>
        </p:nvSpPr>
        <p:spPr>
          <a:xfrm rot="12854400">
            <a:off x="7009920" y="609588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>
            <a:hlinkClick r:id="rId5" action="ppaction://hlinksldjump"/>
          </p:cNvPr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>
            <a:hlinkClick r:id="rId6" action="ppaction://hlinksldjump"/>
          </p:cNvPr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" descr="Beech Veneer Door"/>
          <p:cNvPicPr/>
          <p:nvPr/>
        </p:nvPicPr>
        <p:blipFill>
          <a:blip r:embed="rId2"/>
          <a:srcRect l="24777" t="1774" r="25669" b="2656"/>
          <a:stretch/>
        </p:blipFill>
        <p:spPr>
          <a:xfrm>
            <a:off x="-4572000" y="-1371600"/>
            <a:ext cx="5294160" cy="1021068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3"/>
          <a:srcRect l="0" t="6449" r="66002" b="66049"/>
          <a:stretch/>
        </p:blipFill>
        <p:spPr>
          <a:xfrm>
            <a:off x="-1905120" y="5410080"/>
            <a:ext cx="2362320" cy="222732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>
            <a:hlinkClick r:id="rId4" action="ppaction://hlinksldjump"/>
          </p:cNvPr>
          <p:cNvSpPr/>
          <p:nvPr/>
        </p:nvSpPr>
        <p:spPr>
          <a:xfrm rot="12854400">
            <a:off x="7009920" y="609588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>
            <a:hlinkClick r:id="rId5" action="ppaction://hlinksldjump"/>
          </p:cNvPr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>
            <a:hlinkClick r:id="rId6" action="ppaction://hlinksldjump"/>
          </p:cNvPr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rId2" action="ppaction://hlinksldjump"/>
          </p:cNvPr>
          <p:cNvSpPr/>
          <p:nvPr/>
        </p:nvSpPr>
        <p:spPr>
          <a:xfrm rot="12854400">
            <a:off x="7009920" y="4876200"/>
            <a:ext cx="2133720" cy="1600200"/>
          </a:xfrm>
          <a:prstGeom prst="leftArrow">
            <a:avLst>
              <a:gd name="adj1" fmla="val 50000"/>
              <a:gd name="adj2" fmla="val 69843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3" action="ppaction://hlinksldjump"/>
          </p:cNvPr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*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" descr="Beech Veneer Door"/>
          <p:cNvPicPr/>
          <p:nvPr/>
        </p:nvPicPr>
        <p:blipFill>
          <a:blip r:embed="rId2"/>
          <a:srcRect l="24777" t="1774" r="25669" b="2656"/>
          <a:stretch/>
        </p:blipFill>
        <p:spPr>
          <a:xfrm>
            <a:off x="-4572000" y="-1371600"/>
            <a:ext cx="5294160" cy="1021068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3"/>
          <a:srcRect l="0" t="6449" r="66002" b="66049"/>
          <a:stretch/>
        </p:blipFill>
        <p:spPr>
          <a:xfrm>
            <a:off x="-1905120" y="5410080"/>
            <a:ext cx="2362320" cy="222732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>
            <a:hlinkClick r:id="rId4" action="ppaction://hlinksldjump"/>
          </p:cNvPr>
          <p:cNvSpPr/>
          <p:nvPr/>
        </p:nvSpPr>
        <p:spPr>
          <a:xfrm rot="12854400">
            <a:off x="7009920" y="609588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>
            <a:hlinkClick r:id="rId5" action="ppaction://hlinksldjump"/>
          </p:cNvPr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>
            <a:hlinkClick r:id="rId6" action="ppaction://hlinksldjump"/>
          </p:cNvPr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**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" descr="Beech Veneer Door"/>
          <p:cNvPicPr/>
          <p:nvPr/>
        </p:nvPicPr>
        <p:blipFill>
          <a:blip r:embed="rId2"/>
          <a:srcRect l="24777" t="1774" r="25669" b="2656"/>
          <a:stretch/>
        </p:blipFill>
        <p:spPr>
          <a:xfrm>
            <a:off x="-4572000" y="-1371600"/>
            <a:ext cx="5294160" cy="1021068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3"/>
          <a:srcRect l="0" t="6449" r="66002" b="66049"/>
          <a:stretch/>
        </p:blipFill>
        <p:spPr>
          <a:xfrm>
            <a:off x="-1905120" y="5410080"/>
            <a:ext cx="2362320" cy="22273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>
            <a:hlinkClick r:id="rId4" action="ppaction://hlinksldjump"/>
          </p:cNvPr>
          <p:cNvSpPr/>
          <p:nvPr/>
        </p:nvSpPr>
        <p:spPr>
          <a:xfrm rot="12854400">
            <a:off x="7009920" y="609588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>
            <a:hlinkClick r:id="rId5" action="ppaction://hlinksldjump"/>
          </p:cNvPr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>
            <a:hlinkClick r:id="rId6" action="ppaction://hlinksldjump"/>
          </p:cNvPr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Corre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" descr="Beech Veneer Door"/>
          <p:cNvPicPr/>
          <p:nvPr/>
        </p:nvPicPr>
        <p:blipFill>
          <a:blip r:embed="rId2"/>
          <a:srcRect l="24777" t="1774" r="25669" b="2656"/>
          <a:stretch/>
        </p:blipFill>
        <p:spPr>
          <a:xfrm>
            <a:off x="-4572000" y="-1371600"/>
            <a:ext cx="5294160" cy="1021068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3"/>
          <a:srcRect l="0" t="6449" r="66002" b="66049"/>
          <a:stretch/>
        </p:blipFill>
        <p:spPr>
          <a:xfrm>
            <a:off x="-1905120" y="5410080"/>
            <a:ext cx="2362320" cy="22273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>
            <a:hlinkClick r:id="rId4" action="ppaction://hlinksldjump"/>
          </p:cNvPr>
          <p:cNvSpPr/>
          <p:nvPr/>
        </p:nvSpPr>
        <p:spPr>
          <a:xfrm rot="12854400">
            <a:off x="7009920" y="609588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100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3" dur="50" autoRev="1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" descr="Beech Veneer Door"/>
          <p:cNvPicPr/>
          <p:nvPr/>
        </p:nvPicPr>
        <p:blipFill>
          <a:blip r:embed="rId1"/>
          <a:srcRect l="24777" t="1774" r="25669" b="2656"/>
          <a:stretch/>
        </p:blipFill>
        <p:spPr>
          <a:xfrm>
            <a:off x="-152280" y="838080"/>
            <a:ext cx="2133360" cy="411480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4191120" y="1905120"/>
            <a:ext cx="53316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rcRect l="8247" t="22123" r="9493" b="5784"/>
          <a:stretch/>
        </p:blipFill>
        <p:spPr>
          <a:xfrm>
            <a:off x="4267080" y="2209680"/>
            <a:ext cx="362160" cy="45720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/>
          <p:nvPr/>
        </p:nvSpPr>
        <p:spPr>
          <a:xfrm>
            <a:off x="4267080" y="1981080"/>
            <a:ext cx="381240" cy="15264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H="1" flipV="1">
            <a:off x="8610480" y="5029200"/>
            <a:ext cx="533520" cy="380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H="1" flipV="1">
            <a:off x="0" y="4876560"/>
            <a:ext cx="8610480" cy="152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8610480" y="0"/>
            <a:ext cx="0" cy="5029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3"/>
          <a:stretch/>
        </p:blipFill>
        <p:spPr>
          <a:xfrm>
            <a:off x="5181480" y="2685960"/>
            <a:ext cx="5639040" cy="211464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-228600" y="-380880"/>
            <a:ext cx="9753480" cy="74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>
            <a:hlinkClick r:id="rId4" action="ppaction://hlinksldjump"/>
          </p:cNvPr>
          <p:cNvSpPr/>
          <p:nvPr/>
        </p:nvSpPr>
        <p:spPr>
          <a:xfrm>
            <a:off x="1905120" y="914400"/>
            <a:ext cx="2133360" cy="4038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400800" y="5715000"/>
            <a:ext cx="2514600" cy="990720"/>
          </a:xfrm>
          <a:prstGeom prst="wedgeRoundRectCallout">
            <a:avLst>
              <a:gd name="adj1" fmla="val -54861"/>
              <a:gd name="adj2" fmla="val 6554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0" y="5867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oor is op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" descr=""/>
          <p:cNvPicPr/>
          <p:nvPr/>
        </p:nvPicPr>
        <p:blipFill>
          <a:blip r:embed="rId5"/>
          <a:stretch/>
        </p:blipFill>
        <p:spPr>
          <a:xfrm>
            <a:off x="6400800" y="533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77" name="">
            <a:hlinkClick r:id="" action="ppaction://hlinkshowjump?jump=endshow"/>
          </p:cNvPr>
          <p:cNvSpPr/>
          <p:nvPr/>
        </p:nvSpPr>
        <p:spPr>
          <a:xfrm>
            <a:off x="4876920" y="5715000"/>
            <a:ext cx="1143000" cy="1143000"/>
          </a:xfrm>
          <a:custGeom>
            <a:avLst/>
            <a:gdLst>
              <a:gd name="textAreaLeft" fmla="*/ 171000 w 1143000"/>
              <a:gd name="textAreaRight" fmla="*/ 972000 w 1143000"/>
              <a:gd name="textAreaTop" fmla="*/ 171000 h 1143000"/>
              <a:gd name="textAreaBottom" fmla="*/ 97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68" y="3232"/>
                </a:lnTo>
                <a:lnTo>
                  <a:pt x="3232" y="323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68" y="18368"/>
                </a:lnTo>
                <a:lnTo>
                  <a:pt x="18368" y="323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8368" y="1836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>
            <a:hlinkClick r:id="rId6" action="ppaction://hlinksldjump"/>
          </p:cNvPr>
          <p:cNvSpPr/>
          <p:nvPr/>
        </p:nvSpPr>
        <p:spPr>
          <a:xfrm>
            <a:off x="3352680" y="5715000"/>
            <a:ext cx="1143000" cy="1143000"/>
          </a:xfrm>
          <a:custGeom>
            <a:avLst/>
            <a:gdLst>
              <a:gd name="textAreaLeft" fmla="*/ 169560 w 1143000"/>
              <a:gd name="textAreaRight" fmla="*/ 973440 w 1143000"/>
              <a:gd name="textAreaTop" fmla="*/ 169560 h 1143000"/>
              <a:gd name="textAreaBottom" fmla="*/ 9734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90" y="3210"/>
                </a:lnTo>
                <a:lnTo>
                  <a:pt x="3210" y="321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90" y="18390"/>
                </a:lnTo>
                <a:lnTo>
                  <a:pt x="18390" y="321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8390" y="1839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>
            <a:hlinkClick r:id="rId7"/>
          </p:cNvPr>
          <p:cNvSpPr/>
          <p:nvPr/>
        </p:nvSpPr>
        <p:spPr>
          <a:xfrm>
            <a:off x="1828800" y="5715000"/>
            <a:ext cx="1143000" cy="1143000"/>
          </a:xfrm>
          <a:custGeom>
            <a:avLst/>
            <a:gdLst>
              <a:gd name="textAreaLeft" fmla="*/ 25200 w 1143000"/>
              <a:gd name="textAreaRight" fmla="*/ 1117800 w 1143000"/>
              <a:gd name="textAreaTop" fmla="*/ 25200 h 1143000"/>
              <a:gd name="textAreaBottom" fmla="*/ 11178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120" y="480"/>
                </a:lnTo>
                <a:lnTo>
                  <a:pt x="480" y="48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120" y="21120"/>
                </a:lnTo>
                <a:lnTo>
                  <a:pt x="21120" y="48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120" y="2112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152280" y="57913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scape #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881" name=""/>
          <p:cNvSpPr/>
          <p:nvPr/>
        </p:nvSpPr>
        <p:spPr>
          <a:xfrm>
            <a:off x="3048120" y="-304920"/>
            <a:ext cx="609480" cy="76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9" dur="8132" fill="hold"/>
                                        <p:tgtEl>
                                          <p:spTgt spid="8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871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871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624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1515"/>
                </a:solidFill>
                <a:latin typeface="Arial"/>
              </a:rPr>
              <a:t>Congratulations!!!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 u="sng">
                <a:solidFill>
                  <a:srgbClr val="ff1515"/>
                </a:solidFill>
                <a:uFillTx/>
                <a:latin typeface="Arial"/>
              </a:rPr>
              <a:t>Extreme Escape #1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1515"/>
                </a:solidFill>
                <a:latin typeface="Arial"/>
              </a:rPr>
              <a:t>Designed &amp; Created By:</a:t>
            </a:r>
            <a:br>
              <a:rPr sz="3200"/>
            </a:br>
            <a:r>
              <a:rPr b="0" lang="en-US" sz="3200" spc="-1" strike="noStrike">
                <a:solidFill>
                  <a:srgbClr val="ff1515"/>
                </a:solidFill>
                <a:latin typeface="Arial"/>
              </a:rPr>
              <a:t>Benjamin M. War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1515"/>
                </a:solidFill>
                <a:latin typeface="Arial"/>
              </a:rPr>
              <a:t>Coded By:</a:t>
            </a:r>
            <a:br>
              <a:rPr sz="3200"/>
            </a:br>
            <a:r>
              <a:rPr b="0" lang="en-US" sz="3200" spc="-1" strike="noStrike">
                <a:solidFill>
                  <a:srgbClr val="ff1515"/>
                </a:solidFill>
                <a:latin typeface="Arial"/>
              </a:rPr>
              <a:t>Benjamin M. War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1515"/>
                </a:solidFill>
                <a:latin typeface="Arial"/>
              </a:rPr>
              <a:t>Animations By:</a:t>
            </a:r>
            <a:r>
              <a:rPr b="0" lang="en-US" sz="3200" spc="-1" strike="noStrike">
                <a:solidFill>
                  <a:srgbClr val="ff1515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1515"/>
                </a:solidFill>
                <a:latin typeface="Arial"/>
              </a:rPr>
              <a:t>Benjamin M. War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1515"/>
                </a:solidFill>
                <a:latin typeface="Arial"/>
              </a:rPr>
              <a:t>Graphics By:</a:t>
            </a:r>
            <a:br>
              <a:rPr sz="3200"/>
            </a:br>
            <a:r>
              <a:rPr b="0" lang="en-US" sz="3200" spc="-1" strike="noStrike">
                <a:solidFill>
                  <a:srgbClr val="ff1515"/>
                </a:solidFill>
                <a:latin typeface="Arial"/>
              </a:rPr>
              <a:t>Benjamin M. War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1515"/>
                </a:solidFill>
                <a:latin typeface="Arial"/>
              </a:rPr>
              <a:t>Music By:</a:t>
            </a:r>
            <a:br>
              <a:rPr sz="3200"/>
            </a:br>
            <a:r>
              <a:rPr b="0" lang="en-US" sz="3200" spc="-1" strike="noStrike">
                <a:solidFill>
                  <a:srgbClr val="ff1515"/>
                </a:solidFill>
                <a:latin typeface="Arial"/>
              </a:rPr>
              <a:t>Crazy Frog</a:t>
            </a:r>
            <a:br>
              <a:rPr sz="3200"/>
            </a:br>
            <a:r>
              <a:rPr b="0" lang="en-US" sz="3200" spc="-1" strike="noStrike">
                <a:solidFill>
                  <a:srgbClr val="ff1515"/>
                </a:solidFill>
                <a:latin typeface="Arial"/>
              </a:rPr>
              <a:t>Linkin Park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1515"/>
                </a:solidFill>
                <a:latin typeface="Arial"/>
              </a:rPr>
              <a:t>Dedicated To:</a:t>
            </a:r>
            <a:br>
              <a:rPr sz="3200"/>
            </a:br>
            <a:r>
              <a:rPr b="0" lang="en-US" sz="3200" spc="-1" strike="noStrike">
                <a:solidFill>
                  <a:srgbClr val="ff1515"/>
                </a:solidFill>
                <a:latin typeface="Arial"/>
              </a:rPr>
              <a:t>My Sister Carolin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1515"/>
                </a:solidFill>
                <a:latin typeface="Arial"/>
              </a:rPr>
              <a:t>©Copyright 2007 </a:t>
            </a:r>
            <a:br>
              <a:rPr sz="3200"/>
            </a:br>
            <a:r>
              <a:rPr b="1" lang="en-US" sz="3200" spc="-1" strike="noStrike">
                <a:solidFill>
                  <a:srgbClr val="ff1515"/>
                </a:solidFill>
                <a:latin typeface="Arial"/>
              </a:rPr>
              <a:t>B.M.W. Productio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5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5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.6)">
                                      <p:cBhvr>
                                        <p:cTn id="504" dur="1" fill="hold"/>
                                        <p:tgtEl>
                                          <p:spTgt spid="8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 txBox="1"/>
          <p:nvPr/>
        </p:nvSpPr>
        <p:spPr>
          <a:xfrm>
            <a:off x="2057400" y="1676520"/>
            <a:ext cx="472428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scape #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885" name=""/>
          <p:cNvSpPr/>
          <p:nvPr/>
        </p:nvSpPr>
        <p:spPr>
          <a:xfrm>
            <a:off x="1981080" y="120600"/>
            <a:ext cx="510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1515"/>
                </a:solidFill>
                <a:latin typeface="Comic Sans MS"/>
              </a:rPr>
              <a:t>Congratulation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1515"/>
                </a:solidFill>
                <a:latin typeface="Comic Sans MS"/>
              </a:rPr>
              <a:t>You Completed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>
            <a:hlinkClick r:id="" action="ppaction://hlinkshowjump?jump=endshow"/>
          </p:cNvPr>
          <p:cNvSpPr/>
          <p:nvPr/>
        </p:nvSpPr>
        <p:spPr>
          <a:xfrm>
            <a:off x="6400800" y="4648320"/>
            <a:ext cx="2133720" cy="2057400"/>
          </a:xfrm>
          <a:custGeom>
            <a:avLst/>
            <a:gdLst>
              <a:gd name="textAreaLeft" fmla="*/ 307800 w 2133720"/>
              <a:gd name="textAreaRight" fmla="*/ 1825920 w 2133720"/>
              <a:gd name="textAreaTop" fmla="*/ 307800 h 2057400"/>
              <a:gd name="textAreaBottom" fmla="*/ 1749600 h 2057400"/>
            </a:gdLst>
            <a:ahLst/>
            <a:rect l="textAreaLeft" t="textAreaTop" r="textAreaRight" b="textAreaBottom"/>
            <a:pathLst>
              <a:path w="22401" h="21600">
                <a:moveTo>
                  <a:pt x="0" y="0"/>
                </a:moveTo>
                <a:lnTo>
                  <a:pt x="22401" y="0"/>
                </a:lnTo>
                <a:lnTo>
                  <a:pt x="22401" y="21600"/>
                </a:lnTo>
                <a:lnTo>
                  <a:pt x="0" y="21600"/>
                </a:lnTo>
                <a:close/>
              </a:path>
              <a:path fill="lightenLess" w="22401" h="21600">
                <a:moveTo>
                  <a:pt x="0" y="0"/>
                </a:moveTo>
                <a:lnTo>
                  <a:pt x="22401" y="0"/>
                </a:lnTo>
                <a:lnTo>
                  <a:pt x="19169" y="3232"/>
                </a:lnTo>
                <a:lnTo>
                  <a:pt x="3232" y="3232"/>
                </a:lnTo>
                <a:close/>
              </a:path>
              <a:path fill="darken" w="22401" h="21600">
                <a:moveTo>
                  <a:pt x="22401" y="0"/>
                </a:moveTo>
                <a:lnTo>
                  <a:pt x="22401" y="21600"/>
                </a:lnTo>
                <a:lnTo>
                  <a:pt x="19169" y="18368"/>
                </a:lnTo>
                <a:lnTo>
                  <a:pt x="19169" y="3232"/>
                </a:lnTo>
                <a:close/>
              </a:path>
              <a:path fill="darkenLess" w="22401" h="21600">
                <a:moveTo>
                  <a:pt x="22401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9169" y="18368"/>
                </a:lnTo>
                <a:close/>
              </a:path>
              <a:path fill="lighten" w="22401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>
            <a:hlinkClick r:id="rId1" action="ppaction://hlinksldjump"/>
          </p:cNvPr>
          <p:cNvSpPr/>
          <p:nvPr/>
        </p:nvSpPr>
        <p:spPr>
          <a:xfrm>
            <a:off x="3505320" y="4648320"/>
            <a:ext cx="2133360" cy="2057400"/>
          </a:xfrm>
          <a:custGeom>
            <a:avLst/>
            <a:gdLst>
              <a:gd name="textAreaLeft" fmla="*/ 305640 w 2133360"/>
              <a:gd name="textAreaRight" fmla="*/ 1827720 w 2133360"/>
              <a:gd name="textAreaTop" fmla="*/ 305640 h 2057400"/>
              <a:gd name="textAreaBottom" fmla="*/ 1751760 h 2057400"/>
            </a:gdLst>
            <a:ahLst/>
            <a:rect l="textAreaLeft" t="textAreaTop" r="textAreaRight" b="textAreaBottom"/>
            <a:pathLst>
              <a:path w="22397" h="21600">
                <a:moveTo>
                  <a:pt x="0" y="0"/>
                </a:moveTo>
                <a:lnTo>
                  <a:pt x="22397" y="0"/>
                </a:lnTo>
                <a:lnTo>
                  <a:pt x="22397" y="21600"/>
                </a:lnTo>
                <a:lnTo>
                  <a:pt x="0" y="21600"/>
                </a:lnTo>
                <a:close/>
              </a:path>
              <a:path fill="lightenLess" w="22397" h="21600">
                <a:moveTo>
                  <a:pt x="0" y="0"/>
                </a:moveTo>
                <a:lnTo>
                  <a:pt x="22397" y="0"/>
                </a:lnTo>
                <a:lnTo>
                  <a:pt x="19187" y="3210"/>
                </a:lnTo>
                <a:lnTo>
                  <a:pt x="3210" y="3210"/>
                </a:lnTo>
                <a:close/>
              </a:path>
              <a:path fill="darken" w="22397" h="21600">
                <a:moveTo>
                  <a:pt x="22397" y="0"/>
                </a:moveTo>
                <a:lnTo>
                  <a:pt x="22397" y="21600"/>
                </a:lnTo>
                <a:lnTo>
                  <a:pt x="19187" y="18390"/>
                </a:lnTo>
                <a:lnTo>
                  <a:pt x="19187" y="3210"/>
                </a:lnTo>
                <a:close/>
              </a:path>
              <a:path fill="darkenLess" w="22397" h="21600">
                <a:moveTo>
                  <a:pt x="22397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9187" y="18390"/>
                </a:lnTo>
                <a:close/>
              </a:path>
              <a:path fill="lighten" w="22397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>
            <a:hlinkClick r:id="rId2"/>
          </p:cNvPr>
          <p:cNvSpPr/>
          <p:nvPr/>
        </p:nvSpPr>
        <p:spPr>
          <a:xfrm>
            <a:off x="609480" y="4648320"/>
            <a:ext cx="2133720" cy="2057400"/>
          </a:xfrm>
          <a:custGeom>
            <a:avLst/>
            <a:gdLst>
              <a:gd name="textAreaLeft" fmla="*/ 45720 w 2133720"/>
              <a:gd name="textAreaRight" fmla="*/ 2088000 w 2133720"/>
              <a:gd name="textAreaTop" fmla="*/ 45720 h 2057400"/>
              <a:gd name="textAreaBottom" fmla="*/ 2011680 h 2057400"/>
            </a:gdLst>
            <a:ahLst/>
            <a:rect l="textAreaLeft" t="textAreaTop" r="textAreaRight" b="textAreaBottom"/>
            <a:pathLst>
              <a:path w="22401" h="21600">
                <a:moveTo>
                  <a:pt x="0" y="0"/>
                </a:moveTo>
                <a:lnTo>
                  <a:pt x="22401" y="0"/>
                </a:lnTo>
                <a:lnTo>
                  <a:pt x="22401" y="21600"/>
                </a:lnTo>
                <a:lnTo>
                  <a:pt x="0" y="21600"/>
                </a:lnTo>
                <a:close/>
              </a:path>
              <a:path fill="lightenLess" w="22401" h="21600">
                <a:moveTo>
                  <a:pt x="0" y="0"/>
                </a:moveTo>
                <a:lnTo>
                  <a:pt x="22401" y="0"/>
                </a:lnTo>
                <a:lnTo>
                  <a:pt x="21921" y="480"/>
                </a:lnTo>
                <a:lnTo>
                  <a:pt x="480" y="480"/>
                </a:lnTo>
                <a:close/>
              </a:path>
              <a:path fill="darken" w="22401" h="21600">
                <a:moveTo>
                  <a:pt x="22401" y="0"/>
                </a:moveTo>
                <a:lnTo>
                  <a:pt x="22401" y="21600"/>
                </a:lnTo>
                <a:lnTo>
                  <a:pt x="21921" y="21120"/>
                </a:lnTo>
                <a:lnTo>
                  <a:pt x="21921" y="480"/>
                </a:lnTo>
                <a:close/>
              </a:path>
              <a:path fill="darkenLess" w="22401" h="21600">
                <a:moveTo>
                  <a:pt x="22401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921" y="21120"/>
                </a:lnTo>
                <a:close/>
              </a:path>
              <a:path fill="lighten" w="22401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" descr=""/>
          <p:cNvPicPr/>
          <p:nvPr/>
        </p:nvPicPr>
        <p:blipFill>
          <a:blip r:embed="rId4"/>
          <a:stretch/>
        </p:blipFill>
        <p:spPr>
          <a:xfrm>
            <a:off x="7238880" y="28954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5"/>
          <a:stretch/>
        </p:blipFill>
        <p:spPr>
          <a:xfrm>
            <a:off x="7238880" y="14479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6"/>
          <a:stretch/>
        </p:blipFill>
        <p:spPr>
          <a:xfrm>
            <a:off x="7238880" y="-7632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7"/>
          <a:stretch/>
        </p:blipFill>
        <p:spPr>
          <a:xfrm>
            <a:off x="152280" y="28954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8"/>
          <a:stretch/>
        </p:blipFill>
        <p:spPr>
          <a:xfrm>
            <a:off x="152280" y="14479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9"/>
          <a:stretch/>
        </p:blipFill>
        <p:spPr>
          <a:xfrm>
            <a:off x="152280" y="-76320"/>
            <a:ext cx="1752840" cy="1752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" descr="Beech Veneer Door"/>
          <p:cNvPicPr/>
          <p:nvPr/>
        </p:nvPicPr>
        <p:blipFill>
          <a:blip r:embed="rId2"/>
          <a:srcRect l="24777" t="1774" r="25669" b="2656"/>
          <a:stretch/>
        </p:blipFill>
        <p:spPr>
          <a:xfrm>
            <a:off x="-4572000" y="-1371600"/>
            <a:ext cx="5294160" cy="1021068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3"/>
          <a:srcRect l="0" t="6449" r="66002" b="66049"/>
          <a:stretch/>
        </p:blipFill>
        <p:spPr>
          <a:xfrm>
            <a:off x="-1905120" y="5410080"/>
            <a:ext cx="2362320" cy="22273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>
            <a:hlinkClick r:id="rId4" action="ppaction://hlinksldjump"/>
          </p:cNvPr>
          <p:cNvSpPr/>
          <p:nvPr/>
        </p:nvSpPr>
        <p:spPr>
          <a:xfrm rot="12854400">
            <a:off x="7009920" y="609588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>
            <a:hlinkClick r:id="rId5" action="ppaction://hlinksldjump"/>
          </p:cNvPr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*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" descr="Beech Veneer Door"/>
          <p:cNvPicPr/>
          <p:nvPr/>
        </p:nvPicPr>
        <p:blipFill>
          <a:blip r:embed="rId2"/>
          <a:srcRect l="24777" t="1774" r="25669" b="2656"/>
          <a:stretch/>
        </p:blipFill>
        <p:spPr>
          <a:xfrm>
            <a:off x="-4572000" y="-1371600"/>
            <a:ext cx="5294160" cy="1021068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3"/>
          <a:srcRect l="0" t="6449" r="66002" b="66049"/>
          <a:stretch/>
        </p:blipFill>
        <p:spPr>
          <a:xfrm>
            <a:off x="-1905120" y="5410080"/>
            <a:ext cx="2362320" cy="222732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>
            <a:hlinkClick r:id="rId4" action="ppaction://hlinksldjump"/>
          </p:cNvPr>
          <p:cNvSpPr/>
          <p:nvPr/>
        </p:nvSpPr>
        <p:spPr>
          <a:xfrm rot="12854400">
            <a:off x="7009920" y="609588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>
            <a:hlinkClick r:id="rId5" action="ppaction://hlinksldjump"/>
          </p:cNvPr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**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" descr="Beech Veneer Door"/>
          <p:cNvPicPr/>
          <p:nvPr/>
        </p:nvPicPr>
        <p:blipFill>
          <a:blip r:embed="rId2"/>
          <a:srcRect l="24777" t="1774" r="25669" b="2656"/>
          <a:stretch/>
        </p:blipFill>
        <p:spPr>
          <a:xfrm>
            <a:off x="-4572000" y="-1371600"/>
            <a:ext cx="5294160" cy="10210680"/>
          </a:xfrm>
          <a:prstGeom prst="rect">
            <a:avLst/>
          </a:prstGeom>
          <a:ln w="0">
            <a:noFill/>
          </a:ln>
        </p:spPr>
      </p:pic>
      <p:pic>
        <p:nvPicPr>
          <p:cNvPr id="931" name="" descr=""/>
          <p:cNvPicPr/>
          <p:nvPr/>
        </p:nvPicPr>
        <p:blipFill>
          <a:blip r:embed="rId3"/>
          <a:srcRect l="0" t="6449" r="66002" b="66049"/>
          <a:stretch/>
        </p:blipFill>
        <p:spPr>
          <a:xfrm>
            <a:off x="-1905120" y="5410080"/>
            <a:ext cx="2362320" cy="222732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>
            <a:hlinkClick r:id="rId4" action="ppaction://hlinksldjump"/>
          </p:cNvPr>
          <p:cNvSpPr/>
          <p:nvPr/>
        </p:nvSpPr>
        <p:spPr>
          <a:xfrm rot="12854400">
            <a:off x="7009920" y="609588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>
            <a:hlinkClick r:id="rId5" action="ppaction://hlinksldjump"/>
          </p:cNvPr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pic>
        <p:nvPicPr>
          <p:cNvPr id="945" name="" descr="Beech Veneer Door"/>
          <p:cNvPicPr/>
          <p:nvPr/>
        </p:nvPicPr>
        <p:blipFill>
          <a:blip r:embed="rId2"/>
          <a:srcRect l="24777" t="1774" r="25669" b="2656"/>
          <a:stretch/>
        </p:blipFill>
        <p:spPr>
          <a:xfrm>
            <a:off x="-4572000" y="-1371600"/>
            <a:ext cx="5294160" cy="10210680"/>
          </a:xfrm>
          <a:prstGeom prst="rect">
            <a:avLst/>
          </a:prstGeom>
          <a:ln w="0">
            <a:noFill/>
          </a:ln>
        </p:spPr>
      </p:pic>
      <p:pic>
        <p:nvPicPr>
          <p:cNvPr id="946" name="" descr=""/>
          <p:cNvPicPr/>
          <p:nvPr/>
        </p:nvPicPr>
        <p:blipFill>
          <a:blip r:embed="rId3"/>
          <a:srcRect l="0" t="6449" r="66002" b="66049"/>
          <a:stretch/>
        </p:blipFill>
        <p:spPr>
          <a:xfrm>
            <a:off x="-1905120" y="5410080"/>
            <a:ext cx="2362320" cy="222732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Wro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>
            <a:hlinkClick r:id="rId4" action="ppaction://hlinksldjump"/>
          </p:cNvPr>
          <p:cNvSpPr/>
          <p:nvPr/>
        </p:nvSpPr>
        <p:spPr>
          <a:xfrm rot="12854400">
            <a:off x="7009920" y="609588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>
            <a:hlinkClick r:id="rId5" action="ppaction://hlinksldjump"/>
          </p:cNvPr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>
            <a:hlinkClick r:id="rId6" action="ppaction://hlinksldjump"/>
          </p:cNvPr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rId3" action="ppaction://hlinksldjump"/>
          </p:cNvPr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4" action="ppaction://hlinksldjump"/>
          </p:cNvPr>
          <p:cNvSpPr/>
          <p:nvPr/>
        </p:nvSpPr>
        <p:spPr>
          <a:xfrm rot="12854400">
            <a:off x="7009920" y="4876200"/>
            <a:ext cx="2133720" cy="1600200"/>
          </a:xfrm>
          <a:prstGeom prst="leftArrow">
            <a:avLst>
              <a:gd name="adj1" fmla="val 50000"/>
              <a:gd name="adj2" fmla="val 69843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 flipH="1">
            <a:off x="0" y="4495680"/>
            <a:ext cx="7238880" cy="762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7238880" y="4495680"/>
            <a:ext cx="1905120" cy="228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7238880" y="0"/>
            <a:ext cx="0" cy="4495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-228600" y="-380880"/>
            <a:ext cx="9753480" cy="74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91080" y="681120"/>
            <a:ext cx="1657440" cy="1985760"/>
          </a:xfrm>
          <a:prstGeom prst="rect">
            <a:avLst/>
          </a:prstGeom>
          <a:ln w="0">
            <a:noFill/>
          </a:ln>
        </p:spPr>
      </p:pic>
      <p:pic>
        <p:nvPicPr>
          <p:cNvPr id="96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983120" y="1076400"/>
            <a:ext cx="914400" cy="1204920"/>
          </a:xfrm>
          <a:prstGeom prst="rect">
            <a:avLst/>
          </a:prstGeom>
          <a:ln w="0">
            <a:noFill/>
          </a:ln>
        </p:spPr>
      </p:pic>
      <p:sp>
        <p:nvSpPr>
          <p:cNvPr id="965" name="">
            <a:hlinkClick r:id="rId5" action="ppaction://hlinksldjump"/>
          </p:cNvPr>
          <p:cNvSpPr/>
          <p:nvPr/>
        </p:nvSpPr>
        <p:spPr>
          <a:xfrm>
            <a:off x="152280" y="251460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>
            <a:hlinkClick r:id="rId6" action="ppaction://hlinksldjump"/>
          </p:cNvPr>
          <p:cNvSpPr/>
          <p:nvPr/>
        </p:nvSpPr>
        <p:spPr>
          <a:xfrm rot="10800000">
            <a:off x="8458200" y="251460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400800" y="5715000"/>
            <a:ext cx="2514600" cy="990720"/>
          </a:xfrm>
          <a:prstGeom prst="wedgeRoundRectCallout">
            <a:avLst>
              <a:gd name="adj1" fmla="val -54861"/>
              <a:gd name="adj2" fmla="val 6554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" descr="">
            <a:hlinkClick r:id="rId7" action="ppaction://hlinksldjump"/>
          </p:cNvPr>
          <p:cNvPicPr/>
          <p:nvPr/>
        </p:nvPicPr>
        <p:blipFill>
          <a:blip r:embed="rId8"/>
          <a:srcRect l="35949" t="-3105" r="36941" b="49092"/>
          <a:stretch/>
        </p:blipFill>
        <p:spPr>
          <a:xfrm>
            <a:off x="6172200" y="4114800"/>
            <a:ext cx="304920" cy="60948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/>
          <p:cNvPicPr/>
          <p:nvPr/>
        </p:nvPicPr>
        <p:blipFill>
          <a:blip r:embed="rId9"/>
          <a:srcRect l="5329" t="40010" r="6664" b="17334"/>
          <a:stretch/>
        </p:blipFill>
        <p:spPr>
          <a:xfrm>
            <a:off x="4267080" y="3962520"/>
            <a:ext cx="2514600" cy="121896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6400800" y="4343400"/>
            <a:ext cx="0" cy="304920"/>
          </a:xfrm>
          <a:prstGeom prst="line">
            <a:avLst/>
          </a:prstGeom>
          <a:ln w="5724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400800" y="4343400"/>
            <a:ext cx="0" cy="304920"/>
          </a:xfrm>
          <a:prstGeom prst="line">
            <a:avLst/>
          </a:prstGeom>
          <a:ln w="5724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>
            <a:hlinkClick r:id="rId10" action="ppaction://hlinksldjump"/>
          </p:cNvPr>
          <p:cNvSpPr/>
          <p:nvPr/>
        </p:nvSpPr>
        <p:spPr>
          <a:xfrm flipH="1">
            <a:off x="6324480" y="4343400"/>
            <a:ext cx="76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11"/>
          <a:stretch/>
        </p:blipFill>
        <p:spPr>
          <a:xfrm>
            <a:off x="1577880" y="609480"/>
            <a:ext cx="1927440" cy="289584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6477120" y="6019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XY BEAS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477120" y="58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turdy wooden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>
            <a:hlinkClick r:id="" action="ppaction://hlinkshowjump?jump=endshow"/>
          </p:cNvPr>
          <p:cNvSpPr/>
          <p:nvPr/>
        </p:nvSpPr>
        <p:spPr>
          <a:xfrm>
            <a:off x="4876920" y="5715000"/>
            <a:ext cx="1143000" cy="1143000"/>
          </a:xfrm>
          <a:custGeom>
            <a:avLst/>
            <a:gdLst>
              <a:gd name="textAreaLeft" fmla="*/ 171000 w 1143000"/>
              <a:gd name="textAreaRight" fmla="*/ 972000 w 1143000"/>
              <a:gd name="textAreaTop" fmla="*/ 171000 h 1143000"/>
              <a:gd name="textAreaBottom" fmla="*/ 97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68" y="3232"/>
                </a:lnTo>
                <a:lnTo>
                  <a:pt x="3232" y="323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68" y="18368"/>
                </a:lnTo>
                <a:lnTo>
                  <a:pt x="18368" y="323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8368" y="1836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>
            <a:hlinkClick r:id="rId12" action="ppaction://hlinksldjump"/>
          </p:cNvPr>
          <p:cNvSpPr/>
          <p:nvPr/>
        </p:nvSpPr>
        <p:spPr>
          <a:xfrm>
            <a:off x="3352680" y="5715000"/>
            <a:ext cx="1143000" cy="1143000"/>
          </a:xfrm>
          <a:custGeom>
            <a:avLst/>
            <a:gdLst>
              <a:gd name="textAreaLeft" fmla="*/ 169560 w 1143000"/>
              <a:gd name="textAreaRight" fmla="*/ 973440 w 1143000"/>
              <a:gd name="textAreaTop" fmla="*/ 169560 h 1143000"/>
              <a:gd name="textAreaBottom" fmla="*/ 9734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90" y="3210"/>
                </a:lnTo>
                <a:lnTo>
                  <a:pt x="3210" y="321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90" y="18390"/>
                </a:lnTo>
                <a:lnTo>
                  <a:pt x="18390" y="321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8390" y="1839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>
            <a:hlinkClick r:id="rId13"/>
          </p:cNvPr>
          <p:cNvSpPr/>
          <p:nvPr/>
        </p:nvSpPr>
        <p:spPr>
          <a:xfrm>
            <a:off x="1828800" y="5715000"/>
            <a:ext cx="1143000" cy="1143000"/>
          </a:xfrm>
          <a:custGeom>
            <a:avLst/>
            <a:gdLst>
              <a:gd name="textAreaLeft" fmla="*/ 25200 w 1143000"/>
              <a:gd name="textAreaRight" fmla="*/ 1117800 w 1143000"/>
              <a:gd name="textAreaTop" fmla="*/ 25200 h 1143000"/>
              <a:gd name="textAreaBottom" fmla="*/ 11178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120" y="480"/>
                </a:lnTo>
                <a:lnTo>
                  <a:pt x="480" y="48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120" y="21120"/>
                </a:lnTo>
                <a:lnTo>
                  <a:pt x="21120" y="48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120" y="2112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152280" y="57913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scape #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981" name=""/>
          <p:cNvSpPr/>
          <p:nvPr/>
        </p:nvSpPr>
        <p:spPr>
          <a:xfrm>
            <a:off x="3048120" y="-304920"/>
            <a:ext cx="609480" cy="76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restart="whenNotActive" nodeType="interactiveSeq" fill="hold">
                <p:stCondLst>
                  <p:cond evt="onClick">
                    <p:tgtEl>
                      <p:spTgt spid="974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974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970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970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962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962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 rot="645600">
            <a:off x="5105520" y="3962160"/>
            <a:ext cx="761760" cy="533160"/>
          </a:xfrm>
          <a:custGeom>
            <a:avLst/>
            <a:gdLst>
              <a:gd name="textAreaLeft" fmla="*/ 0 w 761760"/>
              <a:gd name="textAreaRight" fmla="*/ 762120 w 761760"/>
              <a:gd name="textAreaTop" fmla="*/ 69120 h 533160"/>
              <a:gd name="textAreaBottom" fmla="*/ 4640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rcRect l="5329" t="40010" r="6664" b="17334"/>
          <a:stretch/>
        </p:blipFill>
        <p:spPr>
          <a:xfrm>
            <a:off x="-6705720" y="290520"/>
            <a:ext cx="14173200" cy="6872400"/>
          </a:xfrm>
          <a:prstGeom prst="rect">
            <a:avLst/>
          </a:prstGeom>
          <a:ln w="0">
            <a:noFill/>
          </a:ln>
        </p:spPr>
      </p:pic>
      <p:pic>
        <p:nvPicPr>
          <p:cNvPr id="9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-228600" y="-304920"/>
            <a:ext cx="9753480" cy="746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048120" y="-304920"/>
            <a:ext cx="609480" cy="76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>
            <a:hlinkClick r:id="rId3" action="ppaction://hlinksldjump"/>
          </p:cNvPr>
          <p:cNvSpPr/>
          <p:nvPr/>
        </p:nvSpPr>
        <p:spPr>
          <a:xfrm rot="12547200">
            <a:off x="7695720" y="472392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400800" y="5715000"/>
            <a:ext cx="2514600" cy="990720"/>
          </a:xfrm>
          <a:prstGeom prst="wedgeRoundRectCallout">
            <a:avLst>
              <a:gd name="adj1" fmla="val -54861"/>
              <a:gd name="adj2" fmla="val 6554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152280" y="57913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scape #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991" name="">
            <a:hlinkClick r:id="" action="ppaction://hlinkshowjump?jump=endshow"/>
          </p:cNvPr>
          <p:cNvSpPr/>
          <p:nvPr/>
        </p:nvSpPr>
        <p:spPr>
          <a:xfrm>
            <a:off x="4876920" y="5715000"/>
            <a:ext cx="1143000" cy="1143000"/>
          </a:xfrm>
          <a:custGeom>
            <a:avLst/>
            <a:gdLst>
              <a:gd name="textAreaLeft" fmla="*/ 171000 w 1143000"/>
              <a:gd name="textAreaRight" fmla="*/ 972000 w 1143000"/>
              <a:gd name="textAreaTop" fmla="*/ 171000 h 1143000"/>
              <a:gd name="textAreaBottom" fmla="*/ 97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68" y="3232"/>
                </a:lnTo>
                <a:lnTo>
                  <a:pt x="3232" y="323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68" y="18368"/>
                </a:lnTo>
                <a:lnTo>
                  <a:pt x="18368" y="323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8368" y="1836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>
            <a:hlinkClick r:id="rId4" action="ppaction://hlinksldjump"/>
          </p:cNvPr>
          <p:cNvSpPr/>
          <p:nvPr/>
        </p:nvSpPr>
        <p:spPr>
          <a:xfrm>
            <a:off x="3352680" y="5715000"/>
            <a:ext cx="1143000" cy="1143000"/>
          </a:xfrm>
          <a:custGeom>
            <a:avLst/>
            <a:gdLst>
              <a:gd name="textAreaLeft" fmla="*/ 169560 w 1143000"/>
              <a:gd name="textAreaRight" fmla="*/ 973440 w 1143000"/>
              <a:gd name="textAreaTop" fmla="*/ 169560 h 1143000"/>
              <a:gd name="textAreaBottom" fmla="*/ 9734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90" y="3210"/>
                </a:lnTo>
                <a:lnTo>
                  <a:pt x="3210" y="321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90" y="18390"/>
                </a:lnTo>
                <a:lnTo>
                  <a:pt x="18390" y="321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8390" y="1839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>
            <a:hlinkClick r:id="rId5"/>
          </p:cNvPr>
          <p:cNvSpPr/>
          <p:nvPr/>
        </p:nvSpPr>
        <p:spPr>
          <a:xfrm>
            <a:off x="1828800" y="5715000"/>
            <a:ext cx="1143000" cy="1143000"/>
          </a:xfrm>
          <a:custGeom>
            <a:avLst/>
            <a:gdLst>
              <a:gd name="textAreaLeft" fmla="*/ 25200 w 1143000"/>
              <a:gd name="textAreaRight" fmla="*/ 1117800 w 1143000"/>
              <a:gd name="textAreaTop" fmla="*/ 25200 h 1143000"/>
              <a:gd name="textAreaBottom" fmla="*/ 11178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120" y="480"/>
                </a:lnTo>
                <a:lnTo>
                  <a:pt x="480" y="48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120" y="21120"/>
                </a:lnTo>
                <a:lnTo>
                  <a:pt x="21120" y="48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120" y="2112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0" dur="3795" fill="hold"/>
                                        <p:tgtEl>
                                          <p:spTgt spid="9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985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985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" descr=""/>
          <p:cNvPicPr/>
          <p:nvPr/>
        </p:nvPicPr>
        <p:blipFill>
          <a:blip r:embed="rId1"/>
          <a:stretch/>
        </p:blipFill>
        <p:spPr>
          <a:xfrm>
            <a:off x="2214720" y="152280"/>
            <a:ext cx="4579920" cy="548640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2"/>
          <a:stretch/>
        </p:blipFill>
        <p:spPr>
          <a:xfrm>
            <a:off x="3246480" y="1295280"/>
            <a:ext cx="2544840" cy="327672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/>
          <p:nvPr/>
        </p:nvSpPr>
        <p:spPr>
          <a:xfrm rot="645600">
            <a:off x="5486400" y="4190760"/>
            <a:ext cx="762120" cy="533160"/>
          </a:xfrm>
          <a:custGeom>
            <a:avLst/>
            <a:gdLst>
              <a:gd name="textAreaLeft" fmla="*/ 0 w 762120"/>
              <a:gd name="textAreaRight" fmla="*/ 762480 w 762120"/>
              <a:gd name="textAreaTop" fmla="*/ 69120 h 533160"/>
              <a:gd name="textAreaBottom" fmla="*/ 4640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200400" y="1295280"/>
            <a:ext cx="2590920" cy="327672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rot="5400000">
            <a:off x="3200040" y="1295280"/>
            <a:ext cx="304920" cy="30492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rot="10800000">
            <a:off x="5486040" y="1294920"/>
            <a:ext cx="304920" cy="30492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200400" y="4267080"/>
            <a:ext cx="304920" cy="30492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4"/>
          <a:stretch/>
        </p:blipFill>
        <p:spPr>
          <a:xfrm>
            <a:off x="8610480" y="3048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02" name=""/>
          <p:cNvSpPr/>
          <p:nvPr/>
        </p:nvSpPr>
        <p:spPr>
          <a:xfrm>
            <a:off x="3048120" y="-304920"/>
            <a:ext cx="609480" cy="76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-304920" y="-228600"/>
            <a:ext cx="9753840" cy="74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>
            <a:hlinkClick r:id="rId5" action="ppaction://hlinksldjump"/>
          </p:cNvPr>
          <p:cNvSpPr/>
          <p:nvPr/>
        </p:nvSpPr>
        <p:spPr>
          <a:xfrm rot="20393400">
            <a:off x="1447920" y="5105160"/>
            <a:ext cx="533160" cy="457200"/>
          </a:xfrm>
          <a:prstGeom prst="leftArrow">
            <a:avLst>
              <a:gd name="adj1" fmla="val 50000"/>
              <a:gd name="adj2" fmla="val 6108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rot="16200000">
            <a:off x="5486400" y="4266720"/>
            <a:ext cx="304920" cy="30492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400800" y="5715000"/>
            <a:ext cx="2514600" cy="990720"/>
          </a:xfrm>
          <a:prstGeom prst="wedgeRoundRectCallout">
            <a:avLst>
              <a:gd name="adj1" fmla="val -54861"/>
              <a:gd name="adj2" fmla="val 6554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152280" y="57913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scape #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1009" name="">
            <a:hlinkClick r:id="" action="ppaction://hlinkshowjump?jump=endshow"/>
          </p:cNvPr>
          <p:cNvSpPr/>
          <p:nvPr/>
        </p:nvSpPr>
        <p:spPr>
          <a:xfrm>
            <a:off x="4876920" y="5715000"/>
            <a:ext cx="1143000" cy="1143000"/>
          </a:xfrm>
          <a:custGeom>
            <a:avLst/>
            <a:gdLst>
              <a:gd name="textAreaLeft" fmla="*/ 171000 w 1143000"/>
              <a:gd name="textAreaRight" fmla="*/ 972000 w 1143000"/>
              <a:gd name="textAreaTop" fmla="*/ 171000 h 1143000"/>
              <a:gd name="textAreaBottom" fmla="*/ 97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68" y="3232"/>
                </a:lnTo>
                <a:lnTo>
                  <a:pt x="3232" y="323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68" y="18368"/>
                </a:lnTo>
                <a:lnTo>
                  <a:pt x="18368" y="323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8368" y="1836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>
            <a:hlinkClick r:id="rId6" action="ppaction://hlinksldjump"/>
          </p:cNvPr>
          <p:cNvSpPr/>
          <p:nvPr/>
        </p:nvSpPr>
        <p:spPr>
          <a:xfrm>
            <a:off x="3352680" y="5715000"/>
            <a:ext cx="1143000" cy="1143000"/>
          </a:xfrm>
          <a:custGeom>
            <a:avLst/>
            <a:gdLst>
              <a:gd name="textAreaLeft" fmla="*/ 169560 w 1143000"/>
              <a:gd name="textAreaRight" fmla="*/ 973440 w 1143000"/>
              <a:gd name="textAreaTop" fmla="*/ 169560 h 1143000"/>
              <a:gd name="textAreaBottom" fmla="*/ 9734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90" y="3210"/>
                </a:lnTo>
                <a:lnTo>
                  <a:pt x="3210" y="321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90" y="18390"/>
                </a:lnTo>
                <a:lnTo>
                  <a:pt x="18390" y="321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8390" y="1839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>
            <a:hlinkClick r:id="rId7"/>
          </p:cNvPr>
          <p:cNvSpPr/>
          <p:nvPr/>
        </p:nvSpPr>
        <p:spPr>
          <a:xfrm>
            <a:off x="1828800" y="5715000"/>
            <a:ext cx="1143000" cy="1143000"/>
          </a:xfrm>
          <a:custGeom>
            <a:avLst/>
            <a:gdLst>
              <a:gd name="textAreaLeft" fmla="*/ 25200 w 1143000"/>
              <a:gd name="textAreaRight" fmla="*/ 1117800 w 1143000"/>
              <a:gd name="textAreaTop" fmla="*/ 25200 h 1143000"/>
              <a:gd name="textAreaBottom" fmla="*/ 11178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120" y="480"/>
                </a:lnTo>
                <a:lnTo>
                  <a:pt x="480" y="48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120" y="21120"/>
                </a:lnTo>
                <a:lnTo>
                  <a:pt x="21120" y="48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120" y="2112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restart="whenNotActive" nodeType="interactiveSeq" fill="hold">
                <p:stCondLst>
                  <p:cond evt="onClick">
                    <p:tgtEl>
                      <p:spTgt spid="1005"/>
                    </p:tgtEl>
                  </p:cond>
                </p:stCondLst>
                <p:childTnLst>
                  <p:par>
                    <p:cTn id="538" fill="hold">
                      <p:stCondLst>
                        <p:cond evt="onClick">
                          <p:tgtEl>
                            <p:spTgt spid="1005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7" dur="3795" fill="hold"/>
                                        <p:tgtEl>
                                          <p:spTgt spid="10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1003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1003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 flipH="1">
            <a:off x="0" y="3657600"/>
            <a:ext cx="4648320" cy="2438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648320" y="0"/>
            <a:ext cx="0" cy="3657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648320" y="3657600"/>
            <a:ext cx="4495680" cy="2666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-304920" y="-228600"/>
            <a:ext cx="9753840" cy="74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" descr=""/>
          <p:cNvPicPr/>
          <p:nvPr/>
        </p:nvPicPr>
        <p:blipFill>
          <a:blip r:embed="rId1"/>
          <a:srcRect l="8348" t="4585" r="12063" b="0"/>
          <a:stretch/>
        </p:blipFill>
        <p:spPr>
          <a:xfrm>
            <a:off x="3124080" y="1295280"/>
            <a:ext cx="2514600" cy="396252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2"/>
          <a:stretch/>
        </p:blipFill>
        <p:spPr>
          <a:xfrm>
            <a:off x="3638520" y="1981080"/>
            <a:ext cx="1314360" cy="1438560"/>
          </a:xfrm>
          <a:prstGeom prst="rect">
            <a:avLst/>
          </a:prstGeom>
          <a:ln w="0">
            <a:noFill/>
          </a:ln>
        </p:spPr>
      </p:pic>
      <p:sp>
        <p:nvSpPr>
          <p:cNvPr id="1018" name="">
            <a:hlinkClick r:id="rId3" action="ppaction://hlinksldjump"/>
          </p:cNvPr>
          <p:cNvSpPr/>
          <p:nvPr/>
        </p:nvSpPr>
        <p:spPr>
          <a:xfrm>
            <a:off x="152280" y="251460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>
            <a:hlinkClick r:id="rId4" action="ppaction://hlinksldjump"/>
          </p:cNvPr>
          <p:cNvSpPr/>
          <p:nvPr/>
        </p:nvSpPr>
        <p:spPr>
          <a:xfrm rot="10800000">
            <a:off x="8458200" y="251460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400800" y="5715000"/>
            <a:ext cx="2514600" cy="990720"/>
          </a:xfrm>
          <a:prstGeom prst="wedgeRoundRectCallout">
            <a:avLst>
              <a:gd name="adj1" fmla="val -54861"/>
              <a:gd name="adj2" fmla="val 6554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>
            <a:hlinkClick r:id="rId5" action="ppaction://hlinksldjump"/>
          </p:cNvPr>
          <p:cNvSpPr/>
          <p:nvPr/>
        </p:nvSpPr>
        <p:spPr>
          <a:xfrm rot="1334400">
            <a:off x="4191120" y="3809880"/>
            <a:ext cx="304560" cy="7632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477120" y="58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at monkey disturbs m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400800" y="58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chair…what else can I s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>
            <a:hlinkClick r:id="" action="ppaction://hlinkshowjump?jump=endshow"/>
          </p:cNvPr>
          <p:cNvSpPr/>
          <p:nvPr/>
        </p:nvSpPr>
        <p:spPr>
          <a:xfrm>
            <a:off x="4876920" y="5715000"/>
            <a:ext cx="1143000" cy="1143000"/>
          </a:xfrm>
          <a:custGeom>
            <a:avLst/>
            <a:gdLst>
              <a:gd name="textAreaLeft" fmla="*/ 171000 w 1143000"/>
              <a:gd name="textAreaRight" fmla="*/ 972000 w 1143000"/>
              <a:gd name="textAreaTop" fmla="*/ 171000 h 1143000"/>
              <a:gd name="textAreaBottom" fmla="*/ 97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68" y="3232"/>
                </a:lnTo>
                <a:lnTo>
                  <a:pt x="3232" y="323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68" y="18368"/>
                </a:lnTo>
                <a:lnTo>
                  <a:pt x="18368" y="323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8368" y="1836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>
            <a:hlinkClick r:id="rId6" action="ppaction://hlinksldjump"/>
          </p:cNvPr>
          <p:cNvSpPr/>
          <p:nvPr/>
        </p:nvSpPr>
        <p:spPr>
          <a:xfrm>
            <a:off x="3352680" y="5715000"/>
            <a:ext cx="1143000" cy="1143000"/>
          </a:xfrm>
          <a:custGeom>
            <a:avLst/>
            <a:gdLst>
              <a:gd name="textAreaLeft" fmla="*/ 169560 w 1143000"/>
              <a:gd name="textAreaRight" fmla="*/ 973440 w 1143000"/>
              <a:gd name="textAreaTop" fmla="*/ 169560 h 1143000"/>
              <a:gd name="textAreaBottom" fmla="*/ 9734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90" y="3210"/>
                </a:lnTo>
                <a:lnTo>
                  <a:pt x="3210" y="321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90" y="18390"/>
                </a:lnTo>
                <a:lnTo>
                  <a:pt x="18390" y="321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8390" y="1839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>
            <a:hlinkClick r:id="rId7"/>
          </p:cNvPr>
          <p:cNvSpPr/>
          <p:nvPr/>
        </p:nvSpPr>
        <p:spPr>
          <a:xfrm>
            <a:off x="1828800" y="5715000"/>
            <a:ext cx="1143000" cy="1143000"/>
          </a:xfrm>
          <a:custGeom>
            <a:avLst/>
            <a:gdLst>
              <a:gd name="textAreaLeft" fmla="*/ 25200 w 1143000"/>
              <a:gd name="textAreaRight" fmla="*/ 1117800 w 1143000"/>
              <a:gd name="textAreaTop" fmla="*/ 25200 h 1143000"/>
              <a:gd name="textAreaBottom" fmla="*/ 11178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120" y="480"/>
                </a:lnTo>
                <a:lnTo>
                  <a:pt x="480" y="48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120" y="21120"/>
                </a:lnTo>
                <a:lnTo>
                  <a:pt x="21120" y="48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120" y="2112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152280" y="57913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scape #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1029" name=""/>
          <p:cNvSpPr/>
          <p:nvPr/>
        </p:nvSpPr>
        <p:spPr>
          <a:xfrm>
            <a:off x="3048120" y="-304920"/>
            <a:ext cx="609480" cy="76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restart="whenNotActive" nodeType="interactiveSeq" fill="hold">
                <p:stCondLst>
                  <p:cond evt="onClick">
                    <p:tgtEl>
                      <p:spTgt spid="1017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1017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1016"/>
                    </p:tgtEl>
                  </p:cond>
                </p:stCondLst>
                <p:childTnLst>
                  <p:par>
                    <p:cTn id="562" fill="hold">
                      <p:stCondLst>
                        <p:cond evt="onClick">
                          <p:tgtEl>
                            <p:spTgt spid="1016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1015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1015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 flipH="1">
            <a:off x="0" y="3657600"/>
            <a:ext cx="4648320" cy="2438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rot="645600">
            <a:off x="3505320" y="3886200"/>
            <a:ext cx="761760" cy="533520"/>
          </a:xfrm>
          <a:custGeom>
            <a:avLst/>
            <a:gdLst>
              <a:gd name="textAreaLeft" fmla="*/ 0 w 761760"/>
              <a:gd name="textAreaRight" fmla="*/ 762120 w 761760"/>
              <a:gd name="textAreaTop" fmla="*/ 69120 h 533520"/>
              <a:gd name="textAreaBottom" fmla="*/ 4644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648320" y="3657600"/>
            <a:ext cx="4495680" cy="2666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1"/>
          <a:srcRect l="47905" t="63167" r="43143" b="0"/>
          <a:stretch/>
        </p:blipFill>
        <p:spPr>
          <a:xfrm>
            <a:off x="4114800" y="-1143000"/>
            <a:ext cx="838080" cy="640080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2"/>
          <a:srcRect l="43844" t="63167" r="38261" b="0"/>
          <a:stretch/>
        </p:blipFill>
        <p:spPr>
          <a:xfrm>
            <a:off x="-228600" y="-609480"/>
            <a:ext cx="1836720" cy="701028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3"/>
          <a:srcRect l="43844" t="63167" r="38261" b="0"/>
          <a:stretch/>
        </p:blipFill>
        <p:spPr>
          <a:xfrm>
            <a:off x="7010280" y="-1828800"/>
            <a:ext cx="1676520" cy="868680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4"/>
          <a:srcRect l="51166" t="63167" r="43143" b="0"/>
          <a:stretch/>
        </p:blipFill>
        <p:spPr>
          <a:xfrm>
            <a:off x="4191120" y="-1295280"/>
            <a:ext cx="533160" cy="868680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-304920" y="-304920"/>
            <a:ext cx="9753840" cy="746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048120" y="-304920"/>
            <a:ext cx="609480" cy="76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400800" y="5715000"/>
            <a:ext cx="2514600" cy="990720"/>
          </a:xfrm>
          <a:prstGeom prst="wedgeRoundRectCallout">
            <a:avLst>
              <a:gd name="adj1" fmla="val -54861"/>
              <a:gd name="adj2" fmla="val 6554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>
            <a:hlinkClick r:id="" action="ppaction://hlinkshowjump?jump=endshow"/>
          </p:cNvPr>
          <p:cNvSpPr/>
          <p:nvPr/>
        </p:nvSpPr>
        <p:spPr>
          <a:xfrm>
            <a:off x="4876920" y="5715000"/>
            <a:ext cx="1143000" cy="1143000"/>
          </a:xfrm>
          <a:custGeom>
            <a:avLst/>
            <a:gdLst>
              <a:gd name="textAreaLeft" fmla="*/ 171000 w 1143000"/>
              <a:gd name="textAreaRight" fmla="*/ 972000 w 1143000"/>
              <a:gd name="textAreaTop" fmla="*/ 171000 h 1143000"/>
              <a:gd name="textAreaBottom" fmla="*/ 97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68" y="3232"/>
                </a:lnTo>
                <a:lnTo>
                  <a:pt x="3232" y="323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68" y="18368"/>
                </a:lnTo>
                <a:lnTo>
                  <a:pt x="18368" y="323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8368" y="1836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>
            <a:hlinkClick r:id="rId6" action="ppaction://hlinksldjump"/>
          </p:cNvPr>
          <p:cNvSpPr/>
          <p:nvPr/>
        </p:nvSpPr>
        <p:spPr>
          <a:xfrm>
            <a:off x="3352680" y="5715000"/>
            <a:ext cx="1143000" cy="1143000"/>
          </a:xfrm>
          <a:custGeom>
            <a:avLst/>
            <a:gdLst>
              <a:gd name="textAreaLeft" fmla="*/ 169560 w 1143000"/>
              <a:gd name="textAreaRight" fmla="*/ 973440 w 1143000"/>
              <a:gd name="textAreaTop" fmla="*/ 169560 h 1143000"/>
              <a:gd name="textAreaBottom" fmla="*/ 9734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90" y="3210"/>
                </a:lnTo>
                <a:lnTo>
                  <a:pt x="3210" y="321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90" y="18390"/>
                </a:lnTo>
                <a:lnTo>
                  <a:pt x="18390" y="321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8390" y="1839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>
            <a:hlinkClick r:id="rId7"/>
          </p:cNvPr>
          <p:cNvSpPr/>
          <p:nvPr/>
        </p:nvSpPr>
        <p:spPr>
          <a:xfrm>
            <a:off x="1828800" y="5715000"/>
            <a:ext cx="1143000" cy="1143000"/>
          </a:xfrm>
          <a:custGeom>
            <a:avLst/>
            <a:gdLst>
              <a:gd name="textAreaLeft" fmla="*/ 25200 w 1143000"/>
              <a:gd name="textAreaRight" fmla="*/ 1117800 w 1143000"/>
              <a:gd name="textAreaTop" fmla="*/ 25200 h 1143000"/>
              <a:gd name="textAreaBottom" fmla="*/ 11178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120" y="480"/>
                </a:lnTo>
                <a:lnTo>
                  <a:pt x="480" y="48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120" y="21120"/>
                </a:lnTo>
                <a:lnTo>
                  <a:pt x="21120" y="48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120" y="2112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152280" y="57913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scape #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1046" name="">
            <a:hlinkClick r:id="rId9" action="ppaction://hlinksldjump"/>
          </p:cNvPr>
          <p:cNvSpPr/>
          <p:nvPr/>
        </p:nvSpPr>
        <p:spPr>
          <a:xfrm rot="13059600">
            <a:off x="8381880" y="472392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8" dur="3795" fill="hold"/>
                                        <p:tgtEl>
                                          <p:spTgt spid="10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1038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1038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5105520" y="0"/>
            <a:ext cx="0" cy="312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886200" y="304920"/>
            <a:ext cx="2362320" cy="1371600"/>
          </a:xfrm>
          <a:prstGeom prst="wedgeRoundRectCallout">
            <a:avLst>
              <a:gd name="adj1" fmla="val -108263"/>
              <a:gd name="adj2" fmla="val 1597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 touch me secret button…Take th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0" y="3124080"/>
            <a:ext cx="5105520" cy="762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124080"/>
            <a:ext cx="4038480" cy="1067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rot="645600">
            <a:off x="4114800" y="4038480"/>
            <a:ext cx="762120" cy="533520"/>
          </a:xfrm>
          <a:custGeom>
            <a:avLst/>
            <a:gdLst>
              <a:gd name="textAreaLeft" fmla="*/ 0 w 762120"/>
              <a:gd name="textAreaRight" fmla="*/ 762480 w 762120"/>
              <a:gd name="textAreaTop" fmla="*/ 69120 h 533520"/>
              <a:gd name="textAreaBottom" fmla="*/ 4644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-380880" y="-228600"/>
            <a:ext cx="9753480" cy="74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>
            <a:hlinkClick r:id="rId1" action="ppaction://hlinksldjump"/>
          </p:cNvPr>
          <p:cNvSpPr/>
          <p:nvPr/>
        </p:nvSpPr>
        <p:spPr>
          <a:xfrm>
            <a:off x="152280" y="251460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>
            <a:hlinkClick r:id="rId2" action="ppaction://hlinksldjump"/>
          </p:cNvPr>
          <p:cNvSpPr/>
          <p:nvPr/>
        </p:nvSpPr>
        <p:spPr>
          <a:xfrm rot="10800000">
            <a:off x="8458200" y="2514600"/>
            <a:ext cx="533520" cy="457200"/>
          </a:xfrm>
          <a:prstGeom prst="leftArrow">
            <a:avLst>
              <a:gd name="adj1" fmla="val 50000"/>
              <a:gd name="adj2" fmla="val 6112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400800" y="5715000"/>
            <a:ext cx="2514600" cy="990720"/>
          </a:xfrm>
          <a:prstGeom prst="wedgeRoundRectCallout">
            <a:avLst>
              <a:gd name="adj1" fmla="val -54861"/>
              <a:gd name="adj2" fmla="val 6554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362320" y="1143000"/>
            <a:ext cx="449280" cy="79200"/>
          </a:xfrm>
          <a:custGeom>
            <a:avLst/>
            <a:gdLst/>
            <a:ahLst/>
            <a:rect l="l" t="t" r="r" b="b"/>
            <a:pathLst>
              <a:path w="283" h="50">
                <a:moveTo>
                  <a:pt x="0" y="32"/>
                </a:moveTo>
                <a:cubicBezTo>
                  <a:pt x="18" y="38"/>
                  <a:pt x="53" y="50"/>
                  <a:pt x="53" y="50"/>
                </a:cubicBezTo>
                <a:lnTo>
                  <a:pt x="139" y="48"/>
                </a:lnTo>
                <a:lnTo>
                  <a:pt x="235" y="0"/>
                </a:lnTo>
                <a:lnTo>
                  <a:pt x="283" y="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477120" y="6019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crack in the w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7543800" y="228600"/>
            <a:ext cx="228600" cy="228600"/>
          </a:xfrm>
          <a:prstGeom prst="ellipse">
            <a:avLst/>
          </a:prstGeom>
          <a:solidFill>
            <a:srgbClr val="000000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>
            <a:hlinkClick r:id="" action="ppaction://hlinkshowjump?jump=endshow"/>
          </p:cNvPr>
          <p:cNvSpPr/>
          <p:nvPr/>
        </p:nvSpPr>
        <p:spPr>
          <a:xfrm>
            <a:off x="4876920" y="5715000"/>
            <a:ext cx="1143000" cy="1143000"/>
          </a:xfrm>
          <a:custGeom>
            <a:avLst/>
            <a:gdLst>
              <a:gd name="textAreaLeft" fmla="*/ 171000 w 1143000"/>
              <a:gd name="textAreaRight" fmla="*/ 972000 w 1143000"/>
              <a:gd name="textAreaTop" fmla="*/ 171000 h 1143000"/>
              <a:gd name="textAreaBottom" fmla="*/ 972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68" y="3232"/>
                </a:lnTo>
                <a:lnTo>
                  <a:pt x="3232" y="3232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68" y="18368"/>
                </a:lnTo>
                <a:lnTo>
                  <a:pt x="18368" y="3232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32" y="18368"/>
                </a:lnTo>
                <a:lnTo>
                  <a:pt x="18368" y="18368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32" y="3232"/>
                </a:lnTo>
                <a:lnTo>
                  <a:pt x="3232" y="18368"/>
                </a:lnTo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>
            <a:hlinkClick r:id="rId3" action="ppaction://hlinksldjump"/>
          </p:cNvPr>
          <p:cNvSpPr/>
          <p:nvPr/>
        </p:nvSpPr>
        <p:spPr>
          <a:xfrm>
            <a:off x="3352680" y="5715000"/>
            <a:ext cx="1143000" cy="1143000"/>
          </a:xfrm>
          <a:custGeom>
            <a:avLst/>
            <a:gdLst>
              <a:gd name="textAreaLeft" fmla="*/ 169560 w 1143000"/>
              <a:gd name="textAreaRight" fmla="*/ 973440 w 1143000"/>
              <a:gd name="textAreaTop" fmla="*/ 169560 h 1143000"/>
              <a:gd name="textAreaBottom" fmla="*/ 9734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90" y="3210"/>
                </a:lnTo>
                <a:lnTo>
                  <a:pt x="3210" y="321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90" y="18390"/>
                </a:lnTo>
                <a:lnTo>
                  <a:pt x="18390" y="321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10" y="18390"/>
                </a:lnTo>
                <a:lnTo>
                  <a:pt x="18390" y="1839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10" y="3210"/>
                </a:lnTo>
                <a:lnTo>
                  <a:pt x="3210" y="18390"/>
                </a:lnTo>
                <a:close/>
              </a:path>
            </a:pathLst>
          </a:custGeom>
          <a:solidFill>
            <a:srgbClr val="03d3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>
            <a:hlinkClick r:id="rId4"/>
          </p:cNvPr>
          <p:cNvSpPr/>
          <p:nvPr/>
        </p:nvSpPr>
        <p:spPr>
          <a:xfrm>
            <a:off x="1828800" y="5715000"/>
            <a:ext cx="1143000" cy="1143000"/>
          </a:xfrm>
          <a:custGeom>
            <a:avLst/>
            <a:gdLst>
              <a:gd name="textAreaLeft" fmla="*/ 25200 w 1143000"/>
              <a:gd name="textAreaRight" fmla="*/ 1117800 w 1143000"/>
              <a:gd name="textAreaTop" fmla="*/ 25200 h 1143000"/>
              <a:gd name="textAreaBottom" fmla="*/ 11178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120" y="480"/>
                </a:lnTo>
                <a:lnTo>
                  <a:pt x="480" y="48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120" y="21120"/>
                </a:lnTo>
                <a:lnTo>
                  <a:pt x="21120" y="48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80" y="21120"/>
                </a:lnTo>
                <a:lnTo>
                  <a:pt x="21120" y="2112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80" y="480"/>
                </a:lnTo>
                <a:lnTo>
                  <a:pt x="480" y="2112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152280" y="57913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xtre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1515"/>
                    </a:gs>
                    <a:gs pos="50000">
                      <a:srgbClr val="000000"/>
                    </a:gs>
                    <a:gs pos="100000">
                      <a:srgbClr val="ff1515"/>
                    </a:gs>
                  </a:gsLst>
                  <a:lin ang="13500000"/>
                </a:gradFill>
                <a:latin typeface="Comic Sans MS"/>
              </a:rPr>
              <a:t>Escape #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1515"/>
                  </a:gs>
                  <a:gs pos="50000">
                    <a:srgbClr val="000000"/>
                  </a:gs>
                  <a:gs pos="100000">
                    <a:srgbClr val="ff1515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pic>
        <p:nvPicPr>
          <p:cNvPr id="1064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3048120" y="-304920"/>
            <a:ext cx="609480" cy="76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restart="whenNotActive" nodeType="interactiveSeq" fill="hold">
                <p:stCondLst>
                  <p:cond evt="onClick">
                    <p:tgtEl>
                      <p:spTgt spid="1057"/>
                    </p:tgtEl>
                  </p:cond>
                </p:stCondLst>
                <p:childTnLst>
                  <p:par>
                    <p:cTn id="586" fill="hold">
                      <p:stCondLst>
                        <p:cond evt="onClick">
                          <p:tgtEl>
                            <p:spTgt spid="1057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2" dur="3795" fill="hold"/>
                                        <p:tgtEl>
                                          <p:spTgt spid="10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1052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1052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*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3" action="ppaction://hlinksldjump"/>
          </p:cNvPr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4" action="ppaction://hlinksldjump"/>
          </p:cNvPr>
          <p:cNvSpPr/>
          <p:nvPr/>
        </p:nvSpPr>
        <p:spPr>
          <a:xfrm rot="12854400">
            <a:off x="7009920" y="4876200"/>
            <a:ext cx="2133720" cy="1600200"/>
          </a:xfrm>
          <a:prstGeom prst="leftArrow">
            <a:avLst>
              <a:gd name="adj1" fmla="val 50000"/>
              <a:gd name="adj2" fmla="val 69843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**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2" action="ppaction://hlinksldjump"/>
          </p:cNvPr>
          <p:cNvSpPr/>
          <p:nvPr/>
        </p:nvSpPr>
        <p:spPr>
          <a:xfrm>
            <a:off x="2286000" y="1219320"/>
            <a:ext cx="4267080" cy="54100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rId3" action="ppaction://hlinksldjump"/>
          </p:cNvPr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rId4" action="ppaction://hlinksldjump"/>
          </p:cNvPr>
          <p:cNvSpPr/>
          <p:nvPr/>
        </p:nvSpPr>
        <p:spPr>
          <a:xfrm rot="12854400">
            <a:off x="7009920" y="4876200"/>
            <a:ext cx="2133720" cy="1600200"/>
          </a:xfrm>
          <a:prstGeom prst="leftArrow">
            <a:avLst>
              <a:gd name="adj1" fmla="val 50000"/>
              <a:gd name="adj2" fmla="val 69843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057400" y="76320"/>
            <a:ext cx="4724280" cy="670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8247" t="22123" r="9493" b="6767"/>
          <a:stretch/>
        </p:blipFill>
        <p:spPr>
          <a:xfrm>
            <a:off x="2286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209680" y="228600"/>
            <a:ext cx="4419720" cy="762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encil"/>
              </a:rPr>
              <a:t>Corre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33920" y="12193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3048120"/>
            <a:ext cx="1447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4876920"/>
            <a:ext cx="14475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81480" y="12193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81480" y="3048120"/>
            <a:ext cx="1447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81480" y="4876920"/>
            <a:ext cx="1447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rId2" action="ppaction://hlinksldjump"/>
          </p:cNvPr>
          <p:cNvSpPr/>
          <p:nvPr/>
        </p:nvSpPr>
        <p:spPr>
          <a:xfrm rot="12854400">
            <a:off x="7009920" y="4876200"/>
            <a:ext cx="2133720" cy="1600200"/>
          </a:xfrm>
          <a:prstGeom prst="leftArrow">
            <a:avLst>
              <a:gd name="adj1" fmla="val 50000"/>
              <a:gd name="adj2" fmla="val 69843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remove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50" autoRev="1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334120" y="228600"/>
            <a:ext cx="228600" cy="1219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 rot="10800000">
            <a:off x="5171760" y="2800440"/>
            <a:ext cx="1228680" cy="24573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 rot="10800000">
            <a:off x="3866760" y="2800440"/>
            <a:ext cx="1228680" cy="2457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 rot="10800000">
            <a:off x="2580840" y="2800440"/>
            <a:ext cx="1228680" cy="24573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581200" y="2266920"/>
            <a:ext cx="3743280" cy="1828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76320"/>
            <a:ext cx="5105160" cy="2209680"/>
          </a:xfrm>
          <a:prstGeom prst="flowChartExtra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Cloud"/>
          <p:cNvSpPr/>
          <p:nvPr/>
        </p:nvSpPr>
        <p:spPr>
          <a:xfrm>
            <a:off x="7086600" y="1143000"/>
            <a:ext cx="129528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Cloud"/>
          <p:cNvSpPr/>
          <p:nvPr/>
        </p:nvSpPr>
        <p:spPr>
          <a:xfrm>
            <a:off x="304920" y="3733920"/>
            <a:ext cx="129528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loud"/>
          <p:cNvSpPr/>
          <p:nvPr/>
        </p:nvSpPr>
        <p:spPr>
          <a:xfrm>
            <a:off x="762120" y="457200"/>
            <a:ext cx="129528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Cloud"/>
          <p:cNvSpPr/>
          <p:nvPr/>
        </p:nvSpPr>
        <p:spPr>
          <a:xfrm>
            <a:off x="7238880" y="5715000"/>
            <a:ext cx="129564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Cloud"/>
          <p:cNvSpPr/>
          <p:nvPr/>
        </p:nvSpPr>
        <p:spPr>
          <a:xfrm>
            <a:off x="2590920" y="6553080"/>
            <a:ext cx="1295280" cy="609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730080"/>
            <a:ext cx="2057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hiller"/>
              </a:rPr>
              <a:t>House of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hiller"/>
              </a:rPr>
              <a:t>No Retur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9972200">
            <a:off x="2882520" y="278568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hiller"/>
              </a:rPr>
              <a:t>OM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800600" y="2514600"/>
            <a:ext cx="1447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hiller"/>
              </a:rPr>
              <a:t>LONG WAY DOW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335268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10080" y="335268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867280" y="335268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191120" y="3124080"/>
            <a:ext cx="457200" cy="914400"/>
          </a:xfrm>
          <a:prstGeom prst="rect">
            <a:avLst/>
          </a:prstGeom>
          <a:solidFill>
            <a:srgbClr val="292929"/>
          </a:solidFill>
          <a:ln w="13968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27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4267080" y="35049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419360" y="3505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343400" y="3809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380988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14600" y="3581280"/>
            <a:ext cx="1066680" cy="685800"/>
          </a:xfrm>
          <a:prstGeom prst="wedgeRoundRectCallout">
            <a:avLst>
              <a:gd name="adj1" fmla="val 119495"/>
              <a:gd name="adj2" fmla="val -64351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ee at las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91120" y="3352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3434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4190760" y="35812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419360" y="3505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572000" y="3885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95280" y="3657600"/>
            <a:ext cx="2210040" cy="304920"/>
          </a:xfrm>
          <a:prstGeom prst="wedgeRoundRectCallout">
            <a:avLst>
              <a:gd name="adj1" fmla="val 83550"/>
              <a:gd name="adj2" fmla="val -82291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OOOOOOO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rId7" action="ppaction://hlinksldjump"/>
          </p:cNvPr>
          <p:cNvSpPr/>
          <p:nvPr/>
        </p:nvSpPr>
        <p:spPr>
          <a:xfrm>
            <a:off x="8305920" y="64771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K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8"/>
          <a:stretch/>
        </p:blipFill>
        <p:spPr>
          <a:xfrm>
            <a:off x="777240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76.0)">
                                      <p:cBhvr>
                                        <p:cTn id="37" dur="1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L 0 0.59944 E">
                                      <p:cBhvr>
                                        <p:cTn id="81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L 0 0.59944 E">
                                      <p:cBhvr>
                                        <p:cTn id="83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L 0 0.59944 E">
                                      <p:cBhvr>
                                        <p:cTn id="85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L 0 0.59944 E">
                                      <p:cBhvr>
                                        <p:cTn id="87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L 0 0.59944 E">
                                      <p:cBhvr>
                                        <p:cTn id="89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L 0 0.59944 E">
                                      <p:cBhvr>
                                        <p:cTn id="91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L 0 0.59944 E">
                                      <p:cBhvr>
                                        <p:cTn id="93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4T10:46:52Z</dcterms:created>
  <dc:creator>B.M.W. Productionz</dc:creator>
  <dc:description>Escape the room...GOOD LUCK!!!</dc:description>
  <cp:keywords>Extreme Escape Room Game B.M.W. Productionz</cp:keywords>
  <dc:language>en-US</dc:language>
  <cp:lastModifiedBy>Benjamin M. Ward</cp:lastModifiedBy>
  <dcterms:modified xsi:type="dcterms:W3CDTF">2007-09-04T04:22:28Z</dcterms:modified>
  <cp:revision>206</cp:revision>
  <dc:subject>Room Escape Game</dc:subject>
  <dc:title>Extreme Escape #1</dc:title>
</cp:coreProperties>
</file>