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C53-5F88-4EE6-B7F4-15D26C81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BD56-EAE7-4534-9E62-C87B08A5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F77-F666-4AFC-AE6C-7297800E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E04-040A-43D0-9285-A627CA35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31EC-0004-40A7-BE28-2C5F2729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5E0E-8523-4E6E-8FDB-1326B6EF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02A9-4065-4400-BCB6-9C6A8477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7B8F-3827-44B7-8AAA-6403336B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F8FD-94A8-4684-B626-D2EBD0E0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E0D5-7A0E-47B1-AC1B-BD8AC1A8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54B3-C184-4F8F-8D68-C26EE93C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2D8-F38C-4BD5-BFB9-4CF05F54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A7AE-EEF4-4BBA-A21F-AC420809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1292-3051-4FA5-A80D-195B0CB2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206B-E8DF-4A02-9E87-0ED31C7C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67C7-6BCB-4D55-AC8E-29EC9D72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CEE5-09C4-494C-B63C-961C94F8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12DB3-1C28-4B68-BD79-84F31477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FA725-6368-4BAE-A321-AFA0D080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21CB2-1ED4-4713-9938-FAFD4F49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EC827-72FC-450C-AA3B-CA791AD3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FC15D-1236-4517-8C73-9DA1AFC6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1A80-4EA8-4AC0-A00F-AE3DFA24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9085B-688D-4785-9418-3DFABEE2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163C2-6CAE-4B82-865A-212A76F4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FF7D0-912A-4A1B-9FF8-7B74813B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FD822-6406-4BC3-8327-C617DEE1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9EEE-66AC-4A0B-A1FB-9324F4A5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02BD1-854C-459E-956F-1F2FD956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031B8-341D-493B-B382-DE0B36A0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CB1C6-F560-4C10-A52F-572FC971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A0F21-982F-467D-8A55-ECCD50F5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52F8D-9113-45E6-8E58-88EA76D7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5D7A-E144-4D52-8124-49A745B2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7D36B-C589-4F5D-A048-6967D0C7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1C40D-8129-442C-BE0A-111AD218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E4E06-F78C-4508-9FC8-431EA341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47B2D-0259-4663-975D-B254C79A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EBF7C-27E5-42C0-9347-510E96C6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09082-5D80-44A7-B278-CDA628EE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94DE5-92FC-462A-8ECC-6669B1A3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00784-A85D-48B4-AABC-B1BA1AB8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B2129-6243-41C3-BFFD-72791880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B50-B077-4A35-B414-3656435A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9EDC-E2F3-411C-962F-E33D44FB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143-2406-44C4-A0A4-A05A0639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6E6-AE0B-48EB-BB7D-B47753E7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9F3-2AD1-48F2-ADEB-DA071C1A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DAFD-9E30-4A4C-BBC8-BC2DAAC88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FACD-DABA-4444-B05D-298A45C39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115480" y="6207120"/>
            <a:ext cx="838080" cy="632160"/>
            <a:chOff x="8115480" y="6207120"/>
            <a:chExt cx="838080" cy="632160"/>
          </a:xfrm>
        </p:grpSpPr>
        <p:sp>
          <p:nvSpPr>
            <p:cNvPr id="47" name=""/>
            <p:cNvSpPr/>
            <p:nvPr/>
          </p:nvSpPr>
          <p:spPr>
            <a:xfrm>
              <a:off x="8155080" y="659304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kip Int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115480" y="6261120"/>
              <a:ext cx="838080" cy="27288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4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674200" y="6207120"/>
              <a:ext cx="279360" cy="32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191440" y="6207120"/>
              <a:ext cx="279360" cy="32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648640" y="6283440"/>
              <a:ext cx="279360" cy="26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800000">
              <a:off x="8410320" y="6283080"/>
              <a:ext cx="314280" cy="190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64" y="1135"/>
                    <a:pt x="6327" y="5080"/>
                    <a:pt x="6327" y="10800"/>
                  </a:cubicBezTo>
                  <a:cubicBezTo>
                    <a:pt x="6327" y="16520"/>
                    <a:pt x="13964" y="204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20040" y="6207120"/>
              <a:ext cx="279360" cy="32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0800000">
              <a:off x="8314920" y="6283080"/>
              <a:ext cx="228600" cy="190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00" y="1507"/>
                    <a:pt x="8400" y="5080"/>
                    <a:pt x="8400" y="10800"/>
                  </a:cubicBezTo>
                  <a:cubicBezTo>
                    <a:pt x="8400" y="16520"/>
                    <a:pt x="15000" y="2009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7924680" y="6113520"/>
            <a:ext cx="1219320" cy="74448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76D6-7265-4535-B3C3-1D01323ED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762120"/>
            <a:ext cx="9144000" cy="4805280"/>
            <a:chOff x="0" y="762120"/>
            <a:chExt cx="9144000" cy="4805280"/>
          </a:xfrm>
        </p:grpSpPr>
        <p:sp>
          <p:nvSpPr>
            <p:cNvPr id="98" name=""/>
            <p:cNvSpPr/>
            <p:nvPr/>
          </p:nvSpPr>
          <p:spPr>
            <a:xfrm>
              <a:off x="6019920" y="1752480"/>
              <a:ext cx="3124080" cy="2133720"/>
            </a:xfrm>
            <a:prstGeom prst="flowChartExtract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8365800">
              <a:off x="2590200" y="2971440"/>
              <a:ext cx="1904760" cy="1600200"/>
            </a:xfrm>
            <a:prstGeom prst="rtTriangl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2971800"/>
              <a:ext cx="1905120" cy="1600200"/>
            </a:xfrm>
            <a:prstGeom prst="rtTriangl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7238880" y="2666880"/>
              <a:ext cx="1905120" cy="1905120"/>
            </a:xfrm>
            <a:prstGeom prst="rtTriangl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567400"/>
              <a:ext cx="9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2057400"/>
              <a:ext cx="5029200" cy="2514600"/>
            </a:xfrm>
            <a:prstGeom prst="flowChartExtract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62320" y="762120"/>
              <a:ext cx="6781680" cy="3809880"/>
            </a:xfrm>
            <a:prstGeom prst="flowChartExtract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rot="5400000">
            <a:off x="-579240" y="3543120"/>
            <a:ext cx="160020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7978680" y="3382920"/>
            <a:ext cx="190512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69192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3669-9EDC-4395-B859-CE19E48E8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-533520" y="6324480"/>
            <a:ext cx="10287000" cy="762120"/>
            <a:chOff x="-533520" y="6324480"/>
            <a:chExt cx="10287000" cy="762120"/>
          </a:xfrm>
        </p:grpSpPr>
        <p:grpSp>
          <p:nvGrpSpPr>
            <p:cNvPr id="149" name=""/>
            <p:cNvGrpSpPr/>
            <p:nvPr/>
          </p:nvGrpSpPr>
          <p:grpSpPr>
            <a:xfrm>
              <a:off x="-457200" y="6324480"/>
              <a:ext cx="10210680" cy="762120"/>
              <a:chOff x="-457200" y="6324480"/>
              <a:chExt cx="10210680" cy="762120"/>
            </a:xfrm>
          </p:grpSpPr>
          <p:sp>
            <p:nvSpPr>
              <p:cNvPr id="150" name=""/>
              <p:cNvSpPr/>
              <p:nvPr/>
            </p:nvSpPr>
            <p:spPr>
              <a:xfrm>
                <a:off x="-457200" y="6324480"/>
                <a:ext cx="9753480" cy="762120"/>
              </a:xfrm>
              <a:prstGeom prst="rect">
                <a:avLst/>
              </a:prstGeom>
              <a:solidFill>
                <a:srgbClr val="99ccff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400800"/>
                <a:ext cx="9753480" cy="380880"/>
              </a:xfrm>
              <a:prstGeom prst="rect">
                <a:avLst/>
              </a:prstGeom>
              <a:solidFill>
                <a:srgbClr val="3333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-533520" y="6477120"/>
              <a:ext cx="9753840" cy="228600"/>
            </a:xfrm>
            <a:prstGeom prst="rect">
              <a:avLst/>
            </a:prstGeom>
            <a:solidFill>
              <a:srgbClr val="99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743200" y="6400800"/>
            <a:ext cx="838080" cy="380520"/>
            <a:chOff x="2743200" y="6400800"/>
            <a:chExt cx="838080" cy="380520"/>
          </a:xfrm>
        </p:grpSpPr>
        <p:sp>
          <p:nvSpPr>
            <p:cNvPr id="154" name=""/>
            <p:cNvSpPr/>
            <p:nvPr/>
          </p:nvSpPr>
          <p:spPr>
            <a:xfrm>
              <a:off x="2743200" y="6455160"/>
              <a:ext cx="838080" cy="27180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4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0800000">
              <a:off x="3049920" y="6482520"/>
              <a:ext cx="279000" cy="217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920" y="2196"/>
                    <a:pt x="12239" y="5080"/>
                    <a:pt x="12239" y="10800"/>
                  </a:cubicBezTo>
                  <a:cubicBezTo>
                    <a:pt x="12239" y="16520"/>
                    <a:pt x="16920" y="19404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01560" y="6400800"/>
              <a:ext cx="27936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54800" y="6455160"/>
              <a:ext cx="27900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34160" y="6455160"/>
              <a:ext cx="27936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85800" y="6396480"/>
            <a:ext cx="838080" cy="380520"/>
            <a:chOff x="685800" y="6396480"/>
            <a:chExt cx="838080" cy="380520"/>
          </a:xfrm>
        </p:grpSpPr>
        <p:sp>
          <p:nvSpPr>
            <p:cNvPr id="160" name=""/>
            <p:cNvSpPr/>
            <p:nvPr/>
          </p:nvSpPr>
          <p:spPr>
            <a:xfrm rot="10800000">
              <a:off x="685800" y="6450840"/>
              <a:ext cx="838080" cy="27180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4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8160" y="6477840"/>
              <a:ext cx="279000" cy="217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920" y="2196"/>
                    <a:pt x="12239" y="5080"/>
                    <a:pt x="12239" y="10800"/>
                  </a:cubicBezTo>
                  <a:cubicBezTo>
                    <a:pt x="12239" y="16520"/>
                    <a:pt x="16920" y="19404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0800000">
              <a:off x="686160" y="6450840"/>
              <a:ext cx="27936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0800000">
              <a:off x="1133280" y="6396480"/>
              <a:ext cx="27900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0800000">
              <a:off x="853560" y="6396480"/>
              <a:ext cx="27936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8077320" y="6400800"/>
            <a:ext cx="838080" cy="380520"/>
            <a:chOff x="8077320" y="6400800"/>
            <a:chExt cx="838080" cy="380520"/>
          </a:xfrm>
        </p:grpSpPr>
        <p:sp>
          <p:nvSpPr>
            <p:cNvPr id="166" name=""/>
            <p:cNvSpPr/>
            <p:nvPr/>
          </p:nvSpPr>
          <p:spPr>
            <a:xfrm>
              <a:off x="8077320" y="6455160"/>
              <a:ext cx="838080" cy="27180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4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0800000">
              <a:off x="8384040" y="6482520"/>
              <a:ext cx="279000" cy="217440"/>
            </a:xfrm>
            <a:custGeom>
              <a:avLst/>
              <a:gdLst>
                <a:gd name="textAreaLeft" fmla="*/ 37080 w 279000"/>
                <a:gd name="textAreaRight" fmla="*/ 241920 w 279000"/>
                <a:gd name="textAreaTop" fmla="*/ 37800 h 217440"/>
                <a:gd name="textAreaBottom" fmla="*/ 15768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635680" y="6400800"/>
              <a:ext cx="27936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88920" y="6455160"/>
              <a:ext cx="27900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68280" y="6455160"/>
              <a:ext cx="27936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551000" y="6095880"/>
            <a:ext cx="15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Back to Selection Sc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654120" y="6426360"/>
            <a:ext cx="914400" cy="30456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2685960" y="6426360"/>
            <a:ext cx="914400" cy="30456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8015400" y="6477120"/>
            <a:ext cx="914400" cy="30456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hyperlink" Target="http://www.freewebs.com/bmwproductionz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slide" Target=""/><Relationship Id="rId6" Type="http://schemas.openxmlformats.org/officeDocument/2006/relationships/image" Target="../media/image5.png"/><Relationship Id="rId7" Type="http://schemas.openxmlformats.org/officeDocument/2006/relationships/slide" Target=""/><Relationship Id="rId8" Type="http://schemas.openxmlformats.org/officeDocument/2006/relationships/image" Target="../media/image5.png"/><Relationship Id="rId9" Type="http://schemas.openxmlformats.org/officeDocument/2006/relationships/slide" Target=""/><Relationship Id="rId10" Type="http://schemas.openxmlformats.org/officeDocument/2006/relationships/image" Target="../media/image5.png"/><Relationship Id="rId11" Type="http://schemas.openxmlformats.org/officeDocument/2006/relationships/slide" Target=""/><Relationship Id="rId12" Type="http://schemas.openxmlformats.org/officeDocument/2006/relationships/image" Target="../media/image5.png"/><Relationship Id="rId13" Type="http://schemas.openxmlformats.org/officeDocument/2006/relationships/slide" Target=""/><Relationship Id="rId14" Type="http://schemas.openxmlformats.org/officeDocument/2006/relationships/image" Target="../media/image5.png"/><Relationship Id="rId15" Type="http://schemas.openxmlformats.org/officeDocument/2006/relationships/slide" Target=""/><Relationship Id="rId16" Type="http://schemas.openxmlformats.org/officeDocument/2006/relationships/image" Target="../media/image5.png"/><Relationship Id="rId17" Type="http://schemas.openxmlformats.org/officeDocument/2006/relationships/hyperlink" Target="file:///tmp/home/.config/libreoffice/4/user/gallery/chimes.wav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reewebs.com/bmwproductionz/" TargetMode="External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reewebs.com/bmwproductionz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762120"/>
            <a:ext cx="9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ick the Nolan to Sta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86040" y="1905120"/>
            <a:ext cx="3614760" cy="444636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endshow"/>
          </p:cNvPr>
          <p:cNvSpPr/>
          <p:nvPr/>
        </p:nvSpPr>
        <p:spPr>
          <a:xfrm>
            <a:off x="6781680" y="4648320"/>
            <a:ext cx="2133720" cy="2057400"/>
          </a:xfrm>
          <a:custGeom>
            <a:avLst/>
            <a:gdLst>
              <a:gd name="textAreaLeft" fmla="*/ 307800 w 2133720"/>
              <a:gd name="textAreaRight" fmla="*/ 1825920 w 2133720"/>
              <a:gd name="textAreaTop" fmla="*/ 307800 h 2057400"/>
              <a:gd name="textAreaBottom" fmla="*/ 1749600 h 2057400"/>
            </a:gdLst>
            <a:ahLst/>
            <a:rect l="textAreaLeft" t="textAreaTop" r="textAreaRight" b="textAreaBottom"/>
            <a:pathLst>
              <a:path w="22401" h="21600">
                <a:moveTo>
                  <a:pt x="0" y="0"/>
                </a:moveTo>
                <a:lnTo>
                  <a:pt x="22401" y="0"/>
                </a:lnTo>
                <a:lnTo>
                  <a:pt x="22401" y="21600"/>
                </a:lnTo>
                <a:lnTo>
                  <a:pt x="0" y="21600"/>
                </a:lnTo>
                <a:close/>
              </a:path>
              <a:path fill="lightenLess" w="22401" h="21600">
                <a:moveTo>
                  <a:pt x="0" y="0"/>
                </a:moveTo>
                <a:lnTo>
                  <a:pt x="22401" y="0"/>
                </a:lnTo>
                <a:lnTo>
                  <a:pt x="19169" y="3232"/>
                </a:lnTo>
                <a:lnTo>
                  <a:pt x="3232" y="3232"/>
                </a:lnTo>
                <a:close/>
              </a:path>
              <a:path fill="darken" w="22401" h="21600">
                <a:moveTo>
                  <a:pt x="22401" y="0"/>
                </a:moveTo>
                <a:lnTo>
                  <a:pt x="22401" y="21600"/>
                </a:lnTo>
                <a:lnTo>
                  <a:pt x="19169" y="18368"/>
                </a:lnTo>
                <a:lnTo>
                  <a:pt x="19169" y="3232"/>
                </a:lnTo>
                <a:close/>
              </a:path>
              <a:path fill="darkenLess" w="22401" h="21600">
                <a:moveTo>
                  <a:pt x="22401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9169" y="18368"/>
                </a:lnTo>
                <a:close/>
              </a:path>
              <a:path fill="lighten" w="22401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3"/>
          </p:cNvPr>
          <p:cNvSpPr/>
          <p:nvPr/>
        </p:nvSpPr>
        <p:spPr>
          <a:xfrm>
            <a:off x="228600" y="4648320"/>
            <a:ext cx="2133720" cy="2057400"/>
          </a:xfrm>
          <a:custGeom>
            <a:avLst/>
            <a:gdLst>
              <a:gd name="textAreaLeft" fmla="*/ 45720 w 2133720"/>
              <a:gd name="textAreaRight" fmla="*/ 2088000 w 2133720"/>
              <a:gd name="textAreaTop" fmla="*/ 45720 h 2057400"/>
              <a:gd name="textAreaBottom" fmla="*/ 2011680 h 2057400"/>
            </a:gdLst>
            <a:ahLst/>
            <a:rect l="textAreaLeft" t="textAreaTop" r="textAreaRight" b="textAreaBottom"/>
            <a:pathLst>
              <a:path w="22401" h="21600">
                <a:moveTo>
                  <a:pt x="0" y="0"/>
                </a:moveTo>
                <a:lnTo>
                  <a:pt x="22401" y="0"/>
                </a:lnTo>
                <a:lnTo>
                  <a:pt x="22401" y="21600"/>
                </a:lnTo>
                <a:lnTo>
                  <a:pt x="0" y="21600"/>
                </a:lnTo>
                <a:close/>
              </a:path>
              <a:path fill="lightenLess" w="22401" h="21600">
                <a:moveTo>
                  <a:pt x="0" y="0"/>
                </a:moveTo>
                <a:lnTo>
                  <a:pt x="22401" y="0"/>
                </a:lnTo>
                <a:lnTo>
                  <a:pt x="21921" y="480"/>
                </a:lnTo>
                <a:lnTo>
                  <a:pt x="480" y="480"/>
                </a:lnTo>
                <a:close/>
              </a:path>
              <a:path fill="darken" w="22401" h="21600">
                <a:moveTo>
                  <a:pt x="22401" y="0"/>
                </a:moveTo>
                <a:lnTo>
                  <a:pt x="22401" y="21600"/>
                </a:lnTo>
                <a:lnTo>
                  <a:pt x="21921" y="21120"/>
                </a:lnTo>
                <a:lnTo>
                  <a:pt x="21921" y="480"/>
                </a:lnTo>
                <a:close/>
              </a:path>
              <a:path fill="darkenLess" w="22401" h="21600">
                <a:moveTo>
                  <a:pt x="22401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921" y="21120"/>
                </a:lnTo>
                <a:close/>
              </a:path>
              <a:path fill="lighten" w="22401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7543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moving red screensaver"/>
          <p:cNvPicPr/>
          <p:nvPr/>
        </p:nvPicPr>
        <p:blipFill>
          <a:blip r:embed="rId1"/>
          <a:stretch/>
        </p:blipFill>
        <p:spPr>
          <a:xfrm>
            <a:off x="-76320" y="0"/>
            <a:ext cx="16916400" cy="6972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moving red screensaver"/>
          <p:cNvPicPr/>
          <p:nvPr/>
        </p:nvPicPr>
        <p:blipFill>
          <a:blip r:embed="rId2"/>
          <a:stretch/>
        </p:blipFill>
        <p:spPr>
          <a:xfrm>
            <a:off x="-76320" y="0"/>
            <a:ext cx="16916400" cy="6972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3" action="ppaction://hlinksldjump"/>
          </p:cNvPr>
          <p:cNvPicPr/>
          <p:nvPr/>
        </p:nvPicPr>
        <p:blipFill>
          <a:blip r:embed="rId4"/>
          <a:srcRect l="16113" t="6719" r="24841" b="9244"/>
          <a:stretch/>
        </p:blipFill>
        <p:spPr>
          <a:xfrm>
            <a:off x="-1066680" y="0"/>
            <a:ext cx="671400" cy="1523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5" action="ppaction://hlinksldjump"/>
          </p:cNvPr>
          <p:cNvPicPr/>
          <p:nvPr/>
        </p:nvPicPr>
        <p:blipFill>
          <a:blip r:embed="rId6"/>
          <a:srcRect l="16113" t="6719" r="24841" b="9244"/>
          <a:stretch/>
        </p:blipFill>
        <p:spPr>
          <a:xfrm>
            <a:off x="9829800" y="5334120"/>
            <a:ext cx="671400" cy="15238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7" action="ppaction://hlinksldjump"/>
          </p:cNvPr>
          <p:cNvPicPr/>
          <p:nvPr/>
        </p:nvPicPr>
        <p:blipFill>
          <a:blip r:embed="rId8"/>
          <a:srcRect l="16113" t="6719" r="24841" b="9244"/>
          <a:stretch/>
        </p:blipFill>
        <p:spPr>
          <a:xfrm>
            <a:off x="10225080" y="457200"/>
            <a:ext cx="671400" cy="1523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9" action="ppaction://hlinksldjump"/>
          </p:cNvPr>
          <p:cNvPicPr/>
          <p:nvPr/>
        </p:nvPicPr>
        <p:blipFill>
          <a:blip r:embed="rId10"/>
          <a:srcRect l="16113" t="6719" r="24841" b="9244"/>
          <a:stretch/>
        </p:blipFill>
        <p:spPr>
          <a:xfrm>
            <a:off x="-76320" y="7391520"/>
            <a:ext cx="1443240" cy="3276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>
            <a:hlinkClick r:id="rId11" action="ppaction://hlinksldjump"/>
          </p:cNvPr>
          <p:cNvPicPr/>
          <p:nvPr/>
        </p:nvPicPr>
        <p:blipFill>
          <a:blip r:embed="rId12"/>
          <a:srcRect l="16113" t="6719" r="24841" b="9244"/>
          <a:stretch/>
        </p:blipFill>
        <p:spPr>
          <a:xfrm>
            <a:off x="3505320" y="-3505320"/>
            <a:ext cx="671400" cy="15242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>
            <a:hlinkClick r:id="rId13" action="ppaction://hlinksldjump"/>
          </p:cNvPr>
          <p:cNvPicPr/>
          <p:nvPr/>
        </p:nvPicPr>
        <p:blipFill>
          <a:blip r:embed="rId14"/>
          <a:srcRect l="16113" t="6719" r="24841" b="9244"/>
          <a:stretch/>
        </p:blipFill>
        <p:spPr>
          <a:xfrm rot="16020600">
            <a:off x="10949760" y="1393920"/>
            <a:ext cx="1525320" cy="3461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rId15" action="ppaction://hlinksldjump"/>
          </p:cNvPr>
          <p:cNvPicPr/>
          <p:nvPr/>
        </p:nvPicPr>
        <p:blipFill>
          <a:blip r:embed="rId16"/>
          <a:srcRect l="16113" t="8482" r="24841" b="9244"/>
          <a:stretch/>
        </p:blipFill>
        <p:spPr>
          <a:xfrm>
            <a:off x="7835760" y="14935320"/>
            <a:ext cx="1611360" cy="3581280"/>
          </a:xfrm>
          <a:prstGeom prst="rect">
            <a:avLst/>
          </a:prstGeom>
          <a:ln w="0">
            <a:noFill/>
          </a:ln>
        </p:spPr>
      </p:pic>
      <p:sp>
        <p:nvSpPr>
          <p:cNvPr id="225" name="">
            <a:hlinkClick r:id="rId17"/>
          </p:cNvPr>
          <p:cNvSpPr/>
          <p:nvPr/>
        </p:nvSpPr>
        <p:spPr>
          <a:xfrm>
            <a:off x="4800600" y="5715000"/>
            <a:ext cx="685800" cy="685800"/>
          </a:xfrm>
          <a:prstGeom prst="star5">
            <a:avLst/>
          </a:prstGeom>
          <a:solidFill>
            <a:srgbClr val="bdb9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8" repeatCount="indefinite">
                                  <p:stCondLst>
                                    <p:cond delay="40000"/>
                                  </p:stCondLst>
                                  <p:childTnLst>
                                    <p:animRot by="43200000">
                                      <p:cBhvr>
                                        <p:cTn id="1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5382 -0.00231 C 0.56892 0.48265 1.0842 0.96762 1.20608 0.94033 C 1.32795 0.91304 0.94479 -0.17114 0.78455 -0.16628 C 0.6243 -0.16143 0.17812 0.94958 0.24444 0.96901 C 0.31076 0.98843 1.22639 -0.01434 1.18299 -0.04949 C 1.13958 -0.08465 0.08941 0.78284 -0.01545 0.75786 C -0.12031 0.73288 0.34514 -0.20629 0.55364 -0.19912 C 0.76215 -0.19195 1.30347 0.70837 1.23524 0.80088 C 1.16701 0.89338 0.13889 0.42437 0.14444 0.35615 C 0.15 0.28793 1.30955 0.36887 1.2691 0.39107 C 1.22864 0.41327 -0.11736 0.48705 -0.09861 0.48936 C -0.07986 0.49167 1.28559 0.3388 1.38142 0.40541 C 1.47726 0.47201 0.67049 0.98196 0.47674 0.88899 C 0.28299 0.79602 0.1868 -0.05828 0.2184 -0.15171 C 0.25 -0.24561 0.59271 0.2685 0.66597 0.32747 C 0.73924 0.38645 0.62552 0.23335 0.65833 0.20259 C 0.69114 0.17183 0.8717 0.17229 0.86302 0.14315 C 0.85434 0.11401 0.65 0.02266 0.60608 0.02844 C 0.56215 0.03423 0.57083 0.15564 0.59983 0.17784 C 0.62882 0.20004 0.76371 0.18131 0.77986 0.16165 C 0.79601 0.142 0.82917 -0.0865 0.6967 0.0592 C 0.56424 0.20467 0.02656 1.05943 -0.01545 1.03654 C -0.05729 1.01364 0.30937 -0.05874 0.44601 -0.07817 C 0.58264 -0.0976 0.78733 0.77844 0.80451 0.91975 C 0.8217 1.06105 0.51094 0.83672 0.54913 0.77012 C 0.58733 0.70351 0.95521 0.47895 1.03368 0.52012 C 1.11215 0.56105 0.97101 1.00485 1.01979 1.01619 C 1.06858 1.02752 1.35573 0.70467 1.32604 0.58788 C 1.29635 0.47109 0.86823 0.40055 0.84132 0.31522 C 0.81441 0.22988 1.1533 0.12905 1.16441 0.07539 C 1.17552 0.02174 0.93871 0.03099 0.90764 -0.00648 C 0.87656 -0.04394 1.01805 -0.14639 0.9783 -0.14986 C 0.93854 -0.15333 0.82726 -0.1605 0.6691 -0.02706 C 0.51094 0.10638 0.10989 0.62164 0.02917 0.65125 C -0.05156 0.68085 0.18924 0.22988 0.18455 0.15125 C 0.17986 0.07262 0.0026 0.21346 0.00139 0.17992 C 0.00035 0.14639 0.19114 -0.01804 0.1783 -0.04949 C 0.16545 -0.08095 0.04496 -0.04487 -0.07552 -0.00856 E">
                                      <p:cBhvr>
                                        <p:cTn id="14" dur="30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autoRev="1" nodeType="withEffect" fill="hold" presetClass="path" presetID="0" repeatCount="indefinite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-0.07083 0.01272 C -0.59444 0.05319 -1.11805 0.09366 -1.11528 0.01272 C -1.11285 -0.06823 -0.04913 -0.35708 -0.05555 -0.47295 C -0.06198 -0.58881 -1.15382 -0.62165 -1.15399 -0.68201 C -1.15416 -0.74237 -0.19045 -0.79094 -0.05712 -0.8358 C 0.07622 -0.88067 -0.31128 -1.12743 -0.35399 -0.95051 C -0.3967 -0.77359 -0.26493 0.23126 -0.31389 0.22571 C -0.36285 0.22016 -0.55955 -1 -0.64774 -0.98289 C -0.73594 -0.9667 -0.78889 0.33348 -0.84323 0.32631 C -0.89757 0.31915 -0.90937 -0.91998 -0.97396 -1.02614 C -1.03854 -1.13229 -1.43663 -0.40033 -1.2309 -0.30921 C -1.02517 -0.21809 0.24861 -0.42831 0.2599 -0.47919 C 0.27118 -0.53007 -1.00573 -0.6982 -1.16319 -0.61448 C -1.32066 -0.53076 -0.82604 0.07585 -0.68472 0.02289 C -0.5434 -0.03007 -0.28785 -0.821 -0.31545 -0.93155 C -0.34305 -1.04302 -0.75087 -0.7537 -0.85087 -0.64316 C -0.95087 -0.53261 -1.03229 -0.38113 -0.91545 -0.26804 C -0.79861 -0.15495 -0.28437 0.09366 -0.1493 0.03515 C -0.01423 -0.02336 -0.01076 -0.49607 -0.10469 -0.61864 C -0.19861 -0.74122 -0.55764 -0.75278 -0.7125 -0.70051 C -0.86736 -0.64825 -1.0092 -0.43779 -1.03403 -0.30505 C -1.05885 -0.1723 -1.00017 0.03584 -0.86163 0.09667 C -0.72309 0.15749 -0.28073 0.21091 -0.20312 0.05989 C -0.12552 -0.09112 -0.27864 -0.69519 -0.39548 -0.80921 C -0.51232 -0.92322 -0.80677 -0.72225 -0.90469 -0.62466 C -1.0026 -0.52706 -1.07882 -0.33257 -0.98316 -0.22295 C -0.8875 -0.11332 -0.40677 0.12534 -0.3309 0.03307 C -0.25503 -0.05921 -0.4125 -0.71878 -0.52778 -0.77637 C -0.64305 -0.83395 -1.01771 -0.4371 -1.02326 -0.31314 C -1.02882 -0.18918 -0.68524 0.01156 -0.56163 -0.03238 C -0.43802 -0.07632 -0.24062 -0.46924 -0.2816 -0.57748 C -0.32257 -0.68571 -0.72291 -0.76642 -0.80781 -0.68201 C -0.89271 -0.5976 -0.87812 -0.16698 -0.79097 -0.07147 C -0.70382 0.02405 -0.31371 -0.0074 -0.28472 -0.10824 C -0.25573 -0.20907 -0.55694 -0.6501 -0.61701 -0.676 C -0.67708 -0.7019 -0.68524 -0.33858 -0.64479 -0.26411 C -0.60434 -0.18964 -0.38472 -0.19334 -0.37396 -0.22919 C -0.36319 -0.26504 -0.55139 -0.48405 -0.58003 -0.47919 C -0.60868 -0.47433 -0.5658 -0.22873 -0.54635 -0.20051 C -0.52691 -0.1723 -0.45573 -0.28284 -0.46319 -0.30921 C -0.47066 -0.33557 -0.57969 -0.37049 -0.59097 -0.35824 C -0.60225 -0.34598 -0.54479 -0.25 -0.5309 -0.23543 C -0.51701 -0.22086 -0.50712 -0.25648 -0.50781 -0.27012 C -0.5085 -0.28377 -0.46285 -0.22133 -0.53559 -0.3173 C -0.60833 -0.41328 -0.86128 -0.7685 -0.94479 -0.84598 C -1.0283 -0.92345 -1.0191 -0.86194 -1.03698 -0.78261 C -1.05486 -0.70329 -1.06198 -0.49098 -1.05243 -0.37049 C -1.04288 -0.25 -1.04462 -0.10824 -0.98003 -0.05898 C -0.91545 -0.00972 -0.78003 -0.07609 -0.66475 -0.0754 C -0.54948 -0.0747 -0.37604 -0.06661 -0.28785 -0.05505 C -0.19965 -0.04348 -0.11458 -0.02521 -0.13559 -0.00579 C -0.1566 0.01364 -0.3309 0.06244 -0.41389 0.06174 C -0.49687 0.06105 -0.55052 -0.02221 -0.63403 -0.00995 C -0.71753 0.00231 -0.90347 0.1642 -0.91545 0.13552 C -0.92743 0.10684 -0.82725 -0.11309 -0.70625 -0.18201 C -0.58524 -0.25093 -0.2717 -0.23381 -0.18941 -0.27845 C -0.10712 -0.32308 -0.2092 -0.41698 -0.2125 -0.45051 C -0.2158 -0.48405 -0.20781 -0.47248 -0.20937 -0.47919 C -0.21094 -0.4859 -0.22326 -0.48497 -0.2217 -0.49145 C -0.22014 -0.49792 -0.20069 -0.51041 -0.20017 -0.51804 C -0.19965 -0.52567 -0.21927 -0.53076 -0.21857 -0.53654 C -0.21788 -0.54233 -0.19618 -0.54649 -0.19548 -0.55296 C -0.19479 -0.55944 -0.21389 -0.56846 -0.21389 -0.57563 C -0.21389 -0.5828 -0.19496 -0.58997 -0.19548 -0.59598 C -0.196 -0.60199 -0.21805 -0.60616 -0.21701 -0.6124 C -0.21597 -0.61864 -0.18715 -0.62512 -0.18941 -0.63298 C -0.19166 -0.64085 -0.23524 -0.65102 -0.2309 -0.65958 C -0.22656 -0.66813 -0.16406 -0.67646 -0.16319 -0.68409 C -0.16232 -0.69172 -0.2059 -0.70814 -0.22621 -0.70467 C -0.24653 -0.70121 -0.27378 -0.66351 -0.28472 -0.66374 C -0.29566 -0.66397 -0.2868 -0.70583 -0.29236 -0.70676 C -0.29791 -0.70768 -0.31198 -0.66906 -0.31857 -0.66975 C -0.32517 -0.67045 -0.32691 -0.71046 -0.33246 -0.71069 C -0.33802 -0.71092 -0.34548 -0.67207 -0.35243 -0.67184 C -0.35937 -0.6716 -0.36701 -0.71046 -0.37396 -0.70884 C -0.3809 -0.70722 -0.3868 -0.66143 -0.39392 -0.66166 C -0.40104 -0.66189 -0.41059 -0.71277 -0.41701 -0.71069 C -0.42344 -0.70861 -0.42587 -0.65102 -0.43246 -0.6494 C -0.43906 -0.64778 -0.45 -0.70259 -0.45712 -0.70051 C -0.46423 -0.69843 -0.4691 -0.63969 -0.47552 -0.63691 C -0.48194 -0.63414 -0.48889 -0.68548 -0.49548 -0.68409 C -0.50208 -0.6827 -0.50885 -0.62859 -0.51545 -0.62882 C -0.52205 -0.62905 -0.52916 -0.68548 -0.53559 -0.68617 C -0.54201 -0.68687 -0.54739 -0.63391 -0.55399 -0.63298 C -0.56059 -0.63206 -0.5691 -0.67808 -0.57552 -0.68016 C -0.58194 -0.68224 -0.5842 -0.64801 -0.59236 -0.64524 C -0.60052 -0.64246 -0.61597 -0.66097 -0.62465 -0.66374 C -0.63333 -0.66652 -0.6368 -0.66027 -0.64479 -0.66166 C -0.65278 -0.66305 -0.66597 -0.6716 -0.67239 -0.67184 C -0.67882 -0.67207 -0.67899 -0.66605 -0.68316 -0.66374 C -0.68732 -0.66143 -0.6934 -0.65449 -0.69705 -0.6575 C -0.70069 -0.6605 -0.69861 -0.68178 -0.70469 -0.68201 C -0.71076 -0.68224 -0.72014 -0.66605 -0.73403 -0.65958 C -0.74791 -0.6531 -0.77552 -0.64154 -0.78785 -0.64316 C -0.80017 -0.64478 -0.79965 -0.66559 -0.80781 -0.66975 C -0.81597 -0.67392 -0.82691 -0.67114 -0.83698 -0.66767 C -0.84705 -0.6642 -0.86041 -0.6575 -0.86788 -0.6494 C -0.87535 -0.64131 -0.87465 -0.62558 -0.8816 -0.61864 C -0.88854 -0.61171 -0.90173 -0.59875 -0.90937 -0.60824 C -0.91701 -0.61772 -0.92604 -0.66073 -0.92778 -0.676 C -0.92951 -0.69126 -0.91354 -0.69959 -0.92014 -0.70051 C -0.92673 -0.70144 -0.95885 -0.69404 -0.96788 -0.68201 C -0.97691 -0.66998 -0.97621 -0.6427 -0.97396 -0.62882 C -0.9717 -0.61494 -0.96475 -0.60801 -0.95399 -0.59806 C -0.94323 -0.58812 -0.91146 -0.58164 -0.90937 -0.56938 C -0.90729 -0.55713 -0.94479 -0.54071 -0.94166 -0.52429 C -0.93854 -0.50787 -0.89791 -0.48266 -0.89097 -0.47109 C -0.88403 -0.45953 -0.90434 -0.45907 -0.90017 -0.45467 C -0.896 -0.45028 -0.86649 -0.45144 -0.86632 -0.44427 C -0.86614 -0.4371 -0.89323 -0.42184 -0.89861 -0.41166 C -0.90399 -0.40148 -0.8993 -0.39293 -0.89861 -0.38298 C -0.89791 -0.37304 -0.8967 -0.36448 -0.89392 -0.35222 C -0.89114 -0.33997 -0.89062 -0.31869 -0.8816 -0.30921 C -0.87257 -0.29973 -0.84132 -0.30227 -0.8401 -0.29487 C -0.83889 -0.28747 -0.8684 -0.27544 -0.87396 -0.26411 C -0.87951 -0.25278 -0.87812 -0.23497 -0.87396 -0.22711 C -0.86979 -0.21924 -0.84982 -0.22503 -0.8493 -0.21693 C -0.84878 -0.20884 -0.89844 -0.1945 -0.87083 -0.17785 C -0.84323 -0.1612 -0.72413 -0.10916 -0.68316 -0.11656 C -0.64219 -0.12396 -0.61823 -0.21809 -0.62465 -0.22295 C -0.63107 -0.2278 -0.7243 -0.16513 -0.7217 -0.14524 C -0.7191 -0.12535 -0.61059 -0.12466 -0.60937 -0.10407 C -0.60816 -0.08349 -0.75035 -0.04533 -0.71389 -0.02221 C -0.67743 0.000920000000000001 -0.43246 0.04648 -0.39097 0.03515 C -0.34948 0.02382 -0.4776 -0.05319 -0.46475 -0.08974 C -0.45191 -0.12628 -0.35538 -0.19635 -0.31389 -0.18409 C -0.27239 -0.17184 -0.24948 -0.03839 -0.21545 -0.01596 C -0.18142 0.00647 -0.16041 -0.05227 -0.10937 -0.0488 C -0.05833 -0.04533 0.06146 -0.00208 0.09063 0.00439 C 0.11979 0.01087 0.09288 0.00046 0.06597 -0.00995 E">
                                      <p:cBhvr>
                                        <p:cTn id="16" dur="45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autoRev="1" nodeType="withEffect" fill="hold" presetClass="path" presetID="0" repeatCount="indefinite">
                                  <p:stCondLst>
                                    <p:cond delay="20000"/>
                                  </p:stCondLst>
                                  <p:childTnLst>
                                    <p:animMotion origin="layout" path="M -0.20399 -0.19842 C -0.20555 -0.1975 -0.20694 -0.19704 -0.20851 -0.19657 C -0.21163 -0.19542 -0.21493 -0.19542 -0.21788 -0.19449 C -0.22483 -0.19172 -0.225 -0.18755 -0.2316 -0.182 C -0.23819 -0.17692 -0.24739 -0.17298 -0.25469 -0.16975 C -0.25746 -0.16651 -0.25694 -0.16767 -0.25156 -0.16975 C -0.25937 -0.16235 -0.26771 -0.15911 -0.27621 -0.15356 C -0.27673 -0.15633 -0.27708 -0.15888 -0.27778 -0.16165 C -0.27864 -0.16582 -0.2809 -0.17391 -0.2809 -0.17368 C -0.28628 -0.16882 -0.2908 -0.16258 -0.29618 -0.15749 C -0.29757 -0.16489 -0.29531 -0.17483 -0.2993 -0.17992 C -0.30104 -0.18224 -0.3092 -0.17622 -0.31163 -0.17599 C -0.33316 -0.1746 -0.35469 -0.1746 -0.37621 -0.17391 C -0.41597 -0.17645 -0.4441 -0.179 -0.48698 -0.17992 C -0.71493 -0.23173 -0.95052 -0.22132 -1.1776 -0.17391 C -1.18802 -0.16489 -1.18055 -0.16998 -1.20243 -0.16582 C -1.20608 -0.16512 -1.21319 -0.16373 -1.21319 -0.1635 C -1.20521 -0.13274 -1.18559 -0.12095 -1.16684 -0.1043 C -1.12135 -0.0636 -1.08021 -0.04093 -1.02864 -0.0141 C -0.85764 0.07493 -0.68351 0.14455 -0.50851 0.21739 C -0.4809 0.22896 -0.38785 0.28839 -0.37326 0.29741 C -0.35885 0.30643 -0.3493 0.31198 -0.34236 0.33025 C -0.36233 0.38206 -0.42934 0.40888 -0.46094 0.42854 C -0.49288 0.44843 -0.52031 0.46693 -0.55469 0.47988 C -0.57951 0.48913 -0.6467 0.50208 -0.67014 0.50856 C -0.7684 0.53631 -0.8684 0.57123 -0.96858 0.58627 C -0.86198 0.60222 -0.75399 0.59089 -0.64705 0.60084 C -0.59896 0.60523 -0.54792 0.62928 -0.4993 0.63761 C -0.49618 0.63691 -0.49253 0.6383 -0.4901 0.63553 C -0.48819 0.63321 -0.48923 0.62859 -0.48854 0.62535 C -0.48489 0.60916 -0.47917 0.5939 -0.47465 0.57817 C -0.47222 0.53978 -0.46979 0.5037 -0.47778 0.46554 C -0.49236 0.39524 -0.52882 0.31938 -0.56389 0.26457 C -0.57917 0.24052 -0.59479 0.21739 -0.61163 0.19496 C -0.62604 0.17577 -0.63733 0.14663 -0.65312 0.12928 C -0.65885 0.12304 -0.66597 0.11911 -0.6717 0.11286 C -0.67483 0.10939 -0.67743 0.10523 -0.6809 0.10269 C -0.68906 0.0969 -0.69861 0.09575 -0.70694 0.09043 C -0.7118 0.08742 -0.71597 0.0828 -0.72083 0.08025 C -0.72986 0.0754 -0.73958 0.07308 -0.74861 0.068 C -0.78073 0.04926 -0.80434 0.03909 -0.83941 0.03307 C -0.85573 0.03377 -0.87222 0.03354 -0.88854 0.03516 C -0.90364 0.03654 -0.91944 0.04279 -0.93472 0.04533 C -0.9434 0.05111 -0.95469 0.05389 -0.9625 0.06175 C -0.98837 0.08765 -1.00955 0.12558 -1.02396 0.1642 C -1.02969 0.17924 -1.03264 0.19612 -1.03785 0.21138 C -1.04444 0.23081 -1.05069 0.24792 -1.05469 0.26874 C -1.05417 0.29464 -1.05434 0.32077 -1.05312 0.34667 C -1.05156 0.37998 -1.03715 0.41513 -1.02708 0.44496 C -1.02101 0.46323 -1.01406 0.4852 -1.01007 0.5044 C -1.00746 0.51712 -1.00399 0.54325 -1.00399 0.54348 C -1.00503 0.56175 -1.00503 0.58048 -1.00694 0.59875 C -1.00746 0.60384 -1.01667 0.62998 -1.01788 0.63344 C -1.03594 0.68132 -1.07639 0.69797 -1.11163 0.71554 C -1.11788 0.71878 -1.125 0.7167 -1.1316 0.71763 C -1.1434 0.71924 -1.15503 0.72179 -1.16684 0.72364 C -1.17344 0.72295 -1.18246 0.7285 -1.18698 0.72156 C -1.18993 0.7167 -1.17899 0.71346 -1.17465 0.71138 C -1.1658 0.70722 -1.15642 0.70467 -1.14705 0.70329 C -1.13785 0.7019 -1.11927 0.69912 -1.11927 0.69936 C -1.0901 0.70051 -1.06059 0.69866 -1.0316 0.70329 C -1.00399 0.70768 -0.97726 0.71832 -0.95017 0.72572 C -0.91701 0.73451 -0.88507 0.73913 -0.85156 0.74422 C -0.80642 0.74283 -0.76128 0.7433 -0.71632 0.74006 C -0.67847 0.73728 -0.6401 0.72017 -0.60243 0.71346 C -0.55521 0.70514 -0.51562 0.6982 -0.47014 0.68479 C -0.46371 0.68294 -0.44635 0.67947 -0.43941 0.67646 C -0.38385 0.65171 -0.45017 0.67808 -0.39167 0.64778 C -0.34167 0.62188 -0.36788 0.63622 -0.31319 0.60477 C -0.3059 0.6006 -0.29774 0.59991 -0.2901 0.59667 C -0.27066 0.58858 -0.25208 0.57632 -0.23316 0.56591 C -0.22656 0.5569 -0.21805 0.54603 -0.21007 0.53932 C -0.19687 0.52822 -0.18108 0.52197 -0.16701 0.51249 C -0.15295 0.4889 -0.17066 0.51596 -0.15017 0.49422 C -0.14687 0.49075 -0.14427 0.48266 -0.14236 0.4778 C -0.14323 0.44936 -0.14201 0.42762 -0.14861 0.40195 C -0.15069 0.3809 -0.15764 0.36448 -0.1625 0.34459 C -0.17604 0.29024 -0.15312 0.37003 -0.17014 0.30967 C -0.18316 0.26295 -0.16493 0.33141 -0.1809 0.27891 C -0.18976 0.24977 -0.1967 0.21624 -0.21163 0.1908 C -0.21528 0.18479 -0.22031 0.18039 -0.22396 0.17438 C -0.22743 0.16883 -0.22986 0.16189 -0.23316 0.15611 C -0.23906 0.14616 -0.24548 0.13691 -0.25156 0.1272 C -0.25469 0.12234 -0.2566 0.11633 -0.25937 0.11101 C -0.26285 0.10477 -0.26632 0.09829 -0.27014 0.09251 C -0.28559 0.06915 -0.31111 0.04209 -0.3316 0.02683 C -0.33698 0.02267 -0.34288 0.01989 -0.34861 0.01665 C -0.35364 0.01388 -0.35903 0.01203 -0.36389 0.00856 C -0.39149 -0.01202 -0.41927 -0.01804 -0.45017 -0.0222 C -0.46458 -0.02659 -0.47864 -0.02844 -0.49323 -0.03052 C -0.52066 -0.02937 -0.54687 -0.03145 -0.57326 -0.0222 C -0.60451 -0.01133 -0.63767 0.01365 -0.66389 0.03909 C -0.72048 0.0939 -0.66406 0.04163 -0.69167 0.07193 C -0.70851 0.09043 -0.69358 0.06869 -0.71007 0.09251 C -0.71805 0.10384 -0.72274 0.11726 -0.73003 0.12928 C -0.73316 0.14177 -0.73785 0.15356 -0.7408 0.16628 C -0.74948 0.20306 -0.75139 0.25486 -0.75469 0.28932 C -0.75625 0.30481 -0.76128 0.31915 -0.76389 0.33442 C -0.76805 0.35801 -0.7717 0.38992 -0.77465 0.4142 C -0.77535 0.47364 -0.75382 0.5569 -0.80399 0.58233 C -0.81094 0.5858 -0.8184 0.58812 -0.82552 0.59043 C -0.85972 0.58557 -0.89375 0.57956 -0.91476 0.53932 C -0.91319 0.52776 -0.91354 0.51527 -0.91007 0.5044 C -0.90712 0.49561 -0.90139 0.4889 -0.89618 0.48196 C -0.86042 0.43432 -0.81389 0.40033 -0.77326 0.36309 C -0.7158 0.31036 -0.65156 0.27151 -0.59479 0.21739 C -0.57899 0.20236 -0.56823 0.18178 -0.55469 0.1642 C -0.55399 0.1605 -0.55243 0.15033 -0.55017 0.14778 C -0.5467 0.14385 -0.54167 0.14408 -0.53785 0.14177 C -0.525 0.13391 -0.51996 0.12789 -0.50694 0.12535 C -0.49896 0.12003 -0.49167 0.11309 -0.48542 0.10477 C -0.48264 0.09205 -0.48524 0.10014 -0.47326 0.08418 L -0.47326 0.08442 C -0.47014 0.07609 -0.46545 0.06985 -0.4625 0.06175 C -0.45729 0.04718 -0.46528 0.06406 -0.45781 0.04949 C -0.45937 0.04394 -0.45972 0.03747 -0.4625 0.03307 C -0.47101 0.01966 -0.50312 0.01434 -0.51476 0.01249 C -0.54271 0.00833 -0.56996 -0.00023 -0.59774 -0.00601 C -0.6441 -0.01572 -0.62413 -0.00878 -0.64861 -0.01827 C -0.63038 -0.037 -0.59878 -0.03561 -0.57778 -0.0407 C -0.52899 -0.05226 -0.48264 -0.06452 -0.43316 -0.06938 C -0.425 -0.0673 -0.41146 -0.07377 -0.40851 -0.06336 C -0.40608 -0.05434 -0.4217 -0.05573 -0.42864 -0.05296 C -0.44236 -0.04741 -0.45625 -0.04255 -0.47014 -0.03862 C -0.49201 -0.03237 -0.51423 -0.02775 -0.53628 -0.0222 C -0.58246 -0.02289 -0.62847 -0.02289 -0.67465 -0.02428 C -0.67621 -0.02428 -0.67153 -0.02544 -0.67014 -0.02636 C -0.66597 -0.02937 -0.66215 -0.03399 -0.65781 -0.03654 C -0.64427 -0.04463 -0.62969 -0.0481 -0.61632 -0.05712 C -0.63611 -0.07331 -0.62344 -0.06568 -0.66858 -0.0592 C -0.72257 -0.05157 -0.72135 -0.05134 -0.75625 -0.04278 C -0.73403 -0.03839 -0.75729 -0.04093 -0.72396 -0.04903 C -0.71441 -0.05134 -0.70451 -0.05157 -0.69479 -0.05296 C -0.67812 -0.05828 -0.65434 -0.07123 -0.63628 -0.0592 C -0.63559 -0.05874 -0.6493 -0.04556 -0.65017 -0.04486 C -0.6592 -0.03769 -0.66979 -0.0296 -0.67934 -0.02428 C -0.70521 -0.01017 -0.73298 -0.0074 -0.75937 0.0044 C -0.76823 0.00833 -0.77656 0.01434 -0.78542 0.01874 C -0.78993 0.02105 -0.79462 0.02267 -0.7993 0.02475 C -0.78628 0.02729 -0.77864 0.02452 -0.76701 0.01665 C -0.76545 0.01457 -0.76285 0.01319 -0.7625 0.01041 C -0.76163 0.0037 -0.76962 0.00301 -0.7717 0.00232 C -0.79028 0.00949 -0.80798 0.01758 -0.82708 0.02082 C -0.82969 0.02012 -0.83333 0.02151 -0.83472 0.01874 C -0.83611 0.01596 -0.83472 0.01134 -0.83316 0.00856 C -0.82274 -0.00994 -0.81632 -0.01341 -0.80399 -0.02636 C -0.79826 -0.03237 -0.78698 -0.04486 -0.78698 -0.04463 C -0.81788 -0.05851 -0.79219 -0.0481 -0.87465 -0.03862 C -1.04618 -0.01896 -0.81805 -0.04186 -0.9993 -0.02428 C -1.00642 -0.02567 -1.01753 -0.01989 -1.02083 -0.02844 C -1.02361 -0.03561 -1.00972 -0.03422 -1.00399 -0.03654 C -0.97795 -0.04671 -0.95087 -0.04995 -0.92396 -0.05296 C -0.90573 -0.05781 -0.88715 -0.06198 -0.86858 -0.06521 C -0.87048 -0.05781 -0.87778 -0.04486 -0.87778 -0.04463 C -0.88229 -0.02705 -0.8908 -0.01942 -0.90243 -0.00994 C -0.90816 -0.00532 -0.92569 0.00671 -0.91927 0.0044 C -0.91719 0.0037 -0.91528 0.00301 -0.91319 0.00232 C -0.91111 0.00301 -0.90694 0.00162 -0.90694 0.0044 C -0.90694 0.0074 -0.91128 0.00671 -0.91319 0.00856 C -0.91493 0.01018 -0.91614 0.01295 -0.91788 0.01457 C -0.92222 0.01897 -0.92708 0.02267 -0.9316 0.02683 C -0.95451 0.04718 -0.9625 0.06221 -0.9901 0.07609 C -1.00312 0.09344 -0.98316 0.0902 -0.97014 0.09043 C -0.86701 0.09228 -0.76406 0.0932 -0.66094 0.09459 C -0.71528 0.1309 -0.77309 0.14871 -0.8316 0.17045 C -0.84323 0.17947 -0.84167 0.17646 -0.82864 0.17438 C -0.82344 0.17345 -0.8184 0.17299 -0.81319 0.1723 C -0.79167 0.16513 -0.77066 0.16235 -0.74861 0.15796 C -0.7434 0.15703 -0.73837 0.15541 -0.73316 0.15403 C -0.73108 0.15356 -0.72517 0.15056 -0.72708 0.15195 C -0.74358 0.16374 -0.76094 0.17369 -0.77778 0.18479 C -0.8401 0.22618 -0.79896 0.19034 -0.81788 0.20722 C -0.80226 0.22109 -0.79722 0.21115 -0.7717 0.20722 C -0.75208 0.20421 -0.73264 0.20144 -0.71319 0.19704 C -0.70608 0.21092 -0.70746 0.20398 -0.73003 0.21739 C -0.75191 0.23035 -0.77378 0.24307 -0.79618 0.2544 C -0.81233 0.26272 -0.84548 0.27683 -0.84548 0.27706 C -0.85312 0.28562 -0.8618 0.29071 -0.86389 0.30366 C -0.7283 0.34482 -0.89271 0.31083 -0.50087 0.318 C -0.47465 0.32378 -0.46302 0.32447 -0.44236 0.34043 C -0.43055 0.36541 -0.50035 0.39547 -0.50087 0.3957 C -0.61719 0.44149 -0.74601 0.45884 -0.86701 0.46346 C -0.88021 0.45167 -0.8743 0.45907 -0.8408 0.45306 C -0.7658 0.43964 -0.79028 0.44357 -0.71163 0.43872 C -0.65451 0.44034 -0.47899 0.42045 -0.37465 0.45514 C -0.39167 0.48543 -0.42483 0.48289 -0.45017 0.48798 C -0.45798 0.4896 -0.47326 0.49422 -0.47326 0.49445 C -0.46076 0.48428 -0.44739 0.48058 -0.43316 0.4778 C -0.44826 0.49237 -0.44548 0.49168 -0.47778 0.49214 C -0.58298 0.49399 -0.68802 0.49075 -0.79323 0.49006 C -0.70868 0.42299 -0.5842 0.41073 -0.49618 0.38761 C -0.42535 0.36887 -0.35573 0.34621 -0.28403 0.33627 C -0.31528 0.36471 -0.37274 0.36471 -0.41007 0.37743 C -0.4184 0.38021 -0.42656 0.38391 -0.43472 0.38761 C -0.43837 0.38923 -0.4493 0.39362 -0.44548 0.39362 C -0.43767 0.39362 -0.43003 0.38946 -0.42239 0.38761 C -0.40451 0.38344 -0.38646 0.38021 -0.36858 0.37535 C -0.32274 0.36286 -0.26684 0.34922 -0.21927 0.32817 C -0.31545 0.29926 -0.4158 0.32794 -0.51476 0.30158 C -0.52031 0.29811 -0.52639 0.29579 -0.5316 0.29117 C -0.53646 0.28677 -0.52708 0.27567 -0.52239 0.27082 C -0.51302 0.26134 -0.50382 0.25116 -0.49323 0.24422 C -0.43941 0.20953 -0.37708 0.17438 -0.31788 0.15403 C -0.32726 0.14963 -0.31701 0.15287 -0.33003 0.15611 C -0.3908 0.17091 -0.38594 0.16813 -0.44548 0.1723 C -0.46805 0.1716 -0.49114 0.17692 -0.51319 0.17045 C -0.51858 0.16883 -0.50503 0.16073 -0.50087 0.15611 C -0.49201 0.1464 -0.4816 0.13969 -0.47326 0.12928 C -0.46285 0.11633 -0.45503 0.10014 -0.44392 0.08835 C -0.42118 0.0643 -0.39479 0.04464 -0.37621 0.01457 C -0.4026 -0.003 -0.47864 0.03099 -0.50399 0.03724 C -0.52691 0.04302 -0.55035 0.04579 -0.57326 0.05158 C -0.61423 0.06198 -0.65486 0.07702 -0.69618 0.08418 C -0.70798 0.07956 -0.69114 0.07008 -0.68698 0.06591 C -0.67587 0.05481 -0.66562 0.04233 -0.65469 0.03099 C -0.6618 0.02151 -0.65885 0.02267 -0.67326 0.0229 C -0.74253 0.02359 -0.81163 0.02544 -0.8809 0.02683 C -0.81614 0.01434 -0.75226 -0.003 -0.68698 -0.01202 C -0.67257 -0.01133 -0.65035 -0.02705 -0.64392 -0.00994 C -0.63837 0.00509 -0.66597 0.00625 -0.67778 0.01249 C -0.68958 0.01874 -0.70121 0.02567 -0.71319 0.03099 C -0.73976 0.04279 -0.76719 0.05065 -0.79323 0.06383 C -0.81476 0.0747 -0.83628 0.0858 -0.85781 0.09667 C -0.86337 0.09945 -0.8691 0.10222 -0.87465 0.10477 C -0.87934 0.10685 -0.88385 0.10893 -0.88854 0.11101 C -0.89028 0.11171 -0.89514 0.11494 -0.89323 0.11494 C -0.88385 0.11494 -0.87743 0.10107 -0.86858 0.09667 C -0.85208 0.08835 -0.83489 0.08233 -0.81788 0.07609 C -0.72048 0.04001 -0.61701 -0.00485 -0.51476 -0.0141 C -0.50851 -0.01341 -0.50087 -0.01734 -0.49618 -0.01202 C -0.4934 -0.00878 -0.50139 -0.00508 -0.50399 -0.00185 C -0.51858 0.01596 -0.51632 0.01342 -0.53628 0.02683 C -0.55816 0.0414 -0.58021 0.05597 -0.60243 0.06985 C -0.68038 0.11887 -0.76371 0.13714 -0.84705 0.16212 C -0.83646 0.15264 -0.84983 0.16351 -0.8316 0.15403 C -0.79809 0.13622 -0.76371 0.12188 -0.73003 0.10477 C -0.67326 0.07609 -0.725 0.09205 -0.6717 0.08233 C -0.66597 0.08141 -0.66042 0.07979 -0.65469 0.07817 C -0.6526 0.07771 -0.64705 0.07401 -0.64861 0.07609 C -0.65469 0.08418 -0.66389 0.08627 -0.6717 0.09043 C -0.69566 0.10315 -0.71962 0.11541 -0.74392 0.1272 C -0.76215 0.13599 -0.78125 0.14223 -0.7993 0.15195 C -0.83628 0.17183 -0.87187 0.19658 -0.91007 0.21138 C -0.94375 0.22456 -0.93923 0.2204 -0.97621 0.24815 C -0.98785 0.25694 -1.01007 0.27683 -1.01007 0.27706 C -1.01059 0.27776 -1.01892 0.29048 -1.01007 0.29117 C -0.99462 0.29256 -0.97934 0.28862 -0.96389 0.28724 C -0.8283 0.26365 -0.6934 0.23381 -0.55781 0.21138 C -0.5276 0.21277 -0.49705 0.21115 -0.46701 0.21554 C -0.46441 0.21601 -0.46962 0.22179 -0.4717 0.22364 C -0.51458 0.25949 -0.54305 0.27891 -0.58854 0.30551 C -0.60833 0.31707 -0.62882 0.32678 -0.64861 0.33835 C -0.69705 0.36656 -0.74496 0.3957 -0.79323 0.42438 C -0.83246 0.44774 -0.87535 0.45861 -0.91632 0.47572 C -0.92222 0.47826 -0.93906 0.48844 -0.93316 0.4859 C -0.8191 0.43617 -0.70139 0.41004 -0.58403 0.37743 C -0.49358 0.35245 -0.41302 0.32077 -0.32239 0.30759 C -0.30746 0.31337 -0.30139 0.31175 -0.3316 0.32817 C -0.37621 0.35222 -0.41979 0.38321 -0.46701 0.3957 C -0.5684 0.4223 -0.56406 0.41813 -0.66858 0.4593 C -0.70781 0.4748 -0.74583 0.49468 -0.78542 0.50856 C -0.84132 0.52822 -0.89809 0.54233 -0.95469 0.55759 C -0.96996 0.56175 -1.00087 0.56591 -1.00087 0.56615 C -0.96944 0.54024 -0.93663 0.53654 -0.90087 0.52498 C -0.77153 0.48335 -0.64219 0.42762 -0.50851 0.42045 C -0.49722 0.42183 -0.48472 0.41744 -0.47465 0.42438 C -0.47066 0.42715 -0.47899 0.43502 -0.48246 0.43872 C -0.48854 0.44542 -0.49531 0.45074 -0.50243 0.45514 C -0.51788 0.46462 -0.53403 0.47271 -0.55017 0.47988 C -0.6408 0.51966 -0.7375 0.54117 -0.83003 0.57008 C -0.84983 0.57632 -0.8901 0.58442 -0.8901 0.58465 C -0.91076 0.57517 -0.88298 0.5569 -0.87326 0.54949 C -0.83923 0.52406 -0.81163 0.51018 -0.77326 0.49422 C -0.53125 0.39316 -0.68194 0.45606 -0.51163 0.39778 C -0.43941 0.37304 -0.36927 0.3439 -0.29479 0.33442 C -0.29062 0.33511 -0.28507 0.3321 -0.28246 0.33627 C -0.28055 0.33927 -0.28507 0.34367 -0.28698 0.34667 C -0.29167 0.35407 -0.29635 0.36171 -0.30243 0.36702 C -0.31562 0.37882 -0.32986 0.38807 -0.34392 0.39778 C -0.39913 0.43548 -0.4434 0.46254 -0.50243 0.49214 C -0.66389 0.57308 -0.81875 0.64732 -0.9901 0.67646 C -0.97639 0.65426 -0.9816 0.65865 -0.94861 0.64778 C -0.89965 0.63183 -0.85017 0.61864 -0.80087 0.60477 C -0.70555 0.57771 -0.60781 0.55967 -0.51319 0.52891 C -0.43993 0.50509 -0.39479 0.49214 -0.32864 0.47572 C -0.37535 0.51689 -0.43976 0.52452 -0.4901 0.5414 C -0.5625 0.56568 -0.63264 0.58349 -0.70694 0.59667 C -0.7342 0.59459 -0.7618 0.59714 -0.78854 0.59043 C -0.79219 0.5895 -0.79149 0.58048 -0.7901 0.57609 C -0.78767 0.56846 -0.78281 0.56245 -0.77778 0.55759 C -0.76944 0.54973 -0.74097 0.53261 -0.73003 0.52683 C -0.69167 0.50671 -0.65312 0.48728 -0.61476 0.46763 C -0.61163 0.46601 -0.50503 0.41166 -0.4993 0.40819 C -0.45451 0.38183 -0.40955 0.34829 -0.36094 0.33627 C -0.35885 0.33696 -0.35295 0.3365 -0.35469 0.33835 C -0.39861 0.38622 -0.43559 0.41443 -0.48542 0.44912 C -0.56441 0.50417 -0.54375 0.48613 -0.61788 0.53099 C -0.64757 0.54903 -0.67552 0.57008 -0.70694 0.58233 C -0.6901 0.55134 -0.63819 0.52845 -0.61163 0.51064 C -0.54184 0.46393 -0.47187 0.41883 -0.40243 0.37119 C -0.36614 0.34644 -0.32951 0.32216 -0.29323 0.29741 C -0.28733 0.29325 -0.28055 0.2914 -0.27465 0.28724 C -0.26979 0.28377 -0.25538 0.27591 -0.26094 0.27498 C -0.27483 0.2729 -0.28871 0.27961 -0.30243 0.28307 C -0.40486 0.30944 -0.32361 0.29371 -0.43472 0.32609 C -0.49514 0.34367 -0.55573 0.35916 -0.61632 0.37535 C -0.70434 0.39894 -0.79167 0.41906 -0.8809 0.4327 C -0.90903 0.43132 -0.9375 0.43409 -0.96545 0.42854 C -0.96858 0.42785 -0.96476 0.41952 -0.9625 0.41628 C -0.95781 0.40935 -0.95173 0.40403 -0.94548 0.39986 C -0.92639 0.38668 -0.85451 0.35245 -0.84392 0.34875 C -0.71423 0.30412 -0.58385 0.27406 -0.45312 0.23798 C -0.39149 0.22109 -0.33316 0.19242 -0.27014 0.18479 C -0.3125 0.22965 -0.40555 0.26874 -0.45469 0.29117 C -0.50226 0.31291 -0.54826 0.3432 -0.59774 0.35477 C -0.65903 0.36911 -0.71944 0.3883 -0.7809 0.39986 C -0.79114 0.39917 -0.80156 0.40033 -0.81163 0.39778 C -0.8158 0.39663 -0.81146 0.38529 -0.80851 0.38136 C -0.80382 0.37512 -0.79913 0.36887 -0.79323 0.36494 C -0.76614 0.34621 -0.73837 0.32887 -0.71007 0.31383 C -0.63576 0.27406 -0.56163 0.23358 -0.48698 0.19496 C -0.42187 0.16143 -0.45903 0.18085 -0.40087 0.14986 C -0.39219 0.14524 -0.38333 0.142 -0.37465 0.13761 C -0.36944 0.13506 -0.35937 0.12928 -0.35937 0.12951 C -0.43594 0.18617 -0.53229 0.19265 -0.61632 0.21948 C -0.69809 0.24561 -0.78073 0.28469 -0.86545 0.28932 C -0.87639 0.28793 -0.90156 0.29279 -0.89774 0.27891 C -0.89514 0.2692 -0.87483 0.25116 -0.87326 0.25023 C -0.84097 0.23058 -0.80746 0.21485 -0.77465 0.19704 C -0.66406 0.13668 -0.7651 0.1871 -0.58403 0.10477 C -0.52274 0.07702 -0.46406 0.03492 -0.40243 0.00648 C -0.39878 0.00486 -0.40972 0.01018 -0.41319 0.01249 C -0.41944 0.01642 -0.42517 0.02128 -0.4316 0.02475 C -0.44271 0.03076 -0.45382 0.03724 -0.46545 0.04117 C -0.51076 0.0569 -0.55677 0.07008 -0.60243 0.08418 C -0.69948 0.11425 -0.79705 0.14501 -0.89618 0.16004 C -0.93976 0.15796 -0.98385 0.16143 -1.02708 0.15403 C -1.03125 0.15333 -1.02951 0.14293 -1.02864 0.13761 C -1.02673 0.12651 -1.00382 0.11194 -1.00243 0.11101 C -0.95295 0.07563 -0.90017 0.0488 -0.84705 0.02475 C -0.7 -0.04186 -0.79114 -0.00323 -0.67326 -0.03862 C -0.58021 -0.0666 -0.53472 -0.09019 -0.45017 -0.09412 C -0.43177 -0.09273 -0.41319 -0.0932 -0.39479 -0.08996 C -0.38628 -0.08834 -0.39618 -0.06868 -0.41007 -0.05712 C -0.44444 -0.02867 -0.45226 -0.03469 -0.49618 -0.01619 C -0.51996 -0.00624 -0.54288 0.00833 -0.56701 0.01665 C -0.68437 0.05759 -0.71823 0.06291 -0.82239 0.08627 C -0.8809 0.08488 -0.93941 0.08603 -0.99774 0.08233 C -1.01076 0.08141 -1.01354 0.07563 -1.02083 0.06591 C -1.01649 0.03099 -0.94774 -0.00069 -0.93003 -0.00786 C -0.88802 -0.02497 -0.84496 -0.03677 -0.80243 -0.05088 C -0.72239 -0.07724 -0.64201 -0.10638 -0.55937 -0.11031 C -0.54809 -0.10892 -0.53646 -0.11054 -0.52552 -0.10638 C -0.52344 -0.10569 -0.52569 -0.10037 -0.52708 -0.09805 C -0.53003 -0.0932 -0.53403 -0.08927 -0.53785 -0.0858 C -0.55851 -0.06706 -0.56042 -0.0703 -0.58698 -0.05712 C -0.60295 -0.04926 -0.61823 -0.03862 -0.63472 -0.03261 C -0.65035 -0.02682 -0.66667 -0.02613 -0.68246 -0.0222 C -0.72986 -0.01063 -0.7743 0.00185 -0.82239 0.0044 C -0.85798 0.00301 -0.87101 0.02174 -0.87934 -0.00994 C -0.8618 -0.04509 -0.82569 -0.05064 -0.79774 -0.05712 C -0.70104 -0.07978 -0.76684 -0.06868 -0.6901 -0.07978 C -0.67292 -0.07886 -0.58385 -0.10175 -0.55937 -0.05296 C -0.57864 -0.01017 -0.61146 0.00694 -0.64548 0.02475 C -0.76788 0.08835 -0.89566 0.14223 -1.02708 0.16004 C -1.04809 0.15287 -1.00243 0.13344 -0.99618 0.13136 C -0.96458 0.12119 -0.93264 0.11356 -0.90087 0.10477 C -0.82795 0.08442 -0.76458 0.05204 -0.69167 0.04117 C -0.66927 0.03793 -0.64653 0.03862 -0.62396 0.03724 C -0.55625 0.03793 -0.48125 0.00856 -0.42083 0.04949 C -0.43733 0.09297 -0.47517 0.11379 -0.50851 0.12928 C -0.60434 0.17392 -0.69531 0.21346 -0.79618 0.23173 C -0.80955 0.22965 -0.825 0.23566 -0.83628 0.22572 C -0.84149 0.22109 -0.83298 0.20907 -0.82864 0.20306 C -0.8217 0.19334 -0.78958 0.18039 -0.78403 0.17854 C -0.71927 0.15657 -0.65069 0.13529 -0.58403 0.1272 C -0.54462 0.12234 -0.50503 0.12211 -0.46545 0.11911 C -0.44028 0.12049 -0.41337 0.11055 -0.3901 0.12327 C -0.38108 0.12836 -0.40469 0.14131 -0.41319 0.14778 C -0.46875 0.19011 -0.4 0.13876 -0.45781 0.17854 C -0.46614 0.18432 -0.47378 0.19196 -0.48246 0.19704 C -0.49392 0.20375 -0.5066 0.20629 -0.51788 0.21346 C -0.55364 0.23636 -0.58507 0.26827 -0.61788 0.29741 C -0.5533 0.32193 -0.47917 0.29672 -0.41319 0.28307 C -0.38194 0.28377 -0.3493 0.27336 -0.31927 0.28516 C -0.30989 0.28886 -0.33368 0.30296 -0.3408 0.31175 C -0.34635 0.31869 -0.35399 0.32216 -0.36094 0.32609 C -0.39358 0.34459 -0.42656 0.36194 -0.45937 0.37928 C -0.55903 0.43201 -0.53889 0.41906 -0.67465 0.4778 C -0.72326 0.49885 -0.80139 0.53099 -0.84392 0.55967 C -0.84913 0.56314 -0.85417 0.56684 -0.85937 0.57008 C -0.86076 0.571 -0.86493 0.57332 -0.86389 0.57193 C -0.8566 0.56221 -0.8401 0.56036 -0.8316 0.55574 C -0.80885 0.54348 -0.78628 0.52822 -0.76389 0.51457 C -0.75642 0.50995 -0.73576 0.49214 -0.72708 0.49214 C -0.7243 0.49214 -0.73246 0.49445 -0.73472 0.4963 C -0.73906 0.5 -0.74271 0.50486 -0.74705 0.50856 C -0.75347 0.51388 -0.76059 0.51781 -0.76701 0.5229 C -0.8434 0.58372 -0.73003 0.50162 -0.83472 0.56383 C -0.84913 0.57239 -0.8618 0.5858 -0.87621 0.59459 C -0.9151 0.61818 -0.99219 0.65865 -1.03941 0.6827 C -1.0684 0.69751 -1.09618 0.71231 -1.12708 0.71763 C -1.12344 0.70329 -1.08819 0.68987 -1.0809 0.68687 C -1.05035 0.67438 -1.01996 0.66004 -0.98854 0.65195 C -0.93264 0.63738 -0.87621 0.62697 -0.82083 0.60893 C -0.71701 0.57517 -0.61389 0.5377 -0.50694 0.52891 C -0.48437 0.52961 -0.4618 0.52776 -0.43941 0.53099 C -0.43594 0.53146 -0.44531 0.53585 -0.44861 0.53724 C -0.45868 0.5414 -0.46892 0.54464 -0.47934 0.54741 C -0.57743 0.57285 -0.47465 0.54048 -0.5809 0.57193 C -0.66302 0.59621 -0.74514 0.61934 -0.82864 0.63344 C -0.83628 0.63275 -0.8441 0.63391 -0.85156 0.63136 C -0.8533 0.6309 -0.84861 0.62836 -0.84705 0.62743 C -0.83646 0.62096 -0.82587 0.61402 -0.81476 0.60893 C -0.80451 0.60407 -0.79462 0.59783 -0.78403 0.59459 C -0.75052 0.58418 -0.71597 0.58002 -0.68246 0.57008 C -0.54965 0.53076 -0.41858 0.47826 -0.28403 0.45121 C -0.30746 0.46069 -0.33264 0.46208 -0.35625 0.46948 C -0.37847 0.47641 -0.40017 0.48728 -0.42239 0.49422 C -0.47708 0.51134 -0.53212 0.52591 -0.58698 0.5414 C -0.71771 0.57817 -0.84983 0.61864 -0.98246 0.63969 C -0.98802 0.63761 -0.99462 0.63807 -0.9993 0.63344 C -1.00104 0.63183 -0.99653 0.62905 -0.99479 0.62743 C -0.9908 0.6235 -0.98663 0.62026 -0.98246 0.61702 C -0.97483 0.61124 -0.96753 0.605 -0.95937 0.60084 C -0.92847 0.58465 -0.89739 0.56846 -0.86545 0.55574 C -0.74722 0.50902 -0.62934 0.46832 -0.50851 0.43479 C -0.4816 0.42739 -0.45729 0.41628 -0.43003 0.41212 C -0.46059 0.40634 -0.53298 0.4334 -0.54705 0.43687 C -0.64305 0.46023 -0.60573 0.45884 -0.69618 0.49006 C -0.79253 0.52336 -0.88385 0.55204 -0.98246 0.56383 C -1.02083 0.56245 -1.05937 0.56221 -1.09774 0.55967 C -1.10052 0.55944 -1.10486 0.55921 -1.10555 0.55574 C -1.11059 0.53122 -1.07257 0.50648 -1.0625 0.50023 C -1.02864 0.47896 -0.99375 0.46069 -0.95937 0.4408 C -0.93455 0.42646 -0.90677 0.42461 -0.8809 0.4142 C -0.85955 0.40541 -0.83871 0.39431 -0.81788 0.38344 C -0.7993 0.37373 -0.7816 0.36055 -0.7625 0.35269 C -0.71094 0.33141 -0.65451 0.32794 -0.60555 0.29533 C -0.6 0.29163 -0.61788 0.29811 -0.62396 0.29949 C -0.66545 0.32054 -0.71146 0.33025 -0.75469 0.34251 C -0.8783 0.37789 -0.83385 0.37188 -0.92396 0.37535 C -0.96545 0.37327 -1.00712 0.37234 -1.04861 0.36911 C -1.05139 0.36887 -1.0559 0.36864 -1.05625 0.36494 C -1.05764 0.34783 -1.03611 0.33788 -1.03003 0.33442 C -1.01128 0.32378 -0.94201 0.29186 -0.92864 0.28724 C -0.9059 0.27937 -0.88229 0.27591 -0.85937 0.26874 C -0.73923 0.23127 -0.62205 0.18756 -0.4993 0.16837 C -0.48646 0.17045 -0.47274 0.16744 -0.46094 0.17438 C -0.45625 0.17715 -0.47014 0.1797 -0.47465 0.1827 C -0.49878 0.19959 -0.50121 0.20699 -0.5316 0.21739 C -0.57378 0.23173 -0.61701 0.24098 -0.65937 0.2544 C -0.77083 0.28978 -0.87899 0.32239 -0.99323 0.33233 C -1.0066 0.33164 -1.02048 0.33603 -1.03316 0.33025 C -1.03785 0.32817 -1.02517 0.32262 -1.02083 0.31985 C -1.01285 0.31499 -1.00469 0.3106 -0.99618 0.30759 C -0.98003 0.30181 -0.96337 0.29857 -0.94705 0.29325 C -0.90017 0.27799 -0.85417 0.25833 -0.80694 0.24607 C -0.72083 0.22364 -0.63524 0.19496 -0.54861 0.17646 C -0.52153 0.17068 -0.49392 0.1686 -0.46701 0.16212 C -0.44618 0.15703 -0.42621 0.14778 -0.40555 0.14177 C -0.38923 0.13691 -0.37274 0.13298 -0.35625 0.12928 C -0.34444 0.12674 -0.33264 0.12558 -0.32083 0.12327 C -0.3151 0.12211 -0.29983 0.11379 -0.30399 0.11911 C -0.31632 0.13506 -0.38524 0.14663 -0.39774 0.14986 C -0.43142 0.15865 -0.46562 0.16467 -0.4993 0.17438 C -0.5842 0.19889 -0.53906 0.19982 -0.63003 0.21138 C -0.65503 0.21462 -0.68038 0.21416 -0.70555 0.21554 C -0.79757 0.21208 -0.83437 0.2426 -0.89167 0.1908 C -0.89878 0.16328 -0.86371 0.14524 -0.85312 0.13969 C -0.75104 0.08534 -0.84444 0.13229 -0.75625 0.09459 C -0.74479 0.08974 -0.7342 0.08164 -0.72239 0.07817 C -0.71233 0.0754 -0.70191 0.07678 -0.69167 0.07609 C -0.63819 0.0606 -0.58611 0.04857 -0.5316 0.04117 C -0.52448 0.03909 -0.51736 0.03677 -0.51007 0.03516 C -0.50555 0.034 -0.49948 0.02868 -0.49618 0.03307 C -0.49358 0.03654 -0.50069 0.04117 -0.50399 0.04325 C -0.51024 0.04741 -0.51736 0.04834 -0.52396 0.05158 C -0.53333 0.05597 -0.54201 0.06291 -0.55156 0.06591 C -0.58507 0.07655 -0.61927 0.08349 -0.65312 0.09251 C -0.79687 0.1309 -0.65729 0.09529 -0.80087 0.13136 C -0.82708 0.13784 -0.85417 0.13414 -0.8809 0.13553 C -1.00382 0.13298 -1.05139 0.15033 -1.14548 0.10893 C -1.17587 0.07563 -1.10486 0.06268 -1.09167 0.05967 C -1.03177 0.04556 -0.97604 0.03169 -0.91476 0.03099 C -0.73785 0.02914 -0.56094 0.02961 -0.38403 0.02891 C -0.41007 0.01712 -0.43489 0.02567 -0.4625 0.02891 C -0.61719 0.068 -0.76788 0.11494 -0.92552 0.12535 C -0.94861 0.12466 -0.97205 0.12859 -0.99479 0.12327 C -0.99878 0.12234 -0.99028 0.11425 -0.98698 0.11101 C -0.98281 0.10708 -0.97795 0.10477 -0.97326 0.10269 C -0.9434 0.08927 -0.94201 0.09297 -0.90851 0.08418 C -0.87847 0.07632 -0.82864 0.05898 -0.7993 0.05551 C -0.7559 0.05042 -0.66858 0.04741 -0.66858 0.04764 C -0.63368 0.04834 -0.44948 0.0222 -0.37014 0.07401 C -0.37569 0.11749 -0.44774 0.12604 -0.4625 0.13136 C -0.53715 0.15842 -0.61354 0.17438 -0.6901 0.18664 C -0.77517 0.18525 -0.86042 0.18525 -0.94548 0.1827 C -0.96076 0.18224 -0.95972 0.18132 -0.96858 0.1723 C -0.95937 0.13599 -0.90451 0.13645 -0.88403 0.13136 C -0.84601 0.12165 -0.78698 0.10222 -0.74861 0.09667 C -0.72465 0.0932 -0.70035 0.0939 -0.67621 0.09251 C -0.52743 0.09552 -0.43038 0.07008 -0.30555 0.12327 C -0.27587 0.14894 -0.31337 0.17762 -0.33316 0.1908 C -0.3651 0.21208 -0.39583 0.23844 -0.43003 0.25232 C -0.54705 0.29926 -0.6592 0.3328 -0.7809 0.34043 C -0.84774 0.33765 -0.89983 0.33742 -0.96094 0.30759 C -0.96406 0.30389 -0.9783 0.29117 -0.97778 0.28099 C -0.97587 0.23543 -0.93021 0.21924 -0.90399 0.21138 C -0.89219 0.20791 -0.88038 0.20467 -0.86858 0.20121 C -0.76354 0.20606 -0.69444 0.20467 -0.5993 0.2544 C -0.57448 0.26735 -0.55121 0.27961 -0.53628 0.30967 C -0.53837 0.32054 -0.53871 0.33233 -0.54236 0.34251 C -0.55087 0.36633 -0.57639 0.37859 -0.59167 0.38969 C -0.60017 0.39593 -0.60746 0.40472 -0.61632 0.41004 C -0.6467 0.42808 -0.68055 0.43247 -0.71319 0.43687 C -0.76302 0.43178 -0.82882 0.42646 -0.85937 0.36309 C -0.87847 0.27521 -0.78455 0.24052 -0.73941 0.22364 C -0.72309 0.21763 -0.70677 0.21138 -0.6901 0.20722 C -0.65642 0.19889 -0.58854 0.18664 -0.58854 0.18687 C -0.56111 0.18756 -0.48003 0.18016 -0.43628 0.19912 C -0.42448 0.20421 -0.41389 0.21346 -0.40243 0.21948 C -0.39149 0.23173 -0.38767 0.23613 -0.38542 0.2544 C -0.4092 0.32193 -0.45521 0.3432 -0.50555 0.37119 C -0.57222 0.40819 -0.63785 0.41744 -0.71007 0.42253 C -0.77483 0.41721 -0.8908 0.42947 -0.93316 0.33835 C -0.94479 0.21601 -0.82934 0.17715 -0.75937 0.16628 C -0.74601 0.1642 -0.73264 0.16212 -0.71927 0.16004 C -0.6368 0.16397 -0.46649 0.14917 -0.43003 0.29117 C -0.43264 0.30204 -0.4342 0.3136 -0.43785 0.32401 C -0.44531 0.34552 -0.46719 0.36055 -0.48246 0.36911 C -0.56875 0.41675 -0.52673 0.39616 -0.60399 0.4142 C -0.62153 0.41837 -0.63854 0.42554 -0.65625 0.42854 C -0.6776 0.43224 -0.6993 0.4327 -0.72083 0.43479 C -0.80764 0.43155 -0.88559 0.43594 -0.95625 0.36309 C -0.96042 0.35199 -0.96649 0.33927 -0.96701 0.32609 C -0.97014 0.2507 -0.88472 0.20814 -0.84392 0.1908 C -0.83125 0.18548 -0.81858 0.1797 -0.80555 0.17646 C -0.77083 0.16813 -0.70087 0.15611 -0.70087 0.15634 C -0.56962 0.16097 -0.57656 0.14778 -0.49167 0.17438 C -0.47101 0.18085 -0.44861 0.18849 -0.43003 0.20306 C -0.42118 0.20999 -0.40555 0.2278 -0.40555 0.22803 C -0.38073 0.30389 -0.4651 0.34205 -0.50087 0.36101 C -0.52274 0.37258 -0.57014 0.37928 -0.57014 0.37951 C -0.66805 0.37304 -0.80417 0.39778 -0.87014 0.2729 C -0.88246 0.21069 -0.87344 0.179 -0.82708 0.15796 C -0.75503 0.12535 -0.71858 0.11911 -0.64236 0.10893 C -0.44826 0.11356 -0.43923 0.10315 -0.30555 0.13761 C -0.26389 0.1605 -0.27795 0.14547 -0.25781 0.1723 C -0.25035 0.22248 -0.28455 0.24422 -0.31163 0.26665 C -0.34531 0.29464 -0.33611 0.2877 -0.3901 0.31591 C -0.40191 0.32216 -0.41319 0.33025 -0.42552 0.33442 C -0.44288 0.34043 -0.48472 0.34436 -0.50399 0.34667 C -0.52708 0.34459 -0.55035 0.34459 -0.57326 0.34043 C -0.61128 0.33349 -0.65434 0.3099 -0.68854 0.28724 C -0.70035 0.27937 -0.71823 0.2648 -0.72708 0.25023 C -0.73351 0.2396 -0.74392 0.21554 -0.74392 0.21578 C -0.75469 0.14431 -0.72795 0.09274 -0.67465 0.08627 C -0.6283 0.09112 -0.58368 0.09552 -0.53785 0.10477 C -0.49444 0.12327 -0.42743 0.14917 -0.39618 0.19912 C -0.38229 0.25694 -0.45017 0.29048 -0.47778 0.30759 C -0.54548 0.34945 -0.52917 0.33488 -0.6316 0.36101 C -0.69045 0.37604 -0.66649 0.37165 -0.71927 0.37743 C -0.75434 0.37466 -0.8 0.39755 -0.80694 0.34667 C -0.79253 0.28122 -0.73871 0.26064 -0.69618 0.2359 C -0.6842 0.22896 -0.67326 0.21878 -0.66094 0.21346 C -0.6408 0.20491 -0.61996 0.20051 -0.5993 0.19496 C -0.51146 0.1716 -0.42864 0.15125 -0.33941 0.1457 C -0.24288 0.1464 -0.13906 0.10824 -0.05017 0.15796 C -0.03941 0.1723 -0.04392 0.18178 -0.05156 0.20306 C -0.0533 0.20791 -0.05694 0.21115 -0.05937 0.21554 C -0.07014 0.23566 -0.08194 0.24862 -0.09479 0.26665 C -0.10035 0.27429 -0.10469 0.28331 -0.11007 0.29117 C -0.13021 0.31985 -0.15295 0.34505 -0.17326 0.37327 C -0.20903 0.42322 -0.24601 0.47641 -0.28542 0.52082 C -0.28958 0.52567 -0.29514 0.52822 -0.2993 0.53307 C -0.32378 0.56221 -0.34757 0.60801 -0.37934 0.62535 C -0.38455 0.62466 -0.38976 0.62489 -0.39479 0.62327 C -0.39809 0.62211 -0.40069 0.61864 -0.40399 0.61702 C -0.40642 0.61587 -0.40903 0.61587 -0.41163 0.61517 C -0.42118 0.61009 -0.42951 0.60454 -0.43941 0.60084 C -0.45243 0.58904 -0.46736 0.58303 -0.4809 0.57193 C -0.51128 0.54695 -0.49114 0.56245 -0.51007 0.54325 C -0.53298 0.51989 -0.55903 0.49561 -0.56858 0.45722 C -0.56701 0.45167 -0.56632 0.44566 -0.56389 0.4408 C -0.55642 0.4253 -0.53403 0.42415 -0.52239 0.42253 C -0.51163 0.42322 -0.50087 0.42253 -0.4901 0.42438 C -0.44861 0.43132 -0.39253 0.48173 -0.37621 0.53516 C -0.37778 0.54464 -0.3783 0.55458 -0.3809 0.56383 C -0.39253 0.60592 -0.45035 0.63159 -0.47465 0.64778 C -0.48854 0.65703 -0.50052 0.67045 -0.51476 0.67854 C -0.60208 0.72896 -0.69913 0.7766 -0.79479 0.78724 C -0.80417 0.784 -0.81493 0.784 -0.82239 0.77498 C -0.82569 0.77105 -0.8316 0.76272 -0.8316 0.76295 C -0.85798 0.67484 -0.79496 0.58719 -0.75625 0.52498 C -0.72239 0.47063 -0.68524 0.4327 -0.63785 0.39778 C -0.59219 0.36425 -0.54548 0.33349 -0.4993 0.30158 C -0.47535 0.28492 -0.45295 0.26295 -0.42708 0.25232 C -0.37934 0.23243 -0.33177 0.21277 -0.28403 0.19288 C -0.24566 0.17692 -0.20399 0.17137 -0.16545 0.15611 C -0.18837 0.1501 -0.17309 0.1531 -0.22083 0.15796 C -0.28194 0.1642 -0.34149 0.1871 -0.40087 0.20514 C -0.49323 0.23312 -0.58611 0.25972 -0.67934 0.28099 C -0.71371 0.27961 -0.74809 0.27914 -0.78246 0.27683 C -0.80434 0.27544 -0.82673 0.26781 -0.84861 0.26457 C -0.86545 0.26527 -0.88246 0.26457 -0.8993 0.26665 C -0.90608 0.26735 -0.9125 0.27128 -0.91927 0.2729 C -0.94792 0.27961 -0.97673 0.28585 -1.00555 0.29117 C -1.03055 0.30273 -1.07239 0.31684 -1.09323 0.34043 C -1.11476 0.36494 -1.13298 0.38992 -1.15156 0.41837 C -1.17552 0.45537 -1.20451 0.48798 -1.23003 0.5229 C -1.25937 0.5636 -1.28733 0.60731 -1.32239 0.63969 C -1.32361 0.62304 -1.32517 0.60708 -1.32708 0.59043 C -1.32656 0.57332 -1.32691 0.5562 -1.32552 0.53932 C -1.32187 0.49653 -1.29844 0.45144 -1.28403 0.41628 C -1.2783 0.40218 -1.24826 0.35754 -1.24062 0.34667 C -1.16753 0.24561 -1.18472 0.26689 -1.08542 0.17854 C -0.94097 0.05019 -0.77517 -0.07423 -0.59774 -0.08372 C -0.56736 -0.07978 -0.54861 -0.09065 -0.53628 -0.05712 C -0.56354 0.0044 -0.63923 0.01064 -0.68403 0.01874 C -0.70955 0.02336 -0.73524 0.02683 -0.76094 0.03099 C -0.9743 0.02891 -1.18733 0.02868 -1.40087 0.02475 C -1.41146 0.02452 -1.41111 0.02082 -1.41319 0.01249 C -1.39566 -0.02104 -1.34809 -0.03029 -1.32239 -0.04903 C -1.28906 -0.07331 -1.25521 -0.09644 -1.22396 -0.12465 C -1.1993 -0.14685 -1.17726 -0.17137 -1.14705 -0.17599 C -1.13698 -0.17946 -1.12656 -0.18154 -1.11632 -0.18409 C -1.10399 -0.19634 -1.0776 -0.21045 -1.0625 -0.21693 C -1.06094 -0.21901 -1.05972 -0.22178 -1.05781 -0.22317 C -1.0559 -0.22456 -1.05243 -0.22271 -1.05156 -0.22525 C -1.05 -0.23057 -1.06545 -0.24421 -1.06701 -0.24537 C -1.0809 -0.25902 -1.1 -0.28214 -1.11632 -0.28862 C -1.12778 -0.28122 -1.12743 -0.27012 -1.12864 -0.25393 C -1.12969 -0.23959 -1.1316 -0.21091 -1.1316 -0.21068 C -1.12604 -0.13251 -1.11458 -0.05619 -1.10243 0.02082 C -1.09844 0.04603 -1.09705 0.07193 -1.09167 0.09667 C -1.08733 0.11656 -1.07899 0.1346 -1.07326 0.15403 C -1.06198 0.19242 -1.05208 0.23104 -1.03941 0.26874 C -1.03837 0.28307 -1.03542 0.29741 -1.03628 0.31175 C -1.03819 0.34829 -1.04427 0.38506 -1.05156 0.42045 C -1.05278 0.43756 -1.05486 0.45676 -1.0625 0.47156 C -1.06667 0.47965 -1.07239 0.4859 -1.07621 0.49422 C -1.08524 0.51388 -1.09253 0.53492 -1.10243 0.55366 C -1.10851 0.56499 -1.13298 0.60407 -1.14236 0.61911 C -1.16649 0.65796 -1.18073 0.70213 -1.21614 0.72572 C -1.22031 0.72364 -1.225 0.72271 -1.22847 0.71948 C -1.24167 0.70722 -1.24826 0.68525 -1.25608 0.66628 C -1.26805 0.63668 -1.27587 0.61101 -1.28073 0.57817 C -1.28003 0.55019 -1.28246 0.52244 -1.27292 0.4963 C -1.26389 0.46924 -1.25035 0.45421 -1.23906 0.42854 C -1.23264 0.41351 -1.22969 0.39593 -1.22239 0.38136 C -1.21267 0.36217 -1.19948 0.34621 -1.18854 0.32817 C -1.14826 0.26157 -1.15521 0.25949 -1.10087 0.20121 C -1.07222 0.17045 -1.03837 0.14848 -1.01163 0.11494 C -0.99288 0.09135 -0.97673 0.07054 -0.95469 0.05343 C -0.96233 0.10454 -1.00121 0.15819 -1.0316 0.18664 C -1.04965 0.20352 -1.06996 0.21578 -1.08854 0.23173 C -1.09618 0.23844 -1.10226 0.24815 -1.11007 0.2544 C -1.1158 0.25902 -1.18125 0.30574 -1.19462 0.31175 C -1.21111 0.31915 -1.22882 0.32031 -1.24549 0.32609 C -1.25 0.3254 -1.25521 0.32748 -1.25937 0.32401 C -1.2618 0.3217 -1.26111 0.31591 -1.26059 0.31175 C -1.25989 0.28238 -1.25486 0.2574 -1.24826 0.22988 C -1.23403 0.16767 -1.21736 0.10546 -1.19462 0.04741 C -1.18802 0.03053 -1.17986 0.0148 -1.17326 -0.00185 C -1.16111 -0.03145 -1.14965 -0.09019 -1.12239 -0.10222 C -1.11875 -0.10152 -1.11476 -0.10268 -1.11163 -0.10014 C -1.10312 -0.09297 -1.0967 -0.08163 -1.08854 -0.07354 C -1.07517 -0.06059 -1.0618 -0.04787 -1.04861 -0.03469 C -1.00798 0.00555 -0.97969 0.03076 -0.95312 0.08835 C -0.9526 0.0932 -0.95104 0.09783 -0.95156 0.10269 C -0.95434 0.12836 -0.97882 0.12743 -0.99323 0.12928 C -1.05469 0.12558 -1.04548 0.13044 -1.09167 0.11702 C -1.11371 0.11055 -1.15764 0.09667 -1.15764 0.0969 C -1.18055 0.07956 -1.20121 0.06638 -1.21614 0.03724 C -1.23733 -0.05018 -1.18055 -0.12557 -1.12396 -0.15541 C -1.10833 -0.16373 -1.09878 -0.16443 -1.08246 -0.1679 C -1.05694 -0.16651 -1.04097 -0.16882 -1.01788 -0.15957 C -0.97031 -0.14038 -0.92569 -0.10199 -0.8901 -0.05712 C -0.87656 -0.04024 -0.86892 -0.02937 -0.8625 -0.00601 C -0.86302 0.00232 -0.8618 0.01087 -0.86389 0.01874 C -0.87066 0.04348 -0.89705 0.0488 -0.91319 0.05343 C -0.95937 0.04834 -1.00451 0.04996 -1.02552 -0.0141 C -1.03403 -0.11424 -0.9401 -0.16674 -0.87934 -0.17807 C -0.86823 -0.17992 -0.85677 -0.17946 -0.84548 -0.17992 C -0.77934 -0.17576 -0.85434 -0.1827 -0.75312 -0.16165 C -0.73524 -0.15795 -0.71719 -0.15564 -0.6993 -0.15148 C -0.68298 -0.14038 -0.66597 -0.13321 -0.65017 -0.12072 C -0.64653 -0.11124 -0.6434 -0.10199 -0.6408 -0.09204 C -0.64618 -0.06313 -0.66736 -0.06013 -0.68698 -0.05712 C -0.70798 -0.06175 -0.72899 -0.06591 -0.75017 -0.06938 C -0.76545 -0.07955 -0.7809 -0.08788 -0.79618 -0.09805 C -0.80052 -0.10684 -0.80347 -0.108 -0.80555 -0.11864 C -0.79878 -0.15911 -0.7743 -0.17715 -0.74548 -0.19241 C -0.70608 -0.21323 -0.68142 -0.21878 -0.63941 -0.22317 C -0.61215 -0.22248 -0.58489 -0.2234 -0.55781 -0.22109 C -0.54635 -0.21993 -0.53524 -0.21554 -0.52396 -0.21299 C -0.51788 -0.21161 -0.50555 -0.20883 -0.50555 -0.2086 C -0.48767 -0.19773 -0.47101 -0.19056 -0.45156 -0.18617 C -0.44271 -0.182 -0.45173 -0.18524 -0.43941 -0.18617 C -0.40868 -0.18871 -0.37778 -0.19033 -0.34705 -0.19241 C -0.30937 -0.19889 -0.27257 -0.20883 -0.23472 -0.21299 C -0.21042 -0.22155 -0.18802 -0.21623 -0.16389 -0.21299 C -0.12969 -0.20837 -0.09514 -0.20883 -0.06094 -0.20883 E">
                                      <p:cBhvr>
                                        <p:cTn id="18" dur="60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autoRev="1" nodeType="withEffect" fill="hold" presetClass="path" presetID="0" repeatCount="indefinite">
                                  <p:stCondLst>
                                    <p:cond delay="30000"/>
                                  </p:stCondLst>
                                  <p:childTnLst>
                                    <p:animMotion origin="layout" path="M 0.08472 -0.28677 C 0.08993 -0.30042 0.10191 -0.30597 0.11111 -0.31545 C 0.11389 -0.31846 0.11614 -0.32239 0.11875 -0.32563 C 0.12222 -0.32979 0.12586 -0.33395 0.12951 -0.33788 C 0.16128 -0.37049 0.19392 -0.40102 0.22621 -0.43224 C 0.23784 -0.44357 0.2493 -0.45444 0.26024 -0.46693 C 0.26423 -0.47179 0.26805 -0.47687 0.27257 -0.48127 C 0.28941 -0.49885 0.30798 -0.51341 0.32482 -0.53053 C 0.33229 -0.53816 0.33836 -0.54834 0.34635 -0.55527 C 0.36736 -0.57285 0.35486 -0.56152 0.38333 -0.58996 C 0.38715 -0.5939 0.39132 -0.5969 0.39566 -0.60014 C 0.40121 -0.6043 0.40746 -0.60731 0.41267 -0.61263 C 0.43576 -0.6346 0.46059 -0.65125 0.48489 -0.66998 C 0.49843 -0.68062 0.51093 -0.69612 0.52343 -0.70884 C 0.53472 -0.72063 0.54687 -0.73173 0.5585 -0.74376 C 0.56423 -0.74954 0.57031 -0.75416 0.57552 -0.76018 C 0.59045 -0.77752 0.58507 -0.77498 0.59704 -0.78677 C 0.60764 -0.79695 0.61909 -0.80481 0.62951 -0.81545 C 0.63941 -0.82586 0.64878 -0.83788 0.65868 -0.84829 C 0.66111 -0.85083 0.66389 -0.85222 0.66649 -0.8543 C 0.66961 -0.85685 0.67274 -0.85985 0.67569 -0.86263 C 0.69166 -0.87974 0.70833 -0.89524 0.72482 -0.91166 C 0.74496 -0.93155 0.76302 -0.95699 0.78316 -0.97526 C 0.79375 -0.98451 0.78593 -0.97757 0.79392 -0.98959 C 0.79757 -0.99468 0.80486 -1.00393 0.80486 -1.00393 C 0.80885 -1.01712 0.81579 -1.0259 0.8217 -1.03677 C 0.8335 -1.05782 0.84583 -1.08187 0.8618 -1.09829 C 0.86701 -1.11008 0.87413 -1.1191 0.87882 -1.1309 C 0.8802 -1.14061 0.88385 -1.14847 0.88645 -1.15773 C 0.8875 -1.16189 0.88958 -1.16998 0.88958 -1.16998 C 0.88889 -1.17738 0.88889 -1.18502 0.88784 -1.19242 C 0.8875 -1.19658 0.88593 -1.20074 0.88489 -1.20467 C 0.88437 -1.20675 0.88316 -1.21092 0.88316 -1.21092 C 0.88385 -1.22109 0.88576 -1.2315 0.88489 -1.24168 C 0.88437 -1.24815 0.87586 -1.24699 0.871 -1.24792 C 0.85156 -1.25139 0.83333 -1.2581 0.81389 -1.26018 C 0.79097 -1.26665 0.7677 -1.26873 0.74496 -1.2766 C 0.70798 -1.27521 0.67482 -1.27128 0.63854 -1.26827 C 0.62691 -1.26434 0.61493 -1.26064 0.60312 -1.2581 C 0.58211 -1.24838 0.56232 -1.23451 0.54166 -1.22317 C 0.53368 -1.21439 0.52708 -1.20629 0.51875 -1.19866 C 0.51649 -1.19681 0.51597 -1.19288 0.51389 -1.19033 C 0.50607 -1.1797 0.50312 -1.1827 0.49548 -1.1679 C 0.49097 -1.15865 0.48559 -1.15033 0.4802 -1.14131 C 0.47639 -1.12419 0.46354 -1.10893 0.45416 -1.09621 C 0.45069 -1.0828 0.44218 -1.07193 0.43715 -1.05921 C 0.4342 -1.05204 0.43229 -1.04394 0.42934 -1.03677 C 0.41857 -1.01064 0.43125 -1.0481 0.42031 -1.01827 C 0.41441 -1.00255 0.40972 -0.98613 0.40625 -0.96901 C 0.40764 -0.95074 0.40746 -0.93155 0.41111 -0.91374 C 0.41215 -0.90842 0.41701 -0.90009 0.41857 -0.89524 C 0.42899 -0.86564 0.43958 -0.83488 0.45711 -0.81129 C 0.46198 -0.79487 0.45816 -0.80366 0.471 -0.78677 C 0.47291 -0.784 0.47395 -0.7796 0.47552 -0.77637 C 0.48003 -0.76873 0.48489 -0.76133 0.48941 -0.75393 C 0.49323 -0.74838 0.49444 -0.74029 0.49878 -0.73543 C 0.50086 -0.73312 0.50382 -0.73266 0.50625 -0.73127 C 0.52395 -0.70074 0.54583 -0.67946 0.56927 -0.65749 C 0.57552 -0.65171 0.58211 -0.6457 0.58802 -0.63922 C 0.59392 -0.63252 0.5901 -0.63298 0.59392 -0.63298 L -0.029 -1.21716 L 0.02187 -0.49561 L 0.89392 -0.36656 L 0.60312 -1.2315 L 0.19722 -1.08187 L 0.13264 -0.30712 L 0.56336 -0.55736 L 0.86632 -0.93825 L 0.53402 -1.06545 L 0.02031 -1.30527 L 0.11562 -0.5858 L 0.95416 -0.6679 L -0.01823 -0.40541 L 0.98003 -1.1679 L 0.01718 -0.93247 L 0.11267 -0.90796 L 0.04635 -0.85014 L 0.92031 -0.77035 L 0.43715 -0.90148 L 0.57413 -0.9179 L 0.30486 -0.95282 L 0.19566 -0.44658 L 0.31562 -0.55944 L 0.29409 -0.40379 L 0.56163 -0.95074 L 0.58489 -0.74977 L 0.63246 -0.87882 L 0.6434 -0.75601 L 0.70312 -0.87072 L 0.71701 -0.72757 L 0.53264 -0.59413 L 0.65868 -0.44242 L 0.42031 -0.50995 L -0.02743 -1.17808 L 0.89079 -1.24977 L 0.16649 -0.20259 E">
                                      <p:cBhvr>
                                        <p:cTn id="20" dur="40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autoRev="1" nodeType="withEffect" fill="hold" presetClass="path" presetID="0" repeatCount="indefinite">
                                  <p:stCondLst>
                                    <p:cond delay="40000"/>
                                  </p:stCondLst>
                                  <p:childTnLst>
                                    <p:animMotion origin="layout" path="M 0.01388 0.36263 C -0.00695 0.62974 -0.02778 0.89685 0.04618 0.94265 C 0.11979 0.98844 0.41006 0.58742 0.45677 0.63737 C 0.50381 0.68733 0.45711 1.19866 0.32777 1.24191 C 0.19826 1.28515 -0.23994 1.07447 -0.31997 0.89755 C -0.4 0.72063 -0.29809 0.17692 -0.15226 0.18039 C -0.00642999999999999 0.18386 0.54878 0.69103 0.55538 0.91813 C 0.56197 1.14524 -0.07171 1.55389 -0.1125 1.54325 C -0.15313 1.53261 0.15607 0.94611 0.31076 0.85453 C 0.46545 0.76295 0.81354 1.06013 0.81527 0.99399 C 0.81701 0.92784 0.52812 0.38992 0.32152 0.45698 C 0.11493 0.52428 -0.39184 1.27845 -0.42466 1.39778 C -0.45747 1.51711 0.12777 1.30712 0.12447 1.17229 C 0.12118 1.03747 -0.4448 0.6827 -0.44462 0.58811 C -0.44445 0.49352 -0.00452 0.44565 0.12604 0.60453 C 0.25677 0.76341 0.43194 1.49052 0.3401 1.54117 C 0.24809 1.59181 -0.49132 0.99884 -0.42466 0.90796 C -0.35816 0.81707 0.66545 0.91813 0.7401 0.99607 C 0.81458 1.07401 0.12465 1.29186 0.02291 1.37512 C -0.07865 1.45837 0.11892 1.70097 0.12916 1.49607 C 0.13941 1.29117 0.14739 0.25763 0.08454 0.14547 C 0.02187 0.0333 -0.20053 0.76989 -0.24619 0.82377 C -0.29202 0.87766 -0.22952 0.4741 -0.1908 0.46901 C -0.15226 0.46438 -0.00869 0.71924 -0.01546 0.7951 C -0.02205 0.87095 -0.33369 0.92738 -0.23091 0.92438 C -0.12796 0.92137 0.50034 0.83904 0.60138 0.77683 C 0.70243 0.71462 0.46197 0.47086 0.37534 0.55134 C 0.28854 0.63182 0.20625 1.1494 0.08142 1.26041 C -0.04306 1.37142 -0.4573 1.21531 -0.3724 1.21739 C -0.28716 1.21947 0.48194 1.34875 0.59236 1.27266 C 0.70277 1.19658 0.34427 0.77567 0.29062 0.76041 C 0.23715 0.74514 0.25572 1.12951 0.27083 1.18039 C 0.28593 1.23127 0.33003 1.18386 0.38159 1.06568 C 0.43316 0.9475 0.6927 0.55435 0.57986 0.47132 C 0.46718 0.3883 -0.15869 0.42715 -0.29532 0.56776 C -0.43195 0.70837 -0.3158 1.17599 -0.23994 1.31568 C -0.16424 1.45537 0.12586 1.44588 0.16006 1.40587 C 0.19409 1.36586 -0.06198 1.14177 -0.03542 1.07586 C -0.00921 1.00994 0.3184 1.05574 0.3184 1.01041 C 0.3184 0.96508 -0.04879 0.85083 -0.03542 0.80342 C -0.02223 0.75601 0.38854 0.75347 0.39826 0.72549 C 0.40798 0.6975 0.01406 0.68617 0.02291 0.63529 C 0.03194 0.58441 0.47586 0.47479 0.45225 0.42021 C 0.42864 0.36563 -0.10174 0.35315 -0.11858 0.30735 C -0.13507 0.26179 0.34079 0.17253 0.35225 0.14547 C 0.36371 0.11841 0.15729 0.13182 -0.04914 0.14547 E">
                                      <p:cBhvr>
                                        <p:cTn id="22" dur="33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 repeatCount="indefinite">
                                  <p:stCondLst>
                                    <p:cond delay="50000"/>
                                  </p:stCondLst>
                                  <p:childTnLst>
                                    <p:animMotion origin="layout" path="M -0.23923 -4.13506E-006 L -1.8059 0.0111 E">
                                      <p:cBhvr>
                                        <p:cTn id="24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autoRev="1" nodeType="withEffect" fill="hold" presetClass="path" presetID="0" repeatCount="indefinite">
                                  <p:stCondLst>
                                    <p:cond delay="60000"/>
                                  </p:stCondLst>
                                  <p:childTnLst>
                                    <p:animMotion origin="layout" path="M -0.04532 -0.60037 C -0.00174 -1.04209 0.04184 -1.48358 -0.07449 -1.70259 C -0.19081 -1.92206 -0.62345 -2.14246 -0.74376 -1.91605 C -0.86407 -1.68941 -0.85765 -0.34413 -0.79619 -0.34413 C -0.73473 -0.34413 -0.48786 -1.91605 -0.37449 -1.91605 C -0.26112 -1.91605 -0.15921 -0.60615 -0.11614 -0.34413 E">
                                      <p:cBhvr>
                                        <p:cTn id="26" dur="5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70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moving red screensaver"/>
          <p:cNvPicPr/>
          <p:nvPr/>
        </p:nvPicPr>
        <p:blipFill>
          <a:blip r:embed="rId1"/>
          <a:stretch/>
        </p:blipFill>
        <p:spPr>
          <a:xfrm>
            <a:off x="-76320" y="0"/>
            <a:ext cx="16916400" cy="6972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moving red screensaver"/>
          <p:cNvPicPr/>
          <p:nvPr/>
        </p:nvPicPr>
        <p:blipFill>
          <a:blip r:embed="rId2"/>
          <a:stretch/>
        </p:blipFill>
        <p:spPr>
          <a:xfrm>
            <a:off x="-76320" y="0"/>
            <a:ext cx="16916400" cy="69724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rcRect l="16113" t="8482" r="24841" b="9244"/>
          <a:stretch/>
        </p:blipFill>
        <p:spPr>
          <a:xfrm>
            <a:off x="3886200" y="1752480"/>
            <a:ext cx="1611360" cy="3581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rcRect l="19323" t="11048" r="18842" b="49888"/>
          <a:stretch/>
        </p:blipFill>
        <p:spPr>
          <a:xfrm>
            <a:off x="4267080" y="1066680"/>
            <a:ext cx="990720" cy="82548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rId5"/>
          </p:cNvPr>
          <p:cNvSpPr/>
          <p:nvPr/>
        </p:nvSpPr>
        <p:spPr>
          <a:xfrm>
            <a:off x="4267080" y="2514600"/>
            <a:ext cx="685800" cy="685800"/>
          </a:xfrm>
          <a:prstGeom prst="star5">
            <a:avLst/>
          </a:prstGeom>
          <a:solidFill>
            <a:srgbClr val="bdb9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5538 0.03769 0.01736 0.09736 0.08472 0.01433 C 0.15208 -0.06869 0.42188 -0.50347 0.40469 -0.49815 C 0.3875 -0.49284 0.1224 -0.10037 -0.0184 0.04694 C -0.1592 0.19426 -0.44705 0.39939 -0.43993 0.38529 C -0.43281 0.37118 -0.1184 -0.03007 0.02465 -0.03701 C 0.16771 -0.04395 0.42188 0.33996 0.41858 0.34412 C 0.41528 0.34828 0.13733 0.12349 0.00469 -0.01249 C -0.12795 -0.14848 -0.3776 -0.47572 -0.37691 -0.47156 C -0.37621 -0.4674 0.01667 -0.05065 0.0092 0.01225 C 0.00174 0.07516 -0.42482 -0.08881 -0.42153 -0.09436 C -0.41823 -0.09991 -0.11528 -0.01041 0.02934 -0.02059 C 0.17396 -0.03076 0.45625 -0.16074 0.44618 -0.15588 C 0.43611 -0.15102 0.02292 0.05619 -0.03073 0.00809 C -0.08437 -0.04001 0.13056 -0.45213 0.12465 -0.44473 C 0.11875 -0.43733 -0.05712 -0.0895 -0.06614 0.05319 C -0.07517 0.19588 0.05417 0.40772 0.07083 0.41188 C 0.0875 0.41605 -0.01788 0.19565 0.03386 0.0777 C 0.08559 -0.04024 0.37344 -0.27891 0.3816 -0.29533 C 0.38976 -0.31175 0.08577 0.00531 0.08316 -0.02059 C 0.08056 -0.04649 0.37847 -0.44381 0.36615 -0.45098 C 0.35382 -0.45815 0.13941 -0.18594 0.0092 -0.0636 C -0.12101 0.05874 -0.34548 0.3462 -0.41528 0.2826 C -0.48507 0.21901 -0.55104 -0.32517 -0.4092 -0.44473 C -0.26736 -0.5643 0.30208 -0.57123 0.43542 -0.43456 C 0.56875 -0.29765 0.53281 0.23566 0.3908 0.37696 C 0.24879 0.51827 -0.31024 0.55018 -0.41684 0.41396 C -0.52344 0.27775 -0.29375 -0.42022 -0.24913 -0.4408 C -0.20451 -0.46138 -0.19878 0.29185 -0.14913 0.29093 C -0.09948 0.29 -0.000870000000000003 -0.46 0.04931 -0.44681 C 0.09948 -0.43363 0.10643 0.36124 0.15226 0.37072 C 0.19809 0.3802 0.28177 -0.36841 0.32465 -0.38946 C 0.36754 -0.4105 0.37049 0.16651 0.4092 0.24375 C 0.44792 0.32099 0.72622 0.09551 0.55695 0.07377 C 0.38768 0.05203 -0.6092 0.14361 -0.60608 0.11262 C -0.60278 0.08163 0.57917 -0.06684 0.57535 -0.11286 C 0.57153 -0.15889 -0.65052 -0.13321 -0.62899 -0.16397 C -0.60781 -0.19473 0.7059 -0.25926 0.70313 -0.29718 C 0.70035 -0.33511 -0.64236 -0.36841 -0.64618 -0.39154 C -0.65 -0.41467 0.4934 -0.5569 0.68004 -0.43664 C 0.86667 -0.31638 0.69479 0.19287 0.47396 0.32978 C 0.25313 0.46669 -0.65382 0.41188 -0.64462 0.38529 C -0.63542 0.35869 0.36111 0.15333 0.52934 0.16998 C 0.69757 0.18663 0.41077 0.61748 0.36458 0.48566 C 0.3184 0.35383 0.29549 -0.6383 0.25226 -0.62096 C 0.20903 -0.60338 0.18906 0.61609 0.10469 0.59019 C 0.02031 0.56429 -0.1592 -0.77036 -0.25382 -0.77683 C -0.34844 -0.78331 -0.38889 0.52937 -0.46302 0.55111 C -0.53715 0.57284 -0.74774 -0.62766 -0.69844 -0.64547 C -0.64913 -0.66374 -0.29462 0.45559 -0.16771 0.44264 C -0.0408 0.42969 0.00886 -0.73382 0.06302 -0.72364 C 0.11719 -0.71346 0.09792 0.41859 0.15695 0.50393 C 0.21597 0.58926 0.44271 -0.12882 0.41702 -0.21115 C 0.39132 -0.29348 0.05538 -0.0377 0 0 Z">
                                      <p:cBhvr>
                                        <p:cTn id="45" dur="20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5538 0.03769 0.01736 0.09736 0.08472 0.01433 C 0.15208 -0.06869 0.42188 -0.50347 0.40469 -0.49815 C 0.3875 -0.49284 0.1224 -0.10037 -0.0184 0.04694 C -0.1592 0.19426 -0.44705 0.39939 -0.43993 0.38529 C -0.43281 0.37118 -0.1184 -0.03007 0.02465 -0.03701 C 0.16771 -0.04395 0.42188 0.33996 0.41858 0.34412 C 0.41528 0.34828 0.13733 0.12349 0.00469 -0.01249 C -0.12795 -0.14848 -0.3776 -0.47572 -0.37691 -0.47156 C -0.37621 -0.4674 0.01667 -0.05065 0.0092 0.01225 C 0.00174 0.07516 -0.42482 -0.08881 -0.42153 -0.09436 C -0.41823 -0.09991 -0.11528 -0.01041 0.02934 -0.02059 C 0.17396 -0.03076 0.45625 -0.16074 0.44618 -0.15588 C 0.43611 -0.15102 0.02292 0.05619 -0.03073 0.00809 C -0.08437 -0.04001 0.13056 -0.45213 0.12465 -0.44473 C 0.11875 -0.43733 -0.05712 -0.0895 -0.06614 0.05319 C -0.07517 0.19588 0.05417 0.40772 0.07083 0.41188 C 0.0875 0.41605 -0.01788 0.19565 0.03386 0.0777 C 0.08559 -0.04024 0.37344 -0.27891 0.3816 -0.29533 C 0.38976 -0.31175 0.08577 0.00531 0.08316 -0.02059 C 0.08056 -0.04649 0.37847 -0.44381 0.36615 -0.45098 C 0.35382 -0.45815 0.13941 -0.18594 0.0092 -0.0636 C -0.12101 0.05874 -0.34548 0.3462 -0.41528 0.2826 C -0.48507 0.21901 -0.55104 -0.32517 -0.4092 -0.44473 C -0.26736 -0.5643 0.30208 -0.57123 0.43542 -0.43456 C 0.56875 -0.29765 0.53281 0.23566 0.3908 0.37696 C 0.24879 0.51827 -0.31024 0.55018 -0.41684 0.41396 C -0.52344 0.27775 -0.29375 -0.42022 -0.24913 -0.4408 C -0.20451 -0.46138 -0.19878 0.29185 -0.14913 0.29093 C -0.09948 0.29 -0.000870000000000003 -0.46 0.04931 -0.44681 C 0.09948 -0.43363 0.10643 0.36124 0.15226 0.37072 C 0.19809 0.3802 0.28177 -0.36841 0.32465 -0.38946 C 0.36754 -0.4105 0.37049 0.16651 0.4092 0.24375 C 0.44792 0.32099 0.72622 0.09551 0.55695 0.07377 C 0.38768 0.05203 -0.6092 0.14361 -0.60608 0.11262 C -0.60278 0.08163 0.57917 -0.06684 0.57535 -0.11286 C 0.57153 -0.15889 -0.65052 -0.13321 -0.62899 -0.16397 C -0.60781 -0.19473 0.7059 -0.25926 0.70313 -0.29718 C 0.70035 -0.33511 -0.64236 -0.36841 -0.64618 -0.39154 C -0.65 -0.41467 0.4934 -0.5569 0.68004 -0.43664 C 0.86667 -0.31638 0.69479 0.19287 0.47396 0.32978 C 0.25313 0.46669 -0.65382 0.41188 -0.64462 0.38529 C -0.63542 0.35869 0.36111 0.15333 0.52934 0.16998 C 0.69757 0.18663 0.41077 0.61748 0.36458 0.48566 C 0.3184 0.35383 0.29549 -0.6383 0.25226 -0.62096 C 0.20903 -0.60338 0.18906 0.61609 0.10469 0.59019 C 0.02031 0.56429 -0.1592 -0.77036 -0.25382 -0.77683 C -0.34844 -0.78331 -0.38889 0.52937 -0.46302 0.55111 C -0.53715 0.57284 -0.74774 -0.62766 -0.69844 -0.64547 C -0.64913 -0.66374 -0.29462 0.45559 -0.16771 0.44264 C -0.0408 0.42969 0.00886 -0.73382 0.06302 -0.72364 C 0.11719 -0.71346 0.09792 0.41859 0.15695 0.50393 C 0.21597 0.58926 0.44271 -0.12882 0.41702 -0.21115 C 0.39132 -0.29348 0.05538 -0.0377 0 0 Z">
                                      <p:cBhvr>
                                        <p:cTn id="47" dur="20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20000"/>
                                  </p:stCondLst>
                                  <p:childTnLst>
                                    <p:animMotion origin="layout" path="M 0.00417 0.06198 L 0.00417 -0.41535 E">
                                      <p:cBhvr>
                                        <p:cTn id="49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6">
                                  <p:stCondLst>
                                    <p:cond delay="21000"/>
                                  </p:stCondLst>
                                  <p:childTnLst>
                                    <p:animScale>
                                      <p:cBhvr>
                                        <p:cTn id="51" dur="500" fill="hold"/>
                                        <p:tgtEl>
                                          <p:spTgt spid="228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52" autoRev="1" nodeType="withEffect" fill="hold" presetClass="emph" presetID="8" repeatCount="5000">
                                  <p:stCondLst>
                                    <p:cond delay="21500"/>
                                  </p:stCondLst>
                                  <p:childTnLst>
                                    <p:animRot by="43200000">
                                      <p:cBhvr>
                                        <p:cTn id="5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27000"/>
                                  </p:stCondLst>
                                  <p:childTnLst>
                                    <p:animMotion origin="layout" path="M 0.00018 1.57262E-007 C -0.00295 -0.0111 -0.00816 -0.0185 -0.01197 -0.02891 C -0.01631 -0.04001 -0.01927 -0.05366 -0.02447 -0.0636 C -0.02656 -0.06776 -0.02968 -0.07031 -0.03194 -0.07378 C -0.03645 -0.08164 -0.0401 -0.0902 -0.04444 -0.09829 C -0.06614 -0.14177 -0.03576 -0.07933 -0.05659 -0.11679 C -0.06562 -0.13298 -0.07291 -0.14871 -0.08263 -0.16397 C -0.09566 -0.18455 -0.11441 -0.19889 -0.13055 -0.21508 C -0.15468 -0.23983 -0.1776 -0.26665 -0.20416 -0.28677 C -0.21458 -0.29487 -0.22586 -0.29903 -0.23663 -0.30551 C -0.25937 -0.31869 -0.23906 -0.30805 -0.25816 -0.32169 C -0.26805 -0.32886 -0.27899 -0.33187 -0.28888 -0.33811 C -0.29913 -0.34459 -0.3092 -0.35268 -0.31961 -0.3587 C -0.33142 -0.3654 -0.3434 -0.37026 -0.3552 -0.37697 C -0.38333 -0.39316 -0.41111 -0.41304 -0.43802 -0.43247 C -0.44392 -0.4371 -0.45069 -0.4371 -0.45677 -0.44057 C -0.46527 -0.44565 -0.47378 -0.45074 -0.48263 -0.4549 C -0.21875 -0.57447 -0.01875 -0.46947 0.21563 -0.44057 C 0.26598 -0.42415 0.31476 -0.41628 0.3665 -0.41397 C 0.37657 -0.41073 0.38994 -0.41952 0.39723 -0.41004 C 0.40504 -0.39963 0.39358 -0.37489 0.38941 -0.36471 C 0.37639 -0.33349 0.39931 -0.38668 0.38334 -0.34459 C 0.3698 -0.30805 0.35504 -0.2722 0.33421 -0.24191 C 0.27309 -0.15403 0.2033 -0.08002 0.12952 -0.01226 C 0.11962 -0.00347 0.11007 0.00694 0.10035 0.01619 C 0.08125 0.03492 0.0566 0.04325 0.03559 0.05712 C 0.01789 0.06915 0.02605 0.06637 0.01268 0.06961 C -0.00086 0.0784 -0.01475 0.08765 -0.02899 0.09436 C -0.16614 0.03238 -0.36527 0.06267 -0.47829 0.05943 C -0.5177 0.05203 -0.55694 0.04255 -0.59652 0.03492 C -0.61458 0.02659 -0.57361 0.00948 -0.57048 0.00832 C -0.5467 -0.00255 -0.47951 -0.03238 -0.46111 -0.04949 C -0.41718 -0.08973 -0.37083 -0.12396 -0.32291 -0.15588 C -0.29809 -0.17206 -0.27847 -0.19681 -0.2552 -0.21508 C -0.25017 -0.22364 -0.2434 -0.22942 -0.23663 -0.23566 C -0.19652 -0.22109 -0.15659 -0.21277 -0.1151 -0.2049 C -0.07187 -0.19681 -0.02916 -0.18224 0.01407 -0.17415 C 0.0283 -0.1716 0.04306 -0.17091 0.0573 -0.16813 C 0.08039 -0.16351 0.10348 -0.15726 0.12657 -0.15171 C 0.17726 -0.13969 0.17101 -0.13252 0.20504 -0.11286 C 0.225 -0.10107 0.24393 -0.09297 0.26181 -0.07586 C 0.26806 -0.0488 0.26025 -0.00948 0.24809 0.01434 C 0.24254 0.02474 0.2349 0.03238 0.22952 0.04278 C 0.20695 0.08603 0.18264 0.12858 0.15886 0.17021 C 0.15348 0.17946 0.15035 0.19658 0.14653 0.20698 C 0.14584 0.20953 0.14584 0.21276 0.14497 0.21531 C 0.14063 0.22826 0.14046 0.21716 0.14653 0.21531 C 0.15296 0.213 0.1599 0.21369 0.1665 0.213 C 0.18803 0.21461 0.20955 0.21461 0.23108 0.21716 C 0.23785 0.21808 0.24445 0.22155 0.25122 0.22317 C 0.27448 0.22895 0.29896 0.22895 0.32188 0.23751 C 0.34914 0.24838 0.33577 0.24537 0.36198 0.24792 C 0.37639 0.25139 0.39046 0.25555 0.40504 0.25832 C 0.41146 0.25948 0.42483 0.26226 0.42483 0.26226 C 0.42796 0.26341 0.43091 0.26503 0.43403 0.26642 C 0.43681 0.26781 0.429 0.27035 0.42639 0.27266 C 0.42483 0.27428 0.42362 0.27706 0.42188 0.27868 C 0.41528 0.28399 0.40556 0.28677 0.39879 0.2907 C 0.36094 0.31337 0.32275 0.32701 0.28195 0.3358 C 0.2257 0.34852 0.16893 0.358 0.11268 0.37072 C 0.05591 0.3839 -0.00104 0.39963 -0.05816 0.4098 C -0.08038 0.41998 -0.06076 0.41004 -0.00746 0.41582 C 0.03056 0.42021 0.06789 0.4327 0.10504 0.44264 C 0.14705 0.45375 0.18872 0.46831 0.23108 0.47757 C 0.25053 0.4815 0.28073 0.48797 0.30018 0.49399 C 0.33369 0.50416 0.36632 0.51549 0.40035 0.52058 C 0.41146 0.52405 0.42292 0.52659 0.43403 0.53076 C 0.42188 0.56221 0.4158 0.55897 0.39879 0.58187 C 0.39653 0.58487 0.39514 0.58857 0.39271 0.59019 C 0.38994 0.59204 0.38021 0.59227 0.38334 0.59227 C 0.40348 0.59135 0.42327 0.5895 0.44341 0.58788 C 0.45834 0.58418 0.47257 0.58002 0.48803 0.5777 C 0.50191 0.57354 0.51528 0.57215 0.52952 0.56984 C 0.53681 0.56707 0.54375 0.56406 0.55105 0.56152 C 0.55487 0.5599 0.56198 0.55735 0.56198 0.55735 C 0.56858 0.55134 0.57136 0.55435 0.5757 0.5451 C 0.57049 0.49838 0.57344 0.45143 0.56494 0.40564 C 0.5625 0.37419 0.55608 0.35708 0.54497 0.32794 C 0.54237 0.32146 0.54184 0.3136 0.53889 0.30735 C 0.52987 0.28908 0.51702 0.27266 0.50782 0.25416 C 0.53629 0.25139 0.56303 0.24537 0.59098 0.2419 C 0.60469 0.23751 0.61875 0.23497 0.63247 0.2315 C 0.63924 0.22988 0.64584 0.22895 0.65261 0.22733 C 0.6566 0.22664 0.66494 0.22317 0.66494 0.22317 C 0.66528 0.22063 0.66737 0.21785 0.6665 0.21531 C 0.66459 0.20976 0.66025 0.20698 0.6573 0.20259 C 0.64914 0.19079 0.64289 0.18085 0.63247 0.17206 C 0.62362 0.16466 0.6158 0.15587 0.6066 0.14963 C 0.59671 0.14292 0.58542 0.13968 0.5757 0.13298 C 0.57049 0.12951 0.5658 0.12535 0.56025 0.1228 C 0.54428 0.11563 0.5191 0.11309 0.50191 0.11078 C 0.46615 0.09991 0.51077 0.11239 0.47257 0.10453 C 0.44184 0.09782 0.47587 0.10314 0.44497 0.09436 C 0.43664 0.09204 0.42848 0.09204 0.42032 0.09019 C 0.39601 0.08349 0.41945 0.08765 0.39723 0.08372 C 0.38941 0.08256 0.37414 0.08002 0.37414 0.08002 C 0.35782 0.07239 0.34341 0.074 0.32657 0.07585 C 0.31059 0.09644 0.29271 0.11239 0.2757 0.13113 C 0.26875 0.13876 0.23334 0.17969 0.22327 0.1864 C 0.21823 0.18987 0.21268 0.19241 0.20799 0.19681 C 0.1974 0.20606 0.18681 0.21577 0.17709 0.22733 C 0.17223 0.23358 0.16754 0.24052 0.16198 0.24607 C 0.12917 0.27937 0.08507 0.30041 0.07119 0.35661 C 0.07084 0.35962 0.0698 0.37581 0.06806 0.3809 C 0.05643 0.41582 0.02396 0.4253 -0.00138 0.42831 C -0.03715 0.43709 -0.07274 0.44981 -0.10902 0.45305 C -0.15763 0.46577 -0.20729 0.48103 -0.25659 0.48751 C -0.25989 0.49329 -0.26232 0.4993 -0.26736 0.50185 C -0.29427 0.51642 -0.3401 0.51133 -0.36423 0.51249 C -0.39566 0.52128 -0.42691 0.52498 -0.45816 0.53261 C -0.47204 0.53214 -0.48628 0.53423 -0.49982 0.53076 C -0.50225 0.53006 -0.49635 0.52567 -0.49496 0.52243 C -0.4868 0.50439 -0.49982 0.52451 -0.4842 0.50624 C -0.47204 0.49167 -0.45711 0.4704 -0.44756 0.45305 C -0.43871 0.43686 -0.43055 0.41929 -0.42118 0.40379 C -0.41059 0.38598 -0.40972 0.39385 -0.40277 0.37303 C -0.39861 0.36031 -0.39496 0.34736 -0.39201 0.33418 C -0.39114 0.32932 -0.39045 0.32447 -0.38888 0.31961 C -0.38593 0.31059 -0.38159 0.3018 -0.37812 0.29301 C -0.37413 0.28191 -0.37222 0.26804 -0.36892 0.25624 C -0.36996 0.24537 -0.36892 0.23335 -0.37187 0.22317 C -0.37413 0.21623 -0.38003 0.2123 -0.3842 0.20698 C -0.39045 0.19866 -0.39895 0.19334 -0.40572 0.1864 C -0.41423 0.17807 -0.42274 0.16605 -0.43194 0.1598 C -0.44513 0.13783 -0.44618 0.12858 -0.45364 0.10453 C -0.45208 0.0895 -0.45138 0.074 -0.44878 0.05943 C -0.44687 0.04602 -0.43645 0.03076 -0.42881 0.02266 C -0.40086 -0.00856 -0.40156 -0.00578 -0.36736 -0.03076 C -0.34583 -0.04672 -0.32361 -0.06036 -0.30138 -0.07378 C -0.29843 -0.07539 -0.27413 -0.08973 -0.27187 -0.0902 C -0.25381 -0.09413 -0.23628 -0.09829 -0.21805 -0.10037 C -0.175 -0.11633 -0.18281 -0.11587 -0.10572 -0.10477 C -0.10173 -0.10384 -0.11197 -0.0976 -0.1151 -0.09413 C -0.11875 -0.09066 -0.12274 -0.08811 -0.12604 -0.08395 C -0.13663 -0.07031 -0.14618 -0.05527 -0.15659 -0.04094 C -0.18333 -0.00416 -0.21145 0.02983 -0.23211 0.07377 C -0.24045 0.09204 -0.2434 0.11216 -0.25034 0.13113 C -0.25329 0.16605 -0.24409 0.20953 -0.2151 0.22132 C -0.21215 0.22225 -0.19531 0.22502 -0.19357 0.22548 C -0.16354 0.22317 -0.14392 0.22317 -0.11649 0.21716 C -0.08246 0.2093 -0.04913 0.19588 -0.0151 0.18825 C 0.00973 0.18293 0.06042 0.17622 0.06042 0.17622 C 0.1066 0.16073 0.154 0.142 0.19723 0.11471 C 0.22292 0.09806 0.24757 0.07747 0.27414 0.0636 C 0.28212 0.05504 0.28646 0.04695 0.29115 0.03492 C 0.29063 0.02613 0.29115 0.01688 0.28959 0.00832 C 0.28525 -0.01226 0.27726 -0.02058 0.26806 -0.03677 C 0.24306 -0.08002 0.28629 -0.00971 0.24497 -0.07586 C 0.23872 -0.08603 0.22987 -0.09251 0.22327 -0.10268 C 0.21702 -0.1124 0.21077 -0.12257 0.20504 -0.13321 C 0.19931 -0.14385 0.19584 -0.15634 0.18959 -0.16605 C 0.18646 -0.17091 0.18299 -0.17507 0.18021 -0.18062 C 0.17518 -0.1908 0.16268 -0.23381 0.16198 -0.23566 C 0.15591 -0.25486 0.14879 -0.27475 0.14497 -0.2951 C 0.1408 -0.31614 0.13994 -0.34875 0.12952 -0.36679 C 0.12813 -0.3735 0.12379 -0.39986 0.11737 -0.40379 C 0.11441 -0.40541 0.11112 -0.40495 0.10799 -0.40564 C 0.08178 -0.40287 0.05434 -0.40241 0.02952 -0.38946 C -0.00503 -0.37188 -0.03767 -0.34806 -0.07048 -0.32586 C -0.10451 -0.30366 -0.14097 -0.28932 -0.16423 -0.24792 C -0.16545 -0.24329 -0.16718 -0.23867 -0.16753 -0.23381 C -0.16909 -0.17761 -0.15503 -0.17646 -0.12118 -0.14963 C -0.09496 -0.12905 -0.06857 -0.11841 -0.03958 -0.10268 C -0.03177 -0.09806 -0.02447 -0.09043 -0.01649 -0.08603 C -0.00243 -0.0784 0.01268 -0.07378 0.02657 -0.06545 C 0.08959 -0.02729 0.15087 0.01781 0.21112 0.0636 C 0.24184 0.08696 0.28681 0.12881 0.29862 0.17807 C 0.30261 0.21346 0.29792 0.25416 0.28351 0.28469 C 0.26337 0.32724 0.28108 0.28538 0.26476 0.3136 C 0.24306 0.35106 0.22014 0.38066 0.18959 0.40564 C 0.16945 0.42252 0.15191 0.44473 0.13247 0.46323 C 0.11528 0.47965 0.12778 0.46392 0.1158 0.47757 C 0.11424 0.47942 0.10938 0.48543 0.11112 0.48358 C 0.1816 0.41073 0.26337 0.36656 0.34323 0.3136 C 0.41476 0.26596 0.48421 0.2204 0.5125 0.11471 C 0.52257 0.02382 0.49636 -0.03145 0.46632 -0.1087 C 0.43924 -0.17877 0.41407 -0.25093 0.38785 -0.32169 C 0.36303 -0.38969 0.33455 -0.45329 0.31875 -0.5266 C 0.3158 -0.58742 0.30434 -0.64431 0.31875 -0.70699 C 0.31494 -0.64038 0.30539 -0.58002 0.29862 -0.51434 C 0.28386 -0.36749 0.26459 -0.21554 0.23264 -0.07378 C 0.19931 0.07331 0.22014 -0.01457 0.1665 0.18825 C 0.14948 0.25231 0.12136 0.3136 0.08785 0.36471 C 0.07622 0.38251 0.06546 0.39893 0.04792 0.40379 C 0.03837 0.39523 0.04132 0.38598 0.04011 0.36887 C 0.04462 0.27706 0.05973 0.18733 0.06962 0.09621 C 0.07119 0.08071 0.07292 0.06475 0.0757 0.04926 C 0.0816 0.01387 0.09584 -0.05527 0.09584 -0.05527 C 0.09896 -0.09112 0.10191 -0.1265 0.10504 -0.16189 C 0.10747 -0.19218 0.1158 -0.25231 0.1158 -0.25231 C 0.11424 -0.27359 0.1132 -0.29487 0.11112 -0.31568 C 0.11077 -0.31938 0.11025 -0.32424 0.10799 -0.32586 C 0.10625 -0.32724 0.10573 -0.32193 0.10504 -0.31984 C 0.1007 -0.30551 0.09688 -0.29094 0.09254 -0.27683 C 0.08994 -0.26665 0.0849 -0.25763 0.08178 -0.24792 C 0.06129 -0.18432 0.04011 -0.12142 0.02014 -0.05736 C -0.02673 0.09343 -0.06163 0.21716 -0.11649 0.36471 C -0.12604 0.39038 -0.13715 0.41535 -0.14756 0.44056 C -0.15659 0.46276 -0.16406 0.49306 -0.18125 0.50832 C -0.17604 0.4253 -0.17951 0.45883 -0.17361 0.40795 C -0.17795 -0.11378 -0.15798 0.19773 -0.19809 -0.10477 C -0.20729 -0.17345 -0.2184 -0.23983 -0.23211 -0.30759 C -0.23368 -0.31614 -0.23819 -0.32378 -0.24114 -0.33187 C -0.24375 -0.3395 -0.24878 -0.35477 -0.24878 -0.35477 C -0.25243 -0.31568 -0.2592 -0.2574 -0.26892 -0.22364 C -0.30694 -0.09251 -0.25555 -0.26249 -0.30295 -0.12905 C -0.31562 -0.09251 -0.32708 -0.05527 -0.33958 -0.01873 C -0.38819 0.1228 -0.43767 0.26526 -0.49045 0.40379 C -0.48697 0.31845 -0.47152 0.23196 -0.45503 0.14963 C -0.43524 0.05111 -0.42187 -0.04926 -0.40277 -0.14778 C -0.38385 -0.24491 -0.37812 -0.29232 -0.36111 -0.39963 C -0.35781 -0.42137 -0.35225 -0.44288 -0.35034 -0.46508 C -0.34513 -0.52983 -0.3493 -0.50139 -0.33958 -0.55134 C -0.33888 -0.56406 -0.33593 -0.59274 -0.33958 -0.60453 C -0.34079 -0.60777 -0.34305 -0.59945 -0.34444 -0.59644 C -0.35486 -0.57285 -0.34566 -0.58673 -0.35816 -0.5636 C -0.37743 -0.52868 -0.40381 -0.49977 -0.43055 -0.47572 C -0.5026 -0.41027 -0.41822 -0.48913 -0.48593 -0.41836 C -0.5217 -0.38044 -0.56892 -0.34505 -0.58732 -0.28492 C -0.58055 -0.23936 -0.51093 -0.27174 -0.49982 -0.27267 C -0.40121 -0.29741 -0.30468 -0.32979 -0.20729 -0.36078 C -0.18055 -0.36934 -0.15277 -0.3698 -0.12604 -0.37697 C -0.10243 -0.38367 -0.08003 -0.39431 -0.05659 -0.40194 C 0.01094 -0.42415 0.07882 -0.44496 0.14653 -0.46716 C 0.17101 -0.47549 0.22171 -0.4815 0.22171 -0.4815 C 0.23247 -0.48589 0.25434 -0.49029 0.26476 -0.5 C 0.24358 -0.50578 0.21494 -0.49353 0.19428 -0.48798 C 0.14653 -0.47526 0.09844 -0.46369 0.05105 -0.44889 C 0.00521 -0.43478 -0.0401 -0.41836 -0.08593 -0.40379 C -0.15868 -0.3809 -0.23263 -0.36286 -0.30434 -0.33187 C -0.34409 -0.31476 -0.38593 -0.30296 -0.42274 -0.27683 C -0.43611 -0.26712 -0.44913 -0.25694 -0.46267 -0.24792 C -0.48836 -0.23173 -0.51527 -0.22479 -0.53038 -0.1908 C -0.51892 -0.13761 -0.4625 -0.13275 -0.42725 -0.12489 C -0.3151 -0.10014 -0.2026 -0.0865 -0.08906 -0.08395 C -0.03506 -0.08303 0.01875 -0.08141 0.07275 -0.07979 C 0.10955 -0.07031 0.14601 -0.06036 0.18351 -0.05527 C 0.18976 -0.04926 0.19341 -0.05019 0.19584 -0.04094 C 0.15712 -0.00763 0.10139 -0.00416 0.0573 0.00416 C -0.0125 0.01711 -0.08194 0.02914 -0.15208 0.03908 C -0.18993 0.04995 -0.22743 0.06313 -0.26579 0.07146 C -0.29774 0.07886 -0.33333 0.08349 -0.36111 0.10638 C -0.36406 0.11818 -0.34479 0.11748 -0.33819 0.11864 C -0.31701 0.12257 -0.29618 0.12604 -0.27517 0.12881 C -0.22326 0.13645 -0.1717 0.15148 -0.11961 0.15749 C -0.08611 0.16189 -0.0217 0.16281 0.01112 0.16374 C 0.13837 0.1864 0.26441 0.1864 0.39271 0.18825 C 0.40191 0.18894 0.41112 0.18894 0.42032 0.19056 C 0.42188 0.19079 0.41737 0.19218 0.4158 0.19241 C 0.40816 0.19496 0.40053 0.1975 0.39271 0.19866 C 0.3849 0.20004 0.37726 0.2012 0.36962 0.20259 C 0.35313 0.20583 0.31337 0.21485 0.29862 0.21531 C 0.16181 0.21785 0.025 0.21623 -0.11197 0.21716 C -0.13871 0.22387 -0.16788 0.22595 -0.19357 0.23751 C -0.03923 0.2907 0.12553 0.24468 0.2849 0.24607 C 0.2948 0.24884 0.30521 0.24884 0.31112 0.26041 C 0.29219 0.2944 0.26112 0.30943 0.23264 0.32562 C 0.22622 0.32955 0.22066 0.33464 0.21407 0.33811 C 0.2 0.34574 0.18559 0.35176 0.17101 0.35869 C 0.15851 0.36471 0.14428 0.36263 0.13091 0.36471 C 0.09983 0.37627 0.07084 0.38251 0.03872 0.38737 C 0.00591 0.38575 -0.03072 0.38945 -0.06441 0.37928 C -0.06267 0.37396 -0.06232 0.36771 -0.05972 0.36286 C -0.05347 0.35106 -0.05434 0.35777 -0.04739 0.34852 C -0.04548 0.34597 -0.04461 0.34251 -0.04288 0.34019 C -0.03958 0.33649 -0.03559 0.33487 -0.03194 0.3321 C -0.02691 0.31892 -0.03281 0.30828 -0.03958 0.29718 C -0.0585 0.26665 -0.07274 0.24792 -0.09496 0.21901 C -0.10312 0.2086 -0.11284 0.20028 -0.11961 0.18825 C -0.1342 0.16327 -0.15138 0.14061 -0.16267 0.11263 C -0.17083 0.09274 -0.18732 0.05342 -0.18732 0.05342 C -0.19583 -0.01272 -0.17847 -0.04764 -0.13663 -0.07979 C -0.11371 -0.0976 -0.09045 -0.11402 -0.06753 -0.13113 C -0.02291 -0.16443 0.06025 -0.17299 0.11112 -0.18062 C 0.16511 -0.17553 0.2408 -0.18964 0.2849 -0.13113 C 0.31494 -0.02637 0.20973 0.03746 0.15261 0.0636 C 0.1349 0.07146 0.11702 0.0784 0.09879 0.08372 C 0.08004 0.0895 0.06077 0.09366 0.04167 0.09621 C 0.02344 0.09875 0.00487 0.09736 -0.01354 0.09806 C -0.0526 0.09528 -0.09184 0.09621 -0.13055 0.09019 C -0.16197 0.0851 -0.19184 0.06868 -0.22274 0.05943 C -0.24427 0.04394 -0.24826 0.04348 -0.25659 0.01434 C -0.25451 0.00139 -0.25451 -0.01226 -0.25034 -0.02475 C -0.23836 -0.06175 -0.18437 -0.10384 -0.15972 -0.12095 C -0.14548 -0.1309 -0.0901 -0.16559 -0.075 -0.17206 C -0.02361 -0.19427 0.03212 -0.2019 0.08473 -0.21716 C 0.12223 -0.21508 0.1599 -0.2167 0.19723 -0.21115 C 0.22535 -0.20699 0.24775 -0.17391 0.26476 -0.14778 C 0.26667 -0.1346 0.26997 -0.11193 0.26962 -0.09829 C 0.26598 0.02868 0.16059 0.11563 0.07709 0.13714 C 0.06146 0.1413 0.04549 0.1413 0.02952 0.14315 C -0.03854 0.13737 -0.09062 0.13529 -0.15208 0.09806 C -0.17829 0.08233 -0.19895 0.06614 -0.21371 0.03261 C -0.21093 0.01156 -0.21059 -0.01018 -0.20572 -0.03076 C -0.20364 -0.04024 -0.19739 -0.04695 -0.19357 -0.05527 C -0.1684 -0.10777 -0.12829 -0.14917 -0.08593 -0.17623 C -0.07343 -0.18409 -0.06076 -0.1908 -0.04739 -0.19473 C -0.02222 -0.20282 0.02952 -0.213 0.02952 -0.213 C 0.0665 -0.21045 0.13195 -0.21647 0.17553 -0.19473 C 0.1849 -0.1901 0.20434 -0.17507 0.21112 -0.16397 C 0.21823 -0.15287 0.22952 -0.12697 0.22952 -0.12697 C 0.23334 -0.09505 0.23577 -0.0895 0.22813 -0.05111 C 0.22605 -0.04163 0.22136 -0.0333 0.21719 -0.02475 C 0.18594 0.04348 0.12483 0.06868 0.06962 0.08002 C 0.02952 0.07562 -0.00885 0.07724 -0.04444 0.04926 C -0.05121 0.04394 -0.07152 0.02266 -0.07656 0.01434 C -0.08316 0.00347 -0.0934 -0.02035 -0.0934 -0.02035 C -0.10156 -0.07933 -0.07847 -0.11587 -0.04114 -0.1457 C 0.00712 -0.18409 0.05191 -0.20051 0.1066 -0.2049 C 0.14063 -0.19959 0.16684 -0.1982 0.18959 -0.16189 C 0.19046 -0.15749 0.1974 -0.13298 0.19723 -0.12697 C 0.1941 -0.00509 0.10139 0.03908 0.025 0.05712 C -0.01614 0.05273 -0.04531 0.05296 -0.07968 0.02636 C -0.09947 -0.00856 -0.06093 -0.04094 -0.04444 -0.05967 C -0.0052 -0.10315 0.04306 -0.13714 0.0941 -0.1457 C 0.12136 -0.13807 0.1191 -0.14524 0.12344 -0.11286 C 0.12223 -0.10107 0.12223 -0.0895 0.12032 -0.07794 C 0.1191 -0.07193 0.11598 -0.0673 0.11424 -0.06175 C 0.11181 -0.05435 0.11094 -0.04602 0.10799 -0.03909 C 0.09115 0.00139 0.05921 0.02058 0.02657 0.02451 C -0.0118 0.01966 -0.04618 0.01364 -0.06892 -0.03076 C -0.07048 -0.03747 -0.07413 -0.05042 -0.07343 -0.05736 C -0.06753 -0.11101 -0.02152 -0.14131 0.01407 -0.15379 C 0.02518 -0.15749 0.0382 -0.15842 0.04948 -0.15981 C 0.08282 -0.15773 0.10487 -0.16143 0.12344 -0.12095 C 0.12969 -0.06267 0.0757 -0.03099 0.03872 -0.02475 C 0.02778 -0.02243 0.01632 -0.02313 0.00504 -0.02243 C -0.07864 -0.02983 -0.18697 -0.03932 -0.21215 -0.16998 C -0.21059 -0.1871 -0.21059 -0.2049 -0.20729 -0.22132 C -0.18993 -0.31314 -0.08975 -0.40564 -0.02291 -0.42646 C -0.00295 -0.43224 0.03021 -0.43317 0.05105 -0.43455 C 0.06268 -0.4327 0.11007 -0.42669 0.12344 -0.41998 C 0.15434 -0.40472 0.17917 -0.37489 0.19584 -0.33811 C 0.21754 -0.21971 0.12796 -0.12905 0.05244 -0.10037 C 0.03473 -0.09366 0.00764 -0.09366 -0.01041 -0.09228 C -0.08819 -0.10361 -0.20555 -0.11934 -0.24583 -0.22572 C -0.24548 -0.23936 -0.24652 -0.25301 -0.24427 -0.26665 C -0.2368 -0.31059 -0.18715 -0.34366 -0.16267 -0.36286 C -0.10086 -0.4105 -0.03784 -0.42391 0.03264 -0.42646 C 0.13473 -0.41651 0.22223 -0.41004 0.3066 -0.32794 C 0.33403 -0.2544 0.30487 -0.2019 0.26632 -0.14778 C 0.1816 -0.02822 0.06632 0.01249 -0.05191 0.03677 C -0.12326 0.03399 -0.18697 0.04579 -0.24114 -0.02035 C -0.24427 -0.02983 -0.2552 -0.05967 -0.2552 -0.06984 C -0.25468 -0.08904 -0.25295 -0.10893 -0.24739 -0.12697 C -0.2434 -0.14061 -0.23472 -0.15125 -0.22725 -0.16189 C -0.20329 -0.19704 -0.16614 -0.25231 -0.13211 -0.27683 C -0.10121 -0.29857 -0.07118 -0.32724 -0.03663 -0.33395 C 0.03143 -0.3476 -0.00173 -0.34205 0.06337 -0.3506 C 0.08698 -0.3476 0.11094 -0.34806 0.13403 -0.34251 C 0.16441 -0.33488 0.19289 -0.29996 0.20799 -0.26665 C 0.21042 -0.25509 0.2165 -0.22872 0.21563 -0.21716 C 0.20834 -0.09297 0.10452 -0.01712 0.02344 0.00832 C -0.00607 0.01757 -0.04166 0.02058 -0.07187 0.02451 C -0.13715 0.01781 -0.18541 0.02798 -0.22118 -0.04949 C -0.21961 -0.06522 -0.21961 -0.08095 -0.21666 -0.09621 C -0.2059 -0.14662 -0.15138 -0.20884 -0.12447 -0.22734 C -0.0993 -0.24445 -0.03263 -0.29302 0.00348 -0.30967 C 0.04948 -0.33095 0.09671 -0.33603 0.14497 -0.33811 C 0.19636 -0.3328 0.23629 -0.33603 0.27726 -0.2951 C 0.29184 -0.23774 0.24723 -0.1908 0.21268 -0.16813 C 0.1448 -0.1235 0.12934 -0.11587 0.06962 -0.08187 C 0.05035 -0.071 0.0283 -0.07285 0.00799 -0.06776 C -0.04062 -0.05551 -0.0875 -0.04417 -0.13663 -0.03909 C -0.146 -0.04024 -0.15538 -0.03932 -0.16423 -0.04325 C -0.16614 -0.04417 -0.16614 -0.04857 -0.16579 -0.05111 C -0.16423 -0.06221 -0.15798 -0.08488 -0.15208 -0.09413 C -0.14184 -0.10985 -0.10572 -0.16096 -0.09045 -0.17831 C -0.08038 -0.18964 -0.04097 -0.22156 -0.03194 -0.22734 C 0.01823 -0.26064 0.06216 -0.28793 0.11737 -0.29302 C 0.13698 -0.28978 0.14653 -0.29556 0.15573 -0.27475 C 0.14653 -0.19033 0.10625 -0.15379 0.0573 -0.10662 C 0.01355 -0.06476 -0.03732 -0.02798 -0.09201 -0.02243 C -0.11857 -0.03215 -0.12309 -0.03007 -0.13055 -0.0636 C -0.1401 -0.16189 -0.06232 -0.25 -0.00295 -0.28885 C 0.01025 -0.29741 0.02362 -0.30551 0.03716 -0.31175 C 0.0724 -0.32748 0.08316 -0.3247 0.12188 -0.32794 C 0.19636 -0.32123 0.24931 -0.31869 0.31268 -0.26665 C 0.31511 -0.26203 0.33369 -0.23312 0.33421 -0.22572 C 0.33716 -0.17415 0.3191 -0.14154 0.29428 -0.10662 C 0.22796 -0.01365 0.13525 0.00509 0.0448 0.02636 C 0.00226 0.02151 -0.0927 0.04093 -0.11197 -0.04094 C -0.11423 -0.05019 -0.11718 -0.07331 -0.11805 -0.08187 C -0.11718 -0.09713 -0.11736 -0.11217 -0.1151 -0.12697 C -0.11059 -0.1568 -0.09045 -0.19242 -0.07656 -0.21508 C -0.03437 -0.28423 0.01702 -0.32169 0.08334 -0.32586 C 0.10816 -0.32378 0.13264 -0.32378 0.1573 -0.31984 C 0.179 -0.31614 0.22171 -0.30319 0.22171 -0.30319 C 0.23594 -0.2914 0.24514 -0.28446 0.25417 -0.26665 C 0.26077 -0.20652 0.21563 -0.176 0.18195 -0.15379 C 0.12275 -0.11425 0.07709 -0.10638 0.01268 -0.0902 C -0.03715 -0.07794 -0.08454 -0.06614 -0.13506 -0.06175 C -0.17083 -0.06522 -0.20572 -0.05527 -0.22881 -0.09413 C -0.22847 -0.10731 -0.22934 -0.12049 -0.22725 -0.13321 C -0.22447 -0.15125 -0.20763 -0.17715 -0.19965 -0.1908 C -0.15208 -0.27267 -0.07118 -0.29232 0.00191 -0.29949 C 0.06337 -0.29602 0.20487 -0.31314 0.23577 -0.2049 C 0.23351 -0.18918 0.23316 -0.17299 0.22952 -0.15773 C 0.21875 -0.11402 0.17848 -0.07724 0.15261 -0.05342 C 0.14358 -0.0451 0.13559 -0.03423 0.12657 -0.0266 C 0.08768 0.00532 0.04428 0.01457 0.00018 0.02451 C -0.0493 0.01642 -0.10711 0.0222 -0.13211 -0.0451 C -0.14131 -0.10615 -0.11354 -0.16258 -0.08263 -0.2049 C -0.00954000000000001 -0.30597 0.10625 -0.33349 0.2066 -0.34621 C 0.23837 -0.34413 0.27049 -0.3476 0.30174 -0.34043 C 0.31337 -0.33788 0.33264 -0.31776 0.33264 -0.31776 C 0.35747 -0.2692 0.3165 -0.21462 0.29115 -0.1827 C 0.26823 -0.15333 0.24671 -0.12188 0.22014 -0.09829 C 0.10556 0.00347 -0.01493 0.05273 -0.15208 0.05943 C -0.2026 0.0525 -0.22187 0.05967 -0.24878 0.00601 C -0.26944 -0.15588 -0.12968 -0.23243 -0.0335 -0.26041 C -0.01631 -0.2655 0.00122 -0.27128 0.01858 -0.27475 C 0.03438 -0.27775 0.05053 -0.27729 0.0665 -0.27868 C 0.09167 -0.27822 0.11684 -0.27937 0.14184 -0.27683 C 0.15035 -0.27567 0.15816 -0.27105 0.1665 -0.26873 C 0.21077 -0.25601 0.22327 -0.25601 0.26476 -0.23774 C 0.30417 -0.22063 0.33247 -0.20213 0.34966 -0.15171 C 0.34792 -0.13761 0.34931 -0.12188 0.3448 -0.1087 C 0.32813 -0.05921 0.29115 -0.04024 0.25869 -0.01226 C 0.175 0.06036 0.06476 0.06637 -0.03194 0.08002 C -0.10625 0.0747 -0.20295 0.0858 -0.26128 0.00832 C -0.27152 -0.04602 -0.24062 -0.08904 -0.21059 -0.11887 C -0.16475 -0.16397 -0.11197 -0.20953 -0.05659 -0.22942 C -0.03923 -0.23566 0.01476 -0.24491 0.03264 -0.24792 C 0.11476 -0.24329 0.21164 -0.26064 0.27882 -0.1827 C 0.28056 -0.17715 0.28941 -0.15194 0.28959 -0.1457 C 0.29063 -0.12142 0.275 -0.09922 0.2632 -0.08395 C 0.23125 -0.04325 0.19393 -0.02058 0.15261 1.57262E-007 C 0.1349 0.00856 0.11702 0.01711 0.09879 0.02451 C 0.07778 0.03261 0.05678 0.04093 0.03559 0.04695 C 0.01268 0.05365 -0.01041 0.05782 -0.0335 0.0636 C -0.16423 0.05365 -0.22708 0.08025 -0.31805 -0.02035 C -0.35781 -0.13761 -0.23975 -0.2049 -0.175 -0.22132 C -0.15937 -0.22526 -0.14322 -0.22896 -0.12725 -0.23173 C -0.10989 -0.23428 -0.09236 -0.23566 -0.075 -0.23774 C 0.04306 -0.23219 0.12796 -0.23774 0.23421 -0.2049 C 0.25278 -0.19935 0.26754 -0.19403 0.28351 -0.18062 C 0.28143 -0.17206 0.28056 -0.16304 0.27726 -0.15588 C 0.27032 -0.14015 0.21684 -0.12049 0.2066 -0.11679 C 0.14202 -0.09297 0.07535 -0.0865 0.00955 -0.07169 C -0.0059 -0.07239 -0.02152 -0.07031 -0.03663 -0.07378 C -0.03923 -0.07447 -0.03402 -0.07956 -0.03194 -0.08187 C -0.02465 -0.09043 -0.00659 -0.0932 -0.00295 -0.10477 E">
                                      <p:cBhvr>
                                        <p:cTn id="55" dur="40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7000"/>
                            </p:stCondLst>
                            <p:childTnLst>
                              <p:par>
                                <p:cTn id="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5000" fill="hold"/>
                                        <p:tgtEl>
                                          <p:spTgt spid="228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2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38080" y="2590920"/>
            <a:ext cx="960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Avoided All The Nolans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endshow"/>
          </p:cNvPr>
          <p:cNvSpPr/>
          <p:nvPr/>
        </p:nvSpPr>
        <p:spPr>
          <a:xfrm>
            <a:off x="6781680" y="4648320"/>
            <a:ext cx="2133720" cy="2057400"/>
          </a:xfrm>
          <a:custGeom>
            <a:avLst/>
            <a:gdLst>
              <a:gd name="textAreaLeft" fmla="*/ 307800 w 2133720"/>
              <a:gd name="textAreaRight" fmla="*/ 1825920 w 2133720"/>
              <a:gd name="textAreaTop" fmla="*/ 307800 h 2057400"/>
              <a:gd name="textAreaBottom" fmla="*/ 1749600 h 2057400"/>
            </a:gdLst>
            <a:ahLst/>
            <a:rect l="textAreaLeft" t="textAreaTop" r="textAreaRight" b="textAreaBottom"/>
            <a:pathLst>
              <a:path w="22401" h="21600">
                <a:moveTo>
                  <a:pt x="0" y="0"/>
                </a:moveTo>
                <a:lnTo>
                  <a:pt x="22401" y="0"/>
                </a:lnTo>
                <a:lnTo>
                  <a:pt x="22401" y="21600"/>
                </a:lnTo>
                <a:lnTo>
                  <a:pt x="0" y="21600"/>
                </a:lnTo>
                <a:close/>
              </a:path>
              <a:path fill="lightenLess" w="22401" h="21600">
                <a:moveTo>
                  <a:pt x="0" y="0"/>
                </a:moveTo>
                <a:lnTo>
                  <a:pt x="22401" y="0"/>
                </a:lnTo>
                <a:lnTo>
                  <a:pt x="19169" y="3232"/>
                </a:lnTo>
                <a:lnTo>
                  <a:pt x="3232" y="3232"/>
                </a:lnTo>
                <a:close/>
              </a:path>
              <a:path fill="darken" w="22401" h="21600">
                <a:moveTo>
                  <a:pt x="22401" y="0"/>
                </a:moveTo>
                <a:lnTo>
                  <a:pt x="22401" y="21600"/>
                </a:lnTo>
                <a:lnTo>
                  <a:pt x="19169" y="18368"/>
                </a:lnTo>
                <a:lnTo>
                  <a:pt x="19169" y="3232"/>
                </a:lnTo>
                <a:close/>
              </a:path>
              <a:path fill="darkenLess" w="22401" h="21600">
                <a:moveTo>
                  <a:pt x="22401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9169" y="18368"/>
                </a:lnTo>
                <a:close/>
              </a:path>
              <a:path fill="lighten" w="22401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/>
          </p:cNvPr>
          <p:cNvSpPr/>
          <p:nvPr/>
        </p:nvSpPr>
        <p:spPr>
          <a:xfrm>
            <a:off x="228600" y="4648320"/>
            <a:ext cx="2133720" cy="2057400"/>
          </a:xfrm>
          <a:custGeom>
            <a:avLst/>
            <a:gdLst>
              <a:gd name="textAreaLeft" fmla="*/ 45720 w 2133720"/>
              <a:gd name="textAreaRight" fmla="*/ 2088000 w 2133720"/>
              <a:gd name="textAreaTop" fmla="*/ 45720 h 2057400"/>
              <a:gd name="textAreaBottom" fmla="*/ 2011680 h 2057400"/>
            </a:gdLst>
            <a:ahLst/>
            <a:rect l="textAreaLeft" t="textAreaTop" r="textAreaRight" b="textAreaBottom"/>
            <a:pathLst>
              <a:path w="22401" h="21600">
                <a:moveTo>
                  <a:pt x="0" y="0"/>
                </a:moveTo>
                <a:lnTo>
                  <a:pt x="22401" y="0"/>
                </a:lnTo>
                <a:lnTo>
                  <a:pt x="22401" y="21600"/>
                </a:lnTo>
                <a:lnTo>
                  <a:pt x="0" y="21600"/>
                </a:lnTo>
                <a:close/>
              </a:path>
              <a:path fill="lightenLess" w="22401" h="21600">
                <a:moveTo>
                  <a:pt x="0" y="0"/>
                </a:moveTo>
                <a:lnTo>
                  <a:pt x="22401" y="0"/>
                </a:lnTo>
                <a:lnTo>
                  <a:pt x="21921" y="480"/>
                </a:lnTo>
                <a:lnTo>
                  <a:pt x="480" y="480"/>
                </a:lnTo>
                <a:close/>
              </a:path>
              <a:path fill="darken" w="22401" h="21600">
                <a:moveTo>
                  <a:pt x="22401" y="0"/>
                </a:moveTo>
                <a:lnTo>
                  <a:pt x="22401" y="21600"/>
                </a:lnTo>
                <a:lnTo>
                  <a:pt x="21921" y="21120"/>
                </a:lnTo>
                <a:lnTo>
                  <a:pt x="21921" y="480"/>
                </a:lnTo>
                <a:close/>
              </a:path>
              <a:path fill="darkenLess" w="22401" h="21600">
                <a:moveTo>
                  <a:pt x="22401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921" y="21120"/>
                </a:lnTo>
                <a:close/>
              </a:path>
              <a:path fill="lighten" w="22401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3" action="ppaction://hlinksldjump"/>
          </p:cNvPr>
          <p:cNvSpPr/>
          <p:nvPr/>
        </p:nvSpPr>
        <p:spPr>
          <a:xfrm>
            <a:off x="3505320" y="4648320"/>
            <a:ext cx="2133360" cy="2057400"/>
          </a:xfrm>
          <a:custGeom>
            <a:avLst/>
            <a:gdLst>
              <a:gd name="textAreaLeft" fmla="*/ 305640 w 2133360"/>
              <a:gd name="textAreaRight" fmla="*/ 1827720 w 2133360"/>
              <a:gd name="textAreaTop" fmla="*/ 305640 h 2057400"/>
              <a:gd name="textAreaBottom" fmla="*/ 1751760 h 2057400"/>
            </a:gdLst>
            <a:ahLst/>
            <a:rect l="textAreaLeft" t="textAreaTop" r="textAreaRight" b="textAreaBottom"/>
            <a:pathLst>
              <a:path w="22397" h="21600">
                <a:moveTo>
                  <a:pt x="0" y="0"/>
                </a:moveTo>
                <a:lnTo>
                  <a:pt x="22397" y="0"/>
                </a:lnTo>
                <a:lnTo>
                  <a:pt x="22397" y="21600"/>
                </a:lnTo>
                <a:lnTo>
                  <a:pt x="0" y="21600"/>
                </a:lnTo>
                <a:close/>
              </a:path>
              <a:path fill="lightenLess" w="22397" h="21600">
                <a:moveTo>
                  <a:pt x="0" y="0"/>
                </a:moveTo>
                <a:lnTo>
                  <a:pt x="22397" y="0"/>
                </a:lnTo>
                <a:lnTo>
                  <a:pt x="19187" y="3210"/>
                </a:lnTo>
                <a:lnTo>
                  <a:pt x="3210" y="3210"/>
                </a:lnTo>
                <a:close/>
              </a:path>
              <a:path fill="darken" w="22397" h="21600">
                <a:moveTo>
                  <a:pt x="22397" y="0"/>
                </a:moveTo>
                <a:lnTo>
                  <a:pt x="22397" y="21600"/>
                </a:lnTo>
                <a:lnTo>
                  <a:pt x="19187" y="18390"/>
                </a:lnTo>
                <a:lnTo>
                  <a:pt x="19187" y="3210"/>
                </a:lnTo>
                <a:close/>
              </a:path>
              <a:path fill="darkenLess" w="22397" h="21600">
                <a:moveTo>
                  <a:pt x="22397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9187" y="18390"/>
                </a:lnTo>
                <a:close/>
              </a:path>
              <a:path fill="lighten" w="22397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66680" y="198108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Nolan caught you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1"/>
          </p:cNvPr>
          <p:cNvSpPr/>
          <p:nvPr/>
        </p:nvSpPr>
        <p:spPr>
          <a:xfrm>
            <a:off x="228600" y="4648320"/>
            <a:ext cx="2133720" cy="2057400"/>
          </a:xfrm>
          <a:custGeom>
            <a:avLst/>
            <a:gdLst>
              <a:gd name="textAreaLeft" fmla="*/ 45720 w 2133720"/>
              <a:gd name="textAreaRight" fmla="*/ 2088000 w 2133720"/>
              <a:gd name="textAreaTop" fmla="*/ 45720 h 2057400"/>
              <a:gd name="textAreaBottom" fmla="*/ 2011680 h 2057400"/>
            </a:gdLst>
            <a:ahLst/>
            <a:rect l="textAreaLeft" t="textAreaTop" r="textAreaRight" b="textAreaBottom"/>
            <a:pathLst>
              <a:path w="22401" h="21600">
                <a:moveTo>
                  <a:pt x="0" y="0"/>
                </a:moveTo>
                <a:lnTo>
                  <a:pt x="22401" y="0"/>
                </a:lnTo>
                <a:lnTo>
                  <a:pt x="22401" y="21600"/>
                </a:lnTo>
                <a:lnTo>
                  <a:pt x="0" y="21600"/>
                </a:lnTo>
                <a:close/>
              </a:path>
              <a:path fill="lightenLess" w="22401" h="21600">
                <a:moveTo>
                  <a:pt x="0" y="0"/>
                </a:moveTo>
                <a:lnTo>
                  <a:pt x="22401" y="0"/>
                </a:lnTo>
                <a:lnTo>
                  <a:pt x="21921" y="480"/>
                </a:lnTo>
                <a:lnTo>
                  <a:pt x="480" y="480"/>
                </a:lnTo>
                <a:close/>
              </a:path>
              <a:path fill="darken" w="22401" h="21600">
                <a:moveTo>
                  <a:pt x="22401" y="0"/>
                </a:moveTo>
                <a:lnTo>
                  <a:pt x="22401" y="21600"/>
                </a:lnTo>
                <a:lnTo>
                  <a:pt x="21921" y="21120"/>
                </a:lnTo>
                <a:lnTo>
                  <a:pt x="21921" y="480"/>
                </a:lnTo>
                <a:close/>
              </a:path>
              <a:path fill="darkenLess" w="22401" h="21600">
                <a:moveTo>
                  <a:pt x="22401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921" y="21120"/>
                </a:lnTo>
                <a:close/>
              </a:path>
              <a:path fill="lighten" w="22401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endshow"/>
          </p:cNvPr>
          <p:cNvSpPr/>
          <p:nvPr/>
        </p:nvSpPr>
        <p:spPr>
          <a:xfrm>
            <a:off x="6781680" y="4648320"/>
            <a:ext cx="2133720" cy="2057400"/>
          </a:xfrm>
          <a:custGeom>
            <a:avLst/>
            <a:gdLst>
              <a:gd name="textAreaLeft" fmla="*/ 307800 w 2133720"/>
              <a:gd name="textAreaRight" fmla="*/ 1825920 w 2133720"/>
              <a:gd name="textAreaTop" fmla="*/ 307800 h 2057400"/>
              <a:gd name="textAreaBottom" fmla="*/ 1749600 h 2057400"/>
            </a:gdLst>
            <a:ahLst/>
            <a:rect l="textAreaLeft" t="textAreaTop" r="textAreaRight" b="textAreaBottom"/>
            <a:pathLst>
              <a:path w="22401" h="21600">
                <a:moveTo>
                  <a:pt x="0" y="0"/>
                </a:moveTo>
                <a:lnTo>
                  <a:pt x="22401" y="0"/>
                </a:lnTo>
                <a:lnTo>
                  <a:pt x="22401" y="21600"/>
                </a:lnTo>
                <a:lnTo>
                  <a:pt x="0" y="21600"/>
                </a:lnTo>
                <a:close/>
              </a:path>
              <a:path fill="lightenLess" w="22401" h="21600">
                <a:moveTo>
                  <a:pt x="0" y="0"/>
                </a:moveTo>
                <a:lnTo>
                  <a:pt x="22401" y="0"/>
                </a:lnTo>
                <a:lnTo>
                  <a:pt x="19169" y="3232"/>
                </a:lnTo>
                <a:lnTo>
                  <a:pt x="3232" y="3232"/>
                </a:lnTo>
                <a:close/>
              </a:path>
              <a:path fill="darken" w="22401" h="21600">
                <a:moveTo>
                  <a:pt x="22401" y="0"/>
                </a:moveTo>
                <a:lnTo>
                  <a:pt x="22401" y="21600"/>
                </a:lnTo>
                <a:lnTo>
                  <a:pt x="19169" y="18368"/>
                </a:lnTo>
                <a:lnTo>
                  <a:pt x="19169" y="3232"/>
                </a:lnTo>
                <a:close/>
              </a:path>
              <a:path fill="darkenLess" w="22401" h="21600">
                <a:moveTo>
                  <a:pt x="22401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9169" y="18368"/>
                </a:lnTo>
                <a:close/>
              </a:path>
              <a:path fill="lighten" w="22401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3733920"/>
            <a:ext cx="2971800" cy="2895480"/>
          </a:xfrm>
          <a:custGeom>
            <a:avLst/>
            <a:gdLst>
              <a:gd name="textAreaLeft" fmla="*/ 430200 w 2971800"/>
              <a:gd name="textAreaRight" fmla="*/ 2541600 w 2971800"/>
              <a:gd name="textAreaTop" fmla="*/ 430200 h 2895480"/>
              <a:gd name="textAreaBottom" fmla="*/ 2465280 h 2895480"/>
            </a:gdLst>
            <a:ahLst/>
            <a:rect l="textAreaLeft" t="textAreaTop" r="textAreaRight" b="textAreaBottom"/>
            <a:pathLst>
              <a:path w="22169" h="21600">
                <a:moveTo>
                  <a:pt x="0" y="0"/>
                </a:moveTo>
                <a:lnTo>
                  <a:pt x="22169" y="0"/>
                </a:lnTo>
                <a:lnTo>
                  <a:pt x="22169" y="21600"/>
                </a:lnTo>
                <a:lnTo>
                  <a:pt x="0" y="21600"/>
                </a:lnTo>
                <a:close/>
              </a:path>
              <a:path fill="lightenLess" w="22169" h="21600">
                <a:moveTo>
                  <a:pt x="0" y="0"/>
                </a:moveTo>
                <a:lnTo>
                  <a:pt x="22169" y="0"/>
                </a:lnTo>
                <a:lnTo>
                  <a:pt x="18959" y="3210"/>
                </a:lnTo>
                <a:lnTo>
                  <a:pt x="3210" y="3210"/>
                </a:lnTo>
                <a:close/>
              </a:path>
              <a:path fill="darken" w="22169" h="21600">
                <a:moveTo>
                  <a:pt x="22169" y="0"/>
                </a:moveTo>
                <a:lnTo>
                  <a:pt x="22169" y="21600"/>
                </a:lnTo>
                <a:lnTo>
                  <a:pt x="18959" y="18390"/>
                </a:lnTo>
                <a:lnTo>
                  <a:pt x="18959" y="3210"/>
                </a:lnTo>
                <a:close/>
              </a:path>
              <a:path fill="darkenLess" w="22169" h="21600">
                <a:moveTo>
                  <a:pt x="22169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959" y="18390"/>
                </a:lnTo>
                <a:close/>
              </a:path>
              <a:path fill="lighten" w="22169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066680" y="198108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Nolan caught you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4648320"/>
            <a:ext cx="2133720" cy="2057400"/>
          </a:xfrm>
          <a:custGeom>
            <a:avLst/>
            <a:gdLst>
              <a:gd name="textAreaLeft" fmla="*/ 45720 w 2133720"/>
              <a:gd name="textAreaRight" fmla="*/ 2088000 w 2133720"/>
              <a:gd name="textAreaTop" fmla="*/ 45720 h 2057400"/>
              <a:gd name="textAreaBottom" fmla="*/ 2011680 h 2057400"/>
            </a:gdLst>
            <a:ahLst/>
            <a:rect l="textAreaLeft" t="textAreaTop" r="textAreaRight" b="textAreaBottom"/>
            <a:pathLst>
              <a:path w="22401" h="21600">
                <a:moveTo>
                  <a:pt x="0" y="0"/>
                </a:moveTo>
                <a:lnTo>
                  <a:pt x="22401" y="0"/>
                </a:lnTo>
                <a:lnTo>
                  <a:pt x="22401" y="21600"/>
                </a:lnTo>
                <a:lnTo>
                  <a:pt x="0" y="21600"/>
                </a:lnTo>
                <a:close/>
              </a:path>
              <a:path fill="lightenLess" w="22401" h="21600">
                <a:moveTo>
                  <a:pt x="0" y="0"/>
                </a:moveTo>
                <a:lnTo>
                  <a:pt x="22401" y="0"/>
                </a:lnTo>
                <a:lnTo>
                  <a:pt x="21921" y="480"/>
                </a:lnTo>
                <a:lnTo>
                  <a:pt x="480" y="480"/>
                </a:lnTo>
                <a:close/>
              </a:path>
              <a:path fill="darken" w="22401" h="21600">
                <a:moveTo>
                  <a:pt x="22401" y="0"/>
                </a:moveTo>
                <a:lnTo>
                  <a:pt x="22401" y="21600"/>
                </a:lnTo>
                <a:lnTo>
                  <a:pt x="21921" y="21120"/>
                </a:lnTo>
                <a:lnTo>
                  <a:pt x="21921" y="480"/>
                </a:lnTo>
                <a:close/>
              </a:path>
              <a:path fill="darkenLess" w="22401" h="21600">
                <a:moveTo>
                  <a:pt x="22401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921" y="21120"/>
                </a:lnTo>
                <a:close/>
              </a:path>
              <a:path fill="lighten" w="22401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endshow"/>
          </p:cNvPr>
          <p:cNvSpPr/>
          <p:nvPr/>
        </p:nvSpPr>
        <p:spPr>
          <a:xfrm>
            <a:off x="6781680" y="4648320"/>
            <a:ext cx="2133720" cy="2057400"/>
          </a:xfrm>
          <a:custGeom>
            <a:avLst/>
            <a:gdLst>
              <a:gd name="textAreaLeft" fmla="*/ 307800 w 2133720"/>
              <a:gd name="textAreaRight" fmla="*/ 1825920 w 2133720"/>
              <a:gd name="textAreaTop" fmla="*/ 307800 h 2057400"/>
              <a:gd name="textAreaBottom" fmla="*/ 1749600 h 2057400"/>
            </a:gdLst>
            <a:ahLst/>
            <a:rect l="textAreaLeft" t="textAreaTop" r="textAreaRight" b="textAreaBottom"/>
            <a:pathLst>
              <a:path w="22401" h="21600">
                <a:moveTo>
                  <a:pt x="0" y="0"/>
                </a:moveTo>
                <a:lnTo>
                  <a:pt x="22401" y="0"/>
                </a:lnTo>
                <a:lnTo>
                  <a:pt x="22401" y="21600"/>
                </a:lnTo>
                <a:lnTo>
                  <a:pt x="0" y="21600"/>
                </a:lnTo>
                <a:close/>
              </a:path>
              <a:path fill="lightenLess" w="22401" h="21600">
                <a:moveTo>
                  <a:pt x="0" y="0"/>
                </a:moveTo>
                <a:lnTo>
                  <a:pt x="22401" y="0"/>
                </a:lnTo>
                <a:lnTo>
                  <a:pt x="19169" y="3232"/>
                </a:lnTo>
                <a:lnTo>
                  <a:pt x="3232" y="3232"/>
                </a:lnTo>
                <a:close/>
              </a:path>
              <a:path fill="darken" w="22401" h="21600">
                <a:moveTo>
                  <a:pt x="22401" y="0"/>
                </a:moveTo>
                <a:lnTo>
                  <a:pt x="22401" y="21600"/>
                </a:lnTo>
                <a:lnTo>
                  <a:pt x="19169" y="18368"/>
                </a:lnTo>
                <a:lnTo>
                  <a:pt x="19169" y="3232"/>
                </a:lnTo>
                <a:close/>
              </a:path>
              <a:path fill="darkenLess" w="22401" h="21600">
                <a:moveTo>
                  <a:pt x="22401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9169" y="18368"/>
                </a:lnTo>
                <a:close/>
              </a:path>
              <a:path fill="lighten" w="22401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3733920"/>
            <a:ext cx="2971800" cy="2895480"/>
          </a:xfrm>
          <a:custGeom>
            <a:avLst/>
            <a:gdLst>
              <a:gd name="textAreaLeft" fmla="*/ 430200 w 2971800"/>
              <a:gd name="textAreaRight" fmla="*/ 2541600 w 2971800"/>
              <a:gd name="textAreaTop" fmla="*/ 430200 h 2895480"/>
              <a:gd name="textAreaBottom" fmla="*/ 2465280 h 2895480"/>
            </a:gdLst>
            <a:ahLst/>
            <a:rect l="textAreaLeft" t="textAreaTop" r="textAreaRight" b="textAreaBottom"/>
            <a:pathLst>
              <a:path w="22169" h="21600">
                <a:moveTo>
                  <a:pt x="0" y="0"/>
                </a:moveTo>
                <a:lnTo>
                  <a:pt x="22169" y="0"/>
                </a:lnTo>
                <a:lnTo>
                  <a:pt x="22169" y="21600"/>
                </a:lnTo>
                <a:lnTo>
                  <a:pt x="0" y="21600"/>
                </a:lnTo>
                <a:close/>
              </a:path>
              <a:path fill="lightenLess" w="22169" h="21600">
                <a:moveTo>
                  <a:pt x="0" y="0"/>
                </a:moveTo>
                <a:lnTo>
                  <a:pt x="22169" y="0"/>
                </a:lnTo>
                <a:lnTo>
                  <a:pt x="18959" y="3210"/>
                </a:lnTo>
                <a:lnTo>
                  <a:pt x="3210" y="3210"/>
                </a:lnTo>
                <a:close/>
              </a:path>
              <a:path fill="darken" w="22169" h="21600">
                <a:moveTo>
                  <a:pt x="22169" y="0"/>
                </a:moveTo>
                <a:lnTo>
                  <a:pt x="22169" y="21600"/>
                </a:lnTo>
                <a:lnTo>
                  <a:pt x="18959" y="18390"/>
                </a:lnTo>
                <a:lnTo>
                  <a:pt x="18959" y="3210"/>
                </a:lnTo>
                <a:close/>
              </a:path>
              <a:path fill="darkenLess" w="22169" h="21600">
                <a:moveTo>
                  <a:pt x="22169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959" y="18390"/>
                </a:lnTo>
                <a:close/>
              </a:path>
              <a:path fill="lighten" w="22169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4T10:46:52Z</dcterms:created>
  <dc:creator>B.M.W. Productionz</dc:creator>
  <dc:description/>
  <dc:language>en-US</dc:language>
  <cp:lastModifiedBy>Benjamin M. Ward</cp:lastModifiedBy>
  <dcterms:modified xsi:type="dcterms:W3CDTF">2007-09-11T00:44:15Z</dcterms:modified>
  <cp:revision>78</cp:revision>
  <dc:subject/>
  <dc:title>Super Maze Game</dc:title>
</cp:coreProperties>
</file>